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457200" y="1398600"/>
            <a:ext cx="8380440" cy="2028960"/>
            <a:chOff x="457200" y="1398600"/>
            <a:chExt cx="8380440" cy="2028960"/>
          </a:xfrm>
        </p:grpSpPr>
        <p:sp>
          <p:nvSpPr>
            <p:cNvPr id="37" name=""/>
            <p:cNvSpPr/>
            <p:nvPr/>
          </p:nvSpPr>
          <p:spPr>
            <a:xfrm>
              <a:off x="457200" y="1442880"/>
              <a:ext cx="404640" cy="1940040"/>
            </a:xfrm>
            <a:custGeom>
              <a:avLst/>
              <a:gdLst/>
              <a:ahLst/>
              <a:rect l="l" t="t" r="r" b="b"/>
              <a:pathLst>
                <a:path w="1124" h="5390">
                  <a:moveTo>
                    <a:pt x="372" y="297"/>
                  </a:moveTo>
                  <a:lnTo>
                    <a:pt x="372" y="2421"/>
                  </a:lnTo>
                  <a:lnTo>
                    <a:pt x="662" y="2421"/>
                  </a:lnTo>
                  <a:lnTo>
                    <a:pt x="712" y="2412"/>
                  </a:lnTo>
                  <a:lnTo>
                    <a:pt x="753" y="2383"/>
                  </a:lnTo>
                  <a:lnTo>
                    <a:pt x="786" y="2335"/>
                  </a:lnTo>
                  <a:lnTo>
                    <a:pt x="812" y="2287"/>
                  </a:lnTo>
                  <a:lnTo>
                    <a:pt x="833" y="2172"/>
                  </a:lnTo>
                  <a:lnTo>
                    <a:pt x="852" y="2028"/>
                  </a:lnTo>
                  <a:lnTo>
                    <a:pt x="861" y="1857"/>
                  </a:lnTo>
                  <a:lnTo>
                    <a:pt x="868" y="1656"/>
                  </a:lnTo>
                  <a:lnTo>
                    <a:pt x="903" y="1656"/>
                  </a:lnTo>
                  <a:lnTo>
                    <a:pt x="903" y="3522"/>
                  </a:lnTo>
                  <a:lnTo>
                    <a:pt x="868" y="3522"/>
                  </a:lnTo>
                  <a:lnTo>
                    <a:pt x="861" y="3341"/>
                  </a:lnTo>
                  <a:lnTo>
                    <a:pt x="854" y="3198"/>
                  </a:lnTo>
                  <a:lnTo>
                    <a:pt x="847" y="3083"/>
                  </a:lnTo>
                  <a:lnTo>
                    <a:pt x="840" y="3016"/>
                  </a:lnTo>
                  <a:lnTo>
                    <a:pt x="828" y="2949"/>
                  </a:lnTo>
                  <a:lnTo>
                    <a:pt x="817" y="2891"/>
                  </a:lnTo>
                  <a:lnTo>
                    <a:pt x="800" y="2834"/>
                  </a:lnTo>
                  <a:lnTo>
                    <a:pt x="784" y="2796"/>
                  </a:lnTo>
                  <a:lnTo>
                    <a:pt x="760" y="2757"/>
                  </a:lnTo>
                  <a:lnTo>
                    <a:pt x="732" y="2738"/>
                  </a:lnTo>
                  <a:lnTo>
                    <a:pt x="700" y="2719"/>
                  </a:lnTo>
                  <a:lnTo>
                    <a:pt x="662" y="2719"/>
                  </a:lnTo>
                  <a:lnTo>
                    <a:pt x="372" y="2719"/>
                  </a:lnTo>
                  <a:lnTo>
                    <a:pt x="372" y="4480"/>
                  </a:lnTo>
                  <a:lnTo>
                    <a:pt x="372" y="4633"/>
                  </a:lnTo>
                  <a:lnTo>
                    <a:pt x="372" y="4767"/>
                  </a:lnTo>
                  <a:lnTo>
                    <a:pt x="377" y="4852"/>
                  </a:lnTo>
                  <a:lnTo>
                    <a:pt x="382" y="4910"/>
                  </a:lnTo>
                  <a:lnTo>
                    <a:pt x="384" y="4948"/>
                  </a:lnTo>
                  <a:lnTo>
                    <a:pt x="391" y="4977"/>
                  </a:lnTo>
                  <a:lnTo>
                    <a:pt x="398" y="5005"/>
                  </a:lnTo>
                  <a:lnTo>
                    <a:pt x="407" y="5034"/>
                  </a:lnTo>
                  <a:lnTo>
                    <a:pt x="416" y="5053"/>
                  </a:lnTo>
                  <a:lnTo>
                    <a:pt x="433" y="5063"/>
                  </a:lnTo>
                  <a:lnTo>
                    <a:pt x="454" y="5073"/>
                  </a:lnTo>
                  <a:lnTo>
                    <a:pt x="480" y="5082"/>
                  </a:lnTo>
                  <a:lnTo>
                    <a:pt x="702" y="5082"/>
                  </a:lnTo>
                  <a:lnTo>
                    <a:pt x="751" y="5073"/>
                  </a:lnTo>
                  <a:lnTo>
                    <a:pt x="795" y="5063"/>
                  </a:lnTo>
                  <a:lnTo>
                    <a:pt x="833" y="5044"/>
                  </a:lnTo>
                  <a:lnTo>
                    <a:pt x="864" y="5015"/>
                  </a:lnTo>
                  <a:lnTo>
                    <a:pt x="886" y="4977"/>
                  </a:lnTo>
                  <a:lnTo>
                    <a:pt x="910" y="4919"/>
                  </a:lnTo>
                  <a:lnTo>
                    <a:pt x="936" y="4843"/>
                  </a:lnTo>
                  <a:lnTo>
                    <a:pt x="959" y="4767"/>
                  </a:lnTo>
                  <a:lnTo>
                    <a:pt x="987" y="4623"/>
                  </a:lnTo>
                  <a:lnTo>
                    <a:pt x="1018" y="4461"/>
                  </a:lnTo>
                  <a:lnTo>
                    <a:pt x="1048" y="4260"/>
                  </a:lnTo>
                  <a:lnTo>
                    <a:pt x="1080" y="4030"/>
                  </a:lnTo>
                  <a:lnTo>
                    <a:pt x="1123" y="4030"/>
                  </a:lnTo>
                  <a:lnTo>
                    <a:pt x="1011" y="5389"/>
                  </a:lnTo>
                  <a:lnTo>
                    <a:pt x="0" y="5389"/>
                  </a:lnTo>
                  <a:lnTo>
                    <a:pt x="0" y="5245"/>
                  </a:lnTo>
                  <a:lnTo>
                    <a:pt x="47" y="5245"/>
                  </a:lnTo>
                  <a:lnTo>
                    <a:pt x="69" y="5235"/>
                  </a:lnTo>
                  <a:lnTo>
                    <a:pt x="91" y="5216"/>
                  </a:lnTo>
                  <a:lnTo>
                    <a:pt x="112" y="5187"/>
                  </a:lnTo>
                  <a:lnTo>
                    <a:pt x="133" y="5149"/>
                  </a:lnTo>
                  <a:lnTo>
                    <a:pt x="148" y="5101"/>
                  </a:lnTo>
                  <a:lnTo>
                    <a:pt x="159" y="5053"/>
                  </a:lnTo>
                  <a:lnTo>
                    <a:pt x="171" y="5005"/>
                  </a:lnTo>
                  <a:lnTo>
                    <a:pt x="178" y="4948"/>
                  </a:lnTo>
                  <a:lnTo>
                    <a:pt x="181" y="4862"/>
                  </a:lnTo>
                  <a:lnTo>
                    <a:pt x="185" y="4748"/>
                  </a:lnTo>
                  <a:lnTo>
                    <a:pt x="185" y="4604"/>
                  </a:lnTo>
                  <a:lnTo>
                    <a:pt x="188" y="4432"/>
                  </a:lnTo>
                  <a:lnTo>
                    <a:pt x="188" y="947"/>
                  </a:lnTo>
                  <a:lnTo>
                    <a:pt x="185" y="708"/>
                  </a:lnTo>
                  <a:lnTo>
                    <a:pt x="181" y="518"/>
                  </a:lnTo>
                  <a:lnTo>
                    <a:pt x="171" y="384"/>
                  </a:lnTo>
                  <a:lnTo>
                    <a:pt x="162" y="307"/>
                  </a:lnTo>
                  <a:lnTo>
                    <a:pt x="141" y="230"/>
                  </a:lnTo>
                  <a:lnTo>
                    <a:pt x="115" y="182"/>
                  </a:lnTo>
                  <a:lnTo>
                    <a:pt x="82" y="154"/>
                  </a:lnTo>
                  <a:lnTo>
                    <a:pt x="47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1011" y="0"/>
                  </a:lnTo>
                  <a:lnTo>
                    <a:pt x="1025" y="1187"/>
                  </a:lnTo>
                  <a:lnTo>
                    <a:pt x="987" y="1187"/>
                  </a:lnTo>
                  <a:lnTo>
                    <a:pt x="976" y="986"/>
                  </a:lnTo>
                  <a:lnTo>
                    <a:pt x="964" y="823"/>
                  </a:lnTo>
                  <a:lnTo>
                    <a:pt x="954" y="698"/>
                  </a:lnTo>
                  <a:lnTo>
                    <a:pt x="943" y="603"/>
                  </a:lnTo>
                  <a:lnTo>
                    <a:pt x="928" y="518"/>
                  </a:lnTo>
                  <a:lnTo>
                    <a:pt x="910" y="451"/>
                  </a:lnTo>
                  <a:lnTo>
                    <a:pt x="888" y="393"/>
                  </a:lnTo>
                  <a:lnTo>
                    <a:pt x="868" y="355"/>
                  </a:lnTo>
                  <a:lnTo>
                    <a:pt x="845" y="326"/>
                  </a:lnTo>
                  <a:lnTo>
                    <a:pt x="814" y="307"/>
                  </a:lnTo>
                  <a:lnTo>
                    <a:pt x="777" y="297"/>
                  </a:lnTo>
                  <a:lnTo>
                    <a:pt x="732" y="297"/>
                  </a:lnTo>
                  <a:lnTo>
                    <a:pt x="372" y="297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92080" y="1442880"/>
              <a:ext cx="405000" cy="1940040"/>
            </a:xfrm>
            <a:custGeom>
              <a:avLst/>
              <a:gdLst/>
              <a:ahLst/>
              <a:rect l="l" t="t" r="r" b="b"/>
              <a:pathLst>
                <a:path w="1126" h="5390">
                  <a:moveTo>
                    <a:pt x="1093" y="3886"/>
                  </a:moveTo>
                  <a:lnTo>
                    <a:pt x="1125" y="3915"/>
                  </a:lnTo>
                  <a:lnTo>
                    <a:pt x="1013" y="5389"/>
                  </a:lnTo>
                  <a:lnTo>
                    <a:pt x="0" y="5389"/>
                  </a:lnTo>
                  <a:lnTo>
                    <a:pt x="0" y="5245"/>
                  </a:lnTo>
                  <a:lnTo>
                    <a:pt x="49" y="5245"/>
                  </a:lnTo>
                  <a:lnTo>
                    <a:pt x="87" y="5226"/>
                  </a:lnTo>
                  <a:lnTo>
                    <a:pt x="118" y="5187"/>
                  </a:lnTo>
                  <a:lnTo>
                    <a:pt x="146" y="5101"/>
                  </a:lnTo>
                  <a:lnTo>
                    <a:pt x="166" y="5015"/>
                  </a:lnTo>
                  <a:lnTo>
                    <a:pt x="173" y="4929"/>
                  </a:lnTo>
                  <a:lnTo>
                    <a:pt x="180" y="4805"/>
                  </a:lnTo>
                  <a:lnTo>
                    <a:pt x="185" y="4633"/>
                  </a:lnTo>
                  <a:lnTo>
                    <a:pt x="187" y="4432"/>
                  </a:lnTo>
                  <a:lnTo>
                    <a:pt x="187" y="957"/>
                  </a:lnTo>
                  <a:lnTo>
                    <a:pt x="185" y="727"/>
                  </a:lnTo>
                  <a:lnTo>
                    <a:pt x="180" y="537"/>
                  </a:lnTo>
                  <a:lnTo>
                    <a:pt x="171" y="403"/>
                  </a:lnTo>
                  <a:lnTo>
                    <a:pt x="161" y="316"/>
                  </a:lnTo>
                  <a:lnTo>
                    <a:pt x="139" y="240"/>
                  </a:lnTo>
                  <a:lnTo>
                    <a:pt x="113" y="182"/>
                  </a:lnTo>
                  <a:lnTo>
                    <a:pt x="82" y="154"/>
                  </a:lnTo>
                  <a:lnTo>
                    <a:pt x="49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90" y="0"/>
                  </a:lnTo>
                  <a:lnTo>
                    <a:pt x="590" y="144"/>
                  </a:lnTo>
                  <a:lnTo>
                    <a:pt x="540" y="144"/>
                  </a:lnTo>
                  <a:lnTo>
                    <a:pt x="500" y="163"/>
                  </a:lnTo>
                  <a:lnTo>
                    <a:pt x="467" y="182"/>
                  </a:lnTo>
                  <a:lnTo>
                    <a:pt x="445" y="221"/>
                  </a:lnTo>
                  <a:lnTo>
                    <a:pt x="424" y="259"/>
                  </a:lnTo>
                  <a:lnTo>
                    <a:pt x="410" y="307"/>
                  </a:lnTo>
                  <a:lnTo>
                    <a:pt x="396" y="364"/>
                  </a:lnTo>
                  <a:lnTo>
                    <a:pt x="388" y="431"/>
                  </a:lnTo>
                  <a:lnTo>
                    <a:pt x="379" y="518"/>
                  </a:lnTo>
                  <a:lnTo>
                    <a:pt x="374" y="651"/>
                  </a:lnTo>
                  <a:lnTo>
                    <a:pt x="372" y="823"/>
                  </a:lnTo>
                  <a:lnTo>
                    <a:pt x="372" y="1043"/>
                  </a:lnTo>
                  <a:lnTo>
                    <a:pt x="372" y="4422"/>
                  </a:lnTo>
                  <a:lnTo>
                    <a:pt x="372" y="4566"/>
                  </a:lnTo>
                  <a:lnTo>
                    <a:pt x="374" y="4691"/>
                  </a:lnTo>
                  <a:lnTo>
                    <a:pt x="379" y="4796"/>
                  </a:lnTo>
                  <a:lnTo>
                    <a:pt x="388" y="4871"/>
                  </a:lnTo>
                  <a:lnTo>
                    <a:pt x="393" y="4910"/>
                  </a:lnTo>
                  <a:lnTo>
                    <a:pt x="403" y="4938"/>
                  </a:lnTo>
                  <a:lnTo>
                    <a:pt x="412" y="4967"/>
                  </a:lnTo>
                  <a:lnTo>
                    <a:pt x="424" y="4996"/>
                  </a:lnTo>
                  <a:lnTo>
                    <a:pt x="440" y="5005"/>
                  </a:lnTo>
                  <a:lnTo>
                    <a:pt x="472" y="5025"/>
                  </a:lnTo>
                  <a:lnTo>
                    <a:pt x="515" y="5025"/>
                  </a:lnTo>
                  <a:lnTo>
                    <a:pt x="573" y="5034"/>
                  </a:lnTo>
                  <a:lnTo>
                    <a:pt x="669" y="5034"/>
                  </a:lnTo>
                  <a:lnTo>
                    <a:pt x="737" y="5025"/>
                  </a:lnTo>
                  <a:lnTo>
                    <a:pt x="797" y="5005"/>
                  </a:lnTo>
                  <a:lnTo>
                    <a:pt x="844" y="4977"/>
                  </a:lnTo>
                  <a:lnTo>
                    <a:pt x="882" y="4938"/>
                  </a:lnTo>
                  <a:lnTo>
                    <a:pt x="910" y="4881"/>
                  </a:lnTo>
                  <a:lnTo>
                    <a:pt x="938" y="4814"/>
                  </a:lnTo>
                  <a:lnTo>
                    <a:pt x="966" y="4719"/>
                  </a:lnTo>
                  <a:lnTo>
                    <a:pt x="994" y="4614"/>
                  </a:lnTo>
                  <a:lnTo>
                    <a:pt x="1017" y="4480"/>
                  </a:lnTo>
                  <a:lnTo>
                    <a:pt x="1043" y="4317"/>
                  </a:lnTo>
                  <a:lnTo>
                    <a:pt x="1067" y="4116"/>
                  </a:lnTo>
                  <a:lnTo>
                    <a:pt x="1093" y="3886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327320" y="1442880"/>
              <a:ext cx="404640" cy="1940040"/>
            </a:xfrm>
            <a:custGeom>
              <a:avLst/>
              <a:gdLst/>
              <a:ahLst/>
              <a:rect l="l" t="t" r="r" b="b"/>
              <a:pathLst>
                <a:path w="1124" h="5390">
                  <a:moveTo>
                    <a:pt x="372" y="297"/>
                  </a:moveTo>
                  <a:lnTo>
                    <a:pt x="372" y="2421"/>
                  </a:lnTo>
                  <a:lnTo>
                    <a:pt x="662" y="2421"/>
                  </a:lnTo>
                  <a:lnTo>
                    <a:pt x="711" y="2412"/>
                  </a:lnTo>
                  <a:lnTo>
                    <a:pt x="753" y="2383"/>
                  </a:lnTo>
                  <a:lnTo>
                    <a:pt x="786" y="2335"/>
                  </a:lnTo>
                  <a:lnTo>
                    <a:pt x="812" y="2287"/>
                  </a:lnTo>
                  <a:lnTo>
                    <a:pt x="833" y="2172"/>
                  </a:lnTo>
                  <a:lnTo>
                    <a:pt x="851" y="2028"/>
                  </a:lnTo>
                  <a:lnTo>
                    <a:pt x="860" y="1857"/>
                  </a:lnTo>
                  <a:lnTo>
                    <a:pt x="867" y="1656"/>
                  </a:lnTo>
                  <a:lnTo>
                    <a:pt x="903" y="1656"/>
                  </a:lnTo>
                  <a:lnTo>
                    <a:pt x="903" y="3522"/>
                  </a:lnTo>
                  <a:lnTo>
                    <a:pt x="867" y="3522"/>
                  </a:lnTo>
                  <a:lnTo>
                    <a:pt x="860" y="3341"/>
                  </a:lnTo>
                  <a:lnTo>
                    <a:pt x="853" y="3198"/>
                  </a:lnTo>
                  <a:lnTo>
                    <a:pt x="847" y="3083"/>
                  </a:lnTo>
                  <a:lnTo>
                    <a:pt x="840" y="3016"/>
                  </a:lnTo>
                  <a:lnTo>
                    <a:pt x="828" y="2949"/>
                  </a:lnTo>
                  <a:lnTo>
                    <a:pt x="817" y="2891"/>
                  </a:lnTo>
                  <a:lnTo>
                    <a:pt x="800" y="2834"/>
                  </a:lnTo>
                  <a:lnTo>
                    <a:pt x="784" y="2796"/>
                  </a:lnTo>
                  <a:lnTo>
                    <a:pt x="760" y="2757"/>
                  </a:lnTo>
                  <a:lnTo>
                    <a:pt x="732" y="2738"/>
                  </a:lnTo>
                  <a:lnTo>
                    <a:pt x="699" y="2719"/>
                  </a:lnTo>
                  <a:lnTo>
                    <a:pt x="662" y="2719"/>
                  </a:lnTo>
                  <a:lnTo>
                    <a:pt x="372" y="2719"/>
                  </a:lnTo>
                  <a:lnTo>
                    <a:pt x="372" y="4480"/>
                  </a:lnTo>
                  <a:lnTo>
                    <a:pt x="372" y="4633"/>
                  </a:lnTo>
                  <a:lnTo>
                    <a:pt x="372" y="4767"/>
                  </a:lnTo>
                  <a:lnTo>
                    <a:pt x="376" y="4852"/>
                  </a:lnTo>
                  <a:lnTo>
                    <a:pt x="381" y="4910"/>
                  </a:lnTo>
                  <a:lnTo>
                    <a:pt x="383" y="4948"/>
                  </a:lnTo>
                  <a:lnTo>
                    <a:pt x="390" y="4977"/>
                  </a:lnTo>
                  <a:lnTo>
                    <a:pt x="397" y="5005"/>
                  </a:lnTo>
                  <a:lnTo>
                    <a:pt x="407" y="5034"/>
                  </a:lnTo>
                  <a:lnTo>
                    <a:pt x="416" y="5053"/>
                  </a:lnTo>
                  <a:lnTo>
                    <a:pt x="433" y="5063"/>
                  </a:lnTo>
                  <a:lnTo>
                    <a:pt x="454" y="5073"/>
                  </a:lnTo>
                  <a:lnTo>
                    <a:pt x="480" y="5082"/>
                  </a:lnTo>
                  <a:lnTo>
                    <a:pt x="701" y="5082"/>
                  </a:lnTo>
                  <a:lnTo>
                    <a:pt x="751" y="5073"/>
                  </a:lnTo>
                  <a:lnTo>
                    <a:pt x="795" y="5063"/>
                  </a:lnTo>
                  <a:lnTo>
                    <a:pt x="833" y="5044"/>
                  </a:lnTo>
                  <a:lnTo>
                    <a:pt x="863" y="5015"/>
                  </a:lnTo>
                  <a:lnTo>
                    <a:pt x="886" y="4977"/>
                  </a:lnTo>
                  <a:lnTo>
                    <a:pt x="910" y="4919"/>
                  </a:lnTo>
                  <a:lnTo>
                    <a:pt x="936" y="4843"/>
                  </a:lnTo>
                  <a:lnTo>
                    <a:pt x="959" y="4767"/>
                  </a:lnTo>
                  <a:lnTo>
                    <a:pt x="987" y="4623"/>
                  </a:lnTo>
                  <a:lnTo>
                    <a:pt x="1017" y="4461"/>
                  </a:lnTo>
                  <a:lnTo>
                    <a:pt x="1048" y="4260"/>
                  </a:lnTo>
                  <a:lnTo>
                    <a:pt x="1080" y="4030"/>
                  </a:lnTo>
                  <a:lnTo>
                    <a:pt x="1123" y="4030"/>
                  </a:lnTo>
                  <a:lnTo>
                    <a:pt x="1011" y="5389"/>
                  </a:lnTo>
                  <a:lnTo>
                    <a:pt x="0" y="5389"/>
                  </a:lnTo>
                  <a:lnTo>
                    <a:pt x="0" y="5245"/>
                  </a:lnTo>
                  <a:lnTo>
                    <a:pt x="47" y="5245"/>
                  </a:lnTo>
                  <a:lnTo>
                    <a:pt x="68" y="5235"/>
                  </a:lnTo>
                  <a:lnTo>
                    <a:pt x="91" y="5216"/>
                  </a:lnTo>
                  <a:lnTo>
                    <a:pt x="112" y="5187"/>
                  </a:lnTo>
                  <a:lnTo>
                    <a:pt x="133" y="5149"/>
                  </a:lnTo>
                  <a:lnTo>
                    <a:pt x="148" y="5101"/>
                  </a:lnTo>
                  <a:lnTo>
                    <a:pt x="159" y="5053"/>
                  </a:lnTo>
                  <a:lnTo>
                    <a:pt x="171" y="5005"/>
                  </a:lnTo>
                  <a:lnTo>
                    <a:pt x="178" y="4948"/>
                  </a:lnTo>
                  <a:lnTo>
                    <a:pt x="181" y="4862"/>
                  </a:lnTo>
                  <a:lnTo>
                    <a:pt x="185" y="4748"/>
                  </a:lnTo>
                  <a:lnTo>
                    <a:pt x="185" y="4604"/>
                  </a:lnTo>
                  <a:lnTo>
                    <a:pt x="188" y="4432"/>
                  </a:lnTo>
                  <a:lnTo>
                    <a:pt x="188" y="947"/>
                  </a:lnTo>
                  <a:lnTo>
                    <a:pt x="185" y="708"/>
                  </a:lnTo>
                  <a:lnTo>
                    <a:pt x="181" y="518"/>
                  </a:lnTo>
                  <a:lnTo>
                    <a:pt x="171" y="384"/>
                  </a:lnTo>
                  <a:lnTo>
                    <a:pt x="162" y="307"/>
                  </a:lnTo>
                  <a:lnTo>
                    <a:pt x="141" y="230"/>
                  </a:lnTo>
                  <a:lnTo>
                    <a:pt x="115" y="182"/>
                  </a:lnTo>
                  <a:lnTo>
                    <a:pt x="82" y="154"/>
                  </a:lnTo>
                  <a:lnTo>
                    <a:pt x="47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1011" y="0"/>
                  </a:lnTo>
                  <a:lnTo>
                    <a:pt x="1024" y="1187"/>
                  </a:lnTo>
                  <a:lnTo>
                    <a:pt x="987" y="1187"/>
                  </a:lnTo>
                  <a:lnTo>
                    <a:pt x="976" y="986"/>
                  </a:lnTo>
                  <a:lnTo>
                    <a:pt x="964" y="823"/>
                  </a:lnTo>
                  <a:lnTo>
                    <a:pt x="954" y="698"/>
                  </a:lnTo>
                  <a:lnTo>
                    <a:pt x="943" y="603"/>
                  </a:lnTo>
                  <a:lnTo>
                    <a:pt x="929" y="518"/>
                  </a:lnTo>
                  <a:lnTo>
                    <a:pt x="910" y="451"/>
                  </a:lnTo>
                  <a:lnTo>
                    <a:pt x="889" y="393"/>
                  </a:lnTo>
                  <a:lnTo>
                    <a:pt x="867" y="355"/>
                  </a:lnTo>
                  <a:lnTo>
                    <a:pt x="845" y="326"/>
                  </a:lnTo>
                  <a:lnTo>
                    <a:pt x="814" y="307"/>
                  </a:lnTo>
                  <a:lnTo>
                    <a:pt x="777" y="297"/>
                  </a:lnTo>
                  <a:lnTo>
                    <a:pt x="732" y="297"/>
                  </a:lnTo>
                  <a:lnTo>
                    <a:pt x="372" y="297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758960" y="1442880"/>
              <a:ext cx="609480" cy="1940040"/>
            </a:xfrm>
            <a:custGeom>
              <a:avLst/>
              <a:gdLst/>
              <a:ahLst/>
              <a:rect l="l" t="t" r="r" b="b"/>
              <a:pathLst>
                <a:path w="1692" h="5390">
                  <a:moveTo>
                    <a:pt x="778" y="5389"/>
                  </a:moveTo>
                  <a:lnTo>
                    <a:pt x="271" y="861"/>
                  </a:lnTo>
                  <a:lnTo>
                    <a:pt x="271" y="4451"/>
                  </a:lnTo>
                  <a:lnTo>
                    <a:pt x="271" y="4671"/>
                  </a:lnTo>
                  <a:lnTo>
                    <a:pt x="276" y="4852"/>
                  </a:lnTo>
                  <a:lnTo>
                    <a:pt x="285" y="4977"/>
                  </a:lnTo>
                  <a:lnTo>
                    <a:pt x="296" y="5073"/>
                  </a:lnTo>
                  <a:lnTo>
                    <a:pt x="317" y="5149"/>
                  </a:lnTo>
                  <a:lnTo>
                    <a:pt x="343" y="5197"/>
                  </a:lnTo>
                  <a:lnTo>
                    <a:pt x="374" y="5226"/>
                  </a:lnTo>
                  <a:lnTo>
                    <a:pt x="411" y="5245"/>
                  </a:lnTo>
                  <a:lnTo>
                    <a:pt x="457" y="5245"/>
                  </a:lnTo>
                  <a:lnTo>
                    <a:pt x="457" y="5389"/>
                  </a:lnTo>
                  <a:lnTo>
                    <a:pt x="0" y="5389"/>
                  </a:lnTo>
                  <a:lnTo>
                    <a:pt x="0" y="5245"/>
                  </a:lnTo>
                  <a:lnTo>
                    <a:pt x="47" y="5245"/>
                  </a:lnTo>
                  <a:lnTo>
                    <a:pt x="85" y="5226"/>
                  </a:lnTo>
                  <a:lnTo>
                    <a:pt x="118" y="5187"/>
                  </a:lnTo>
                  <a:lnTo>
                    <a:pt x="145" y="5111"/>
                  </a:lnTo>
                  <a:lnTo>
                    <a:pt x="166" y="5025"/>
                  </a:lnTo>
                  <a:lnTo>
                    <a:pt x="173" y="4938"/>
                  </a:lnTo>
                  <a:lnTo>
                    <a:pt x="180" y="4814"/>
                  </a:lnTo>
                  <a:lnTo>
                    <a:pt x="185" y="4652"/>
                  </a:lnTo>
                  <a:lnTo>
                    <a:pt x="187" y="4451"/>
                  </a:lnTo>
                  <a:lnTo>
                    <a:pt x="187" y="938"/>
                  </a:lnTo>
                  <a:lnTo>
                    <a:pt x="185" y="766"/>
                  </a:lnTo>
                  <a:lnTo>
                    <a:pt x="180" y="622"/>
                  </a:lnTo>
                  <a:lnTo>
                    <a:pt x="176" y="498"/>
                  </a:lnTo>
                  <a:lnTo>
                    <a:pt x="169" y="412"/>
                  </a:lnTo>
                  <a:lnTo>
                    <a:pt x="159" y="355"/>
                  </a:lnTo>
                  <a:lnTo>
                    <a:pt x="147" y="297"/>
                  </a:lnTo>
                  <a:lnTo>
                    <a:pt x="133" y="259"/>
                  </a:lnTo>
                  <a:lnTo>
                    <a:pt x="120" y="221"/>
                  </a:lnTo>
                  <a:lnTo>
                    <a:pt x="97" y="182"/>
                  </a:lnTo>
                  <a:lnTo>
                    <a:pt x="71" y="163"/>
                  </a:lnTo>
                  <a:lnTo>
                    <a:pt x="38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376" y="0"/>
                  </a:lnTo>
                  <a:lnTo>
                    <a:pt x="852" y="4212"/>
                  </a:lnTo>
                  <a:lnTo>
                    <a:pt x="1322" y="0"/>
                  </a:lnTo>
                  <a:lnTo>
                    <a:pt x="1691" y="0"/>
                  </a:lnTo>
                  <a:lnTo>
                    <a:pt x="1691" y="144"/>
                  </a:lnTo>
                  <a:lnTo>
                    <a:pt x="1644" y="144"/>
                  </a:lnTo>
                  <a:lnTo>
                    <a:pt x="1604" y="154"/>
                  </a:lnTo>
                  <a:lnTo>
                    <a:pt x="1571" y="192"/>
                  </a:lnTo>
                  <a:lnTo>
                    <a:pt x="1544" y="259"/>
                  </a:lnTo>
                  <a:lnTo>
                    <a:pt x="1525" y="355"/>
                  </a:lnTo>
                  <a:lnTo>
                    <a:pt x="1516" y="431"/>
                  </a:lnTo>
                  <a:lnTo>
                    <a:pt x="1509" y="565"/>
                  </a:lnTo>
                  <a:lnTo>
                    <a:pt x="1504" y="727"/>
                  </a:lnTo>
                  <a:lnTo>
                    <a:pt x="1504" y="938"/>
                  </a:lnTo>
                  <a:lnTo>
                    <a:pt x="1504" y="4451"/>
                  </a:lnTo>
                  <a:lnTo>
                    <a:pt x="1504" y="4671"/>
                  </a:lnTo>
                  <a:lnTo>
                    <a:pt x="1511" y="4852"/>
                  </a:lnTo>
                  <a:lnTo>
                    <a:pt x="1518" y="4977"/>
                  </a:lnTo>
                  <a:lnTo>
                    <a:pt x="1532" y="5073"/>
                  </a:lnTo>
                  <a:lnTo>
                    <a:pt x="1551" y="5149"/>
                  </a:lnTo>
                  <a:lnTo>
                    <a:pt x="1576" y="5197"/>
                  </a:lnTo>
                  <a:lnTo>
                    <a:pt x="1607" y="5226"/>
                  </a:lnTo>
                  <a:lnTo>
                    <a:pt x="1644" y="5245"/>
                  </a:lnTo>
                  <a:lnTo>
                    <a:pt x="1691" y="5245"/>
                  </a:lnTo>
                  <a:lnTo>
                    <a:pt x="1691" y="5389"/>
                  </a:lnTo>
                  <a:lnTo>
                    <a:pt x="1132" y="5389"/>
                  </a:lnTo>
                  <a:lnTo>
                    <a:pt x="1132" y="5245"/>
                  </a:lnTo>
                  <a:lnTo>
                    <a:pt x="1179" y="5245"/>
                  </a:lnTo>
                  <a:lnTo>
                    <a:pt x="1217" y="5226"/>
                  </a:lnTo>
                  <a:lnTo>
                    <a:pt x="1249" y="5187"/>
                  </a:lnTo>
                  <a:lnTo>
                    <a:pt x="1277" y="5111"/>
                  </a:lnTo>
                  <a:lnTo>
                    <a:pt x="1298" y="5025"/>
                  </a:lnTo>
                  <a:lnTo>
                    <a:pt x="1305" y="4938"/>
                  </a:lnTo>
                  <a:lnTo>
                    <a:pt x="1312" y="4814"/>
                  </a:lnTo>
                  <a:lnTo>
                    <a:pt x="1317" y="4652"/>
                  </a:lnTo>
                  <a:lnTo>
                    <a:pt x="1319" y="4451"/>
                  </a:lnTo>
                  <a:lnTo>
                    <a:pt x="1319" y="861"/>
                  </a:lnTo>
                  <a:lnTo>
                    <a:pt x="811" y="5389"/>
                  </a:lnTo>
                  <a:lnTo>
                    <a:pt x="778" y="5389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397240" y="1442880"/>
              <a:ext cx="404640" cy="1940040"/>
            </a:xfrm>
            <a:custGeom>
              <a:avLst/>
              <a:gdLst/>
              <a:ahLst/>
              <a:rect l="l" t="t" r="r" b="b"/>
              <a:pathLst>
                <a:path w="1124" h="5390">
                  <a:moveTo>
                    <a:pt x="372" y="297"/>
                  </a:moveTo>
                  <a:lnTo>
                    <a:pt x="372" y="2421"/>
                  </a:lnTo>
                  <a:lnTo>
                    <a:pt x="663" y="2421"/>
                  </a:lnTo>
                  <a:lnTo>
                    <a:pt x="712" y="2412"/>
                  </a:lnTo>
                  <a:lnTo>
                    <a:pt x="753" y="2383"/>
                  </a:lnTo>
                  <a:lnTo>
                    <a:pt x="786" y="2335"/>
                  </a:lnTo>
                  <a:lnTo>
                    <a:pt x="812" y="2287"/>
                  </a:lnTo>
                  <a:lnTo>
                    <a:pt x="833" y="2172"/>
                  </a:lnTo>
                  <a:lnTo>
                    <a:pt x="852" y="2028"/>
                  </a:lnTo>
                  <a:lnTo>
                    <a:pt x="862" y="1857"/>
                  </a:lnTo>
                  <a:lnTo>
                    <a:pt x="869" y="1656"/>
                  </a:lnTo>
                  <a:lnTo>
                    <a:pt x="904" y="1656"/>
                  </a:lnTo>
                  <a:lnTo>
                    <a:pt x="904" y="3522"/>
                  </a:lnTo>
                  <a:lnTo>
                    <a:pt x="869" y="3522"/>
                  </a:lnTo>
                  <a:lnTo>
                    <a:pt x="862" y="3341"/>
                  </a:lnTo>
                  <a:lnTo>
                    <a:pt x="855" y="3198"/>
                  </a:lnTo>
                  <a:lnTo>
                    <a:pt x="847" y="3083"/>
                  </a:lnTo>
                  <a:lnTo>
                    <a:pt x="840" y="3016"/>
                  </a:lnTo>
                  <a:lnTo>
                    <a:pt x="829" y="2949"/>
                  </a:lnTo>
                  <a:lnTo>
                    <a:pt x="817" y="2891"/>
                  </a:lnTo>
                  <a:lnTo>
                    <a:pt x="800" y="2834"/>
                  </a:lnTo>
                  <a:lnTo>
                    <a:pt x="784" y="2796"/>
                  </a:lnTo>
                  <a:lnTo>
                    <a:pt x="760" y="2757"/>
                  </a:lnTo>
                  <a:lnTo>
                    <a:pt x="733" y="2738"/>
                  </a:lnTo>
                  <a:lnTo>
                    <a:pt x="700" y="2719"/>
                  </a:lnTo>
                  <a:lnTo>
                    <a:pt x="663" y="2719"/>
                  </a:lnTo>
                  <a:lnTo>
                    <a:pt x="372" y="2719"/>
                  </a:lnTo>
                  <a:lnTo>
                    <a:pt x="372" y="4480"/>
                  </a:lnTo>
                  <a:lnTo>
                    <a:pt x="372" y="4633"/>
                  </a:lnTo>
                  <a:lnTo>
                    <a:pt x="372" y="4767"/>
                  </a:lnTo>
                  <a:lnTo>
                    <a:pt x="377" y="4852"/>
                  </a:lnTo>
                  <a:lnTo>
                    <a:pt x="381" y="4910"/>
                  </a:lnTo>
                  <a:lnTo>
                    <a:pt x="384" y="4948"/>
                  </a:lnTo>
                  <a:lnTo>
                    <a:pt x="391" y="4977"/>
                  </a:lnTo>
                  <a:lnTo>
                    <a:pt x="398" y="5005"/>
                  </a:lnTo>
                  <a:lnTo>
                    <a:pt x="407" y="5034"/>
                  </a:lnTo>
                  <a:lnTo>
                    <a:pt x="417" y="5053"/>
                  </a:lnTo>
                  <a:lnTo>
                    <a:pt x="433" y="5063"/>
                  </a:lnTo>
                  <a:lnTo>
                    <a:pt x="453" y="5073"/>
                  </a:lnTo>
                  <a:lnTo>
                    <a:pt x="479" y="5082"/>
                  </a:lnTo>
                  <a:lnTo>
                    <a:pt x="703" y="5082"/>
                  </a:lnTo>
                  <a:lnTo>
                    <a:pt x="752" y="5073"/>
                  </a:lnTo>
                  <a:lnTo>
                    <a:pt x="796" y="5063"/>
                  </a:lnTo>
                  <a:lnTo>
                    <a:pt x="833" y="5044"/>
                  </a:lnTo>
                  <a:lnTo>
                    <a:pt x="864" y="5015"/>
                  </a:lnTo>
                  <a:lnTo>
                    <a:pt x="887" y="4977"/>
                  </a:lnTo>
                  <a:lnTo>
                    <a:pt x="911" y="4919"/>
                  </a:lnTo>
                  <a:lnTo>
                    <a:pt x="936" y="4843"/>
                  </a:lnTo>
                  <a:lnTo>
                    <a:pt x="959" y="4767"/>
                  </a:lnTo>
                  <a:lnTo>
                    <a:pt x="988" y="4623"/>
                  </a:lnTo>
                  <a:lnTo>
                    <a:pt x="1018" y="4461"/>
                  </a:lnTo>
                  <a:lnTo>
                    <a:pt x="1049" y="4260"/>
                  </a:lnTo>
                  <a:lnTo>
                    <a:pt x="1081" y="4030"/>
                  </a:lnTo>
                  <a:lnTo>
                    <a:pt x="1123" y="4030"/>
                  </a:lnTo>
                  <a:lnTo>
                    <a:pt x="1011" y="5389"/>
                  </a:lnTo>
                  <a:lnTo>
                    <a:pt x="0" y="5389"/>
                  </a:lnTo>
                  <a:lnTo>
                    <a:pt x="0" y="5245"/>
                  </a:lnTo>
                  <a:lnTo>
                    <a:pt x="47" y="5245"/>
                  </a:lnTo>
                  <a:lnTo>
                    <a:pt x="68" y="5235"/>
                  </a:lnTo>
                  <a:lnTo>
                    <a:pt x="91" y="5216"/>
                  </a:lnTo>
                  <a:lnTo>
                    <a:pt x="113" y="5187"/>
                  </a:lnTo>
                  <a:lnTo>
                    <a:pt x="133" y="5149"/>
                  </a:lnTo>
                  <a:lnTo>
                    <a:pt x="147" y="5101"/>
                  </a:lnTo>
                  <a:lnTo>
                    <a:pt x="159" y="5053"/>
                  </a:lnTo>
                  <a:lnTo>
                    <a:pt x="170" y="5005"/>
                  </a:lnTo>
                  <a:lnTo>
                    <a:pt x="178" y="4948"/>
                  </a:lnTo>
                  <a:lnTo>
                    <a:pt x="180" y="4862"/>
                  </a:lnTo>
                  <a:lnTo>
                    <a:pt x="185" y="4748"/>
                  </a:lnTo>
                  <a:lnTo>
                    <a:pt x="185" y="4604"/>
                  </a:lnTo>
                  <a:lnTo>
                    <a:pt x="187" y="4432"/>
                  </a:lnTo>
                  <a:lnTo>
                    <a:pt x="187" y="947"/>
                  </a:lnTo>
                  <a:lnTo>
                    <a:pt x="185" y="708"/>
                  </a:lnTo>
                  <a:lnTo>
                    <a:pt x="180" y="518"/>
                  </a:lnTo>
                  <a:lnTo>
                    <a:pt x="170" y="384"/>
                  </a:lnTo>
                  <a:lnTo>
                    <a:pt x="161" y="307"/>
                  </a:lnTo>
                  <a:lnTo>
                    <a:pt x="140" y="230"/>
                  </a:lnTo>
                  <a:lnTo>
                    <a:pt x="114" y="182"/>
                  </a:lnTo>
                  <a:lnTo>
                    <a:pt x="82" y="154"/>
                  </a:lnTo>
                  <a:lnTo>
                    <a:pt x="47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1011" y="0"/>
                  </a:lnTo>
                  <a:lnTo>
                    <a:pt x="1025" y="1187"/>
                  </a:lnTo>
                  <a:lnTo>
                    <a:pt x="988" y="1187"/>
                  </a:lnTo>
                  <a:lnTo>
                    <a:pt x="976" y="986"/>
                  </a:lnTo>
                  <a:lnTo>
                    <a:pt x="964" y="823"/>
                  </a:lnTo>
                  <a:lnTo>
                    <a:pt x="955" y="698"/>
                  </a:lnTo>
                  <a:lnTo>
                    <a:pt x="943" y="603"/>
                  </a:lnTo>
                  <a:lnTo>
                    <a:pt x="929" y="518"/>
                  </a:lnTo>
                  <a:lnTo>
                    <a:pt x="911" y="451"/>
                  </a:lnTo>
                  <a:lnTo>
                    <a:pt x="890" y="393"/>
                  </a:lnTo>
                  <a:lnTo>
                    <a:pt x="869" y="355"/>
                  </a:lnTo>
                  <a:lnTo>
                    <a:pt x="845" y="326"/>
                  </a:lnTo>
                  <a:lnTo>
                    <a:pt x="815" y="307"/>
                  </a:lnTo>
                  <a:lnTo>
                    <a:pt x="777" y="297"/>
                  </a:lnTo>
                  <a:lnTo>
                    <a:pt x="733" y="297"/>
                  </a:lnTo>
                  <a:lnTo>
                    <a:pt x="372" y="297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08360" y="1442880"/>
              <a:ext cx="515880" cy="1970280"/>
            </a:xfrm>
            <a:custGeom>
              <a:avLst/>
              <a:gdLst/>
              <a:ahLst/>
              <a:rect l="l" t="t" r="r" b="b"/>
              <a:pathLst>
                <a:path w="1433" h="5474">
                  <a:moveTo>
                    <a:pt x="0" y="0"/>
                  </a:moveTo>
                  <a:lnTo>
                    <a:pt x="353" y="0"/>
                  </a:lnTo>
                  <a:lnTo>
                    <a:pt x="1161" y="4028"/>
                  </a:lnTo>
                  <a:lnTo>
                    <a:pt x="1161" y="937"/>
                  </a:lnTo>
                  <a:lnTo>
                    <a:pt x="1159" y="707"/>
                  </a:lnTo>
                  <a:lnTo>
                    <a:pt x="1154" y="517"/>
                  </a:lnTo>
                  <a:lnTo>
                    <a:pt x="1145" y="392"/>
                  </a:lnTo>
                  <a:lnTo>
                    <a:pt x="1133" y="306"/>
                  </a:lnTo>
                  <a:lnTo>
                    <a:pt x="1112" y="229"/>
                  </a:lnTo>
                  <a:lnTo>
                    <a:pt x="1086" y="181"/>
                  </a:lnTo>
                  <a:lnTo>
                    <a:pt x="1055" y="153"/>
                  </a:lnTo>
                  <a:lnTo>
                    <a:pt x="1021" y="143"/>
                  </a:lnTo>
                  <a:lnTo>
                    <a:pt x="974" y="143"/>
                  </a:lnTo>
                  <a:lnTo>
                    <a:pt x="974" y="0"/>
                  </a:lnTo>
                  <a:lnTo>
                    <a:pt x="1432" y="0"/>
                  </a:lnTo>
                  <a:lnTo>
                    <a:pt x="1432" y="143"/>
                  </a:lnTo>
                  <a:lnTo>
                    <a:pt x="1385" y="143"/>
                  </a:lnTo>
                  <a:lnTo>
                    <a:pt x="1346" y="153"/>
                  </a:lnTo>
                  <a:lnTo>
                    <a:pt x="1313" y="191"/>
                  </a:lnTo>
                  <a:lnTo>
                    <a:pt x="1285" y="258"/>
                  </a:lnTo>
                  <a:lnTo>
                    <a:pt x="1266" y="354"/>
                  </a:lnTo>
                  <a:lnTo>
                    <a:pt x="1257" y="430"/>
                  </a:lnTo>
                  <a:lnTo>
                    <a:pt x="1249" y="564"/>
                  </a:lnTo>
                  <a:lnTo>
                    <a:pt x="1245" y="726"/>
                  </a:lnTo>
                  <a:lnTo>
                    <a:pt x="1245" y="937"/>
                  </a:lnTo>
                  <a:lnTo>
                    <a:pt x="1245" y="5473"/>
                  </a:lnTo>
                  <a:lnTo>
                    <a:pt x="1209" y="5473"/>
                  </a:lnTo>
                  <a:lnTo>
                    <a:pt x="341" y="1138"/>
                  </a:lnTo>
                  <a:lnTo>
                    <a:pt x="341" y="4449"/>
                  </a:lnTo>
                  <a:lnTo>
                    <a:pt x="341" y="4669"/>
                  </a:lnTo>
                  <a:lnTo>
                    <a:pt x="346" y="4850"/>
                  </a:lnTo>
                  <a:lnTo>
                    <a:pt x="356" y="4975"/>
                  </a:lnTo>
                  <a:lnTo>
                    <a:pt x="367" y="5071"/>
                  </a:lnTo>
                  <a:lnTo>
                    <a:pt x="389" y="5147"/>
                  </a:lnTo>
                  <a:lnTo>
                    <a:pt x="413" y="5195"/>
                  </a:lnTo>
                  <a:lnTo>
                    <a:pt x="444" y="5224"/>
                  </a:lnTo>
                  <a:lnTo>
                    <a:pt x="482" y="5243"/>
                  </a:lnTo>
                  <a:lnTo>
                    <a:pt x="529" y="5243"/>
                  </a:lnTo>
                  <a:lnTo>
                    <a:pt x="529" y="5387"/>
                  </a:lnTo>
                  <a:lnTo>
                    <a:pt x="71" y="5387"/>
                  </a:lnTo>
                  <a:lnTo>
                    <a:pt x="71" y="5243"/>
                  </a:lnTo>
                  <a:lnTo>
                    <a:pt x="117" y="5243"/>
                  </a:lnTo>
                  <a:lnTo>
                    <a:pt x="154" y="5224"/>
                  </a:lnTo>
                  <a:lnTo>
                    <a:pt x="187" y="5185"/>
                  </a:lnTo>
                  <a:lnTo>
                    <a:pt x="215" y="5109"/>
                  </a:lnTo>
                  <a:lnTo>
                    <a:pt x="237" y="5023"/>
                  </a:lnTo>
                  <a:lnTo>
                    <a:pt x="244" y="4936"/>
                  </a:lnTo>
                  <a:lnTo>
                    <a:pt x="250" y="4812"/>
                  </a:lnTo>
                  <a:lnTo>
                    <a:pt x="254" y="4650"/>
                  </a:lnTo>
                  <a:lnTo>
                    <a:pt x="257" y="4449"/>
                  </a:lnTo>
                  <a:lnTo>
                    <a:pt x="257" y="717"/>
                  </a:lnTo>
                  <a:lnTo>
                    <a:pt x="230" y="583"/>
                  </a:lnTo>
                  <a:lnTo>
                    <a:pt x="206" y="478"/>
                  </a:lnTo>
                  <a:lnTo>
                    <a:pt x="187" y="392"/>
                  </a:lnTo>
                  <a:lnTo>
                    <a:pt x="171" y="344"/>
                  </a:lnTo>
                  <a:lnTo>
                    <a:pt x="152" y="296"/>
                  </a:lnTo>
                  <a:lnTo>
                    <a:pt x="133" y="258"/>
                  </a:lnTo>
                  <a:lnTo>
                    <a:pt x="110" y="210"/>
                  </a:lnTo>
                  <a:lnTo>
                    <a:pt x="85" y="181"/>
                  </a:lnTo>
                  <a:lnTo>
                    <a:pt x="68" y="162"/>
                  </a:lnTo>
                  <a:lnTo>
                    <a:pt x="49" y="143"/>
                  </a:lnTo>
                  <a:lnTo>
                    <a:pt x="26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54480" y="1442880"/>
              <a:ext cx="395280" cy="1940040"/>
            </a:xfrm>
            <a:custGeom>
              <a:avLst/>
              <a:gdLst/>
              <a:ahLst/>
              <a:rect l="l" t="t" r="r" b="b"/>
              <a:pathLst>
                <a:path w="1099" h="5390">
                  <a:moveTo>
                    <a:pt x="1084" y="0"/>
                  </a:moveTo>
                  <a:lnTo>
                    <a:pt x="1098" y="1263"/>
                  </a:lnTo>
                  <a:lnTo>
                    <a:pt x="1060" y="1263"/>
                  </a:lnTo>
                  <a:lnTo>
                    <a:pt x="1053" y="1110"/>
                  </a:lnTo>
                  <a:lnTo>
                    <a:pt x="1046" y="976"/>
                  </a:lnTo>
                  <a:lnTo>
                    <a:pt x="1039" y="871"/>
                  </a:lnTo>
                  <a:lnTo>
                    <a:pt x="1032" y="794"/>
                  </a:lnTo>
                  <a:lnTo>
                    <a:pt x="1013" y="679"/>
                  </a:lnTo>
                  <a:lnTo>
                    <a:pt x="994" y="593"/>
                  </a:lnTo>
                  <a:lnTo>
                    <a:pt x="973" y="498"/>
                  </a:lnTo>
                  <a:lnTo>
                    <a:pt x="953" y="441"/>
                  </a:lnTo>
                  <a:lnTo>
                    <a:pt x="925" y="393"/>
                  </a:lnTo>
                  <a:lnTo>
                    <a:pt x="894" y="355"/>
                  </a:lnTo>
                  <a:lnTo>
                    <a:pt x="859" y="336"/>
                  </a:lnTo>
                  <a:lnTo>
                    <a:pt x="821" y="336"/>
                  </a:lnTo>
                  <a:lnTo>
                    <a:pt x="637" y="336"/>
                  </a:lnTo>
                  <a:lnTo>
                    <a:pt x="637" y="4451"/>
                  </a:lnTo>
                  <a:lnTo>
                    <a:pt x="637" y="4671"/>
                  </a:lnTo>
                  <a:lnTo>
                    <a:pt x="642" y="4852"/>
                  </a:lnTo>
                  <a:lnTo>
                    <a:pt x="651" y="4977"/>
                  </a:lnTo>
                  <a:lnTo>
                    <a:pt x="662" y="5073"/>
                  </a:lnTo>
                  <a:lnTo>
                    <a:pt x="683" y="5149"/>
                  </a:lnTo>
                  <a:lnTo>
                    <a:pt x="709" y="5197"/>
                  </a:lnTo>
                  <a:lnTo>
                    <a:pt x="740" y="5226"/>
                  </a:lnTo>
                  <a:lnTo>
                    <a:pt x="778" y="5245"/>
                  </a:lnTo>
                  <a:lnTo>
                    <a:pt x="824" y="5245"/>
                  </a:lnTo>
                  <a:lnTo>
                    <a:pt x="824" y="5389"/>
                  </a:lnTo>
                  <a:lnTo>
                    <a:pt x="265" y="5389"/>
                  </a:lnTo>
                  <a:lnTo>
                    <a:pt x="265" y="5245"/>
                  </a:lnTo>
                  <a:lnTo>
                    <a:pt x="312" y="5245"/>
                  </a:lnTo>
                  <a:lnTo>
                    <a:pt x="349" y="5226"/>
                  </a:lnTo>
                  <a:lnTo>
                    <a:pt x="382" y="5187"/>
                  </a:lnTo>
                  <a:lnTo>
                    <a:pt x="410" y="5111"/>
                  </a:lnTo>
                  <a:lnTo>
                    <a:pt x="431" y="5025"/>
                  </a:lnTo>
                  <a:lnTo>
                    <a:pt x="438" y="4938"/>
                  </a:lnTo>
                  <a:lnTo>
                    <a:pt x="445" y="4814"/>
                  </a:lnTo>
                  <a:lnTo>
                    <a:pt x="450" y="4652"/>
                  </a:lnTo>
                  <a:lnTo>
                    <a:pt x="453" y="4451"/>
                  </a:lnTo>
                  <a:lnTo>
                    <a:pt x="453" y="336"/>
                  </a:lnTo>
                  <a:lnTo>
                    <a:pt x="296" y="336"/>
                  </a:lnTo>
                  <a:lnTo>
                    <a:pt x="251" y="336"/>
                  </a:lnTo>
                  <a:lnTo>
                    <a:pt x="216" y="345"/>
                  </a:lnTo>
                  <a:lnTo>
                    <a:pt x="185" y="364"/>
                  </a:lnTo>
                  <a:lnTo>
                    <a:pt x="165" y="393"/>
                  </a:lnTo>
                  <a:lnTo>
                    <a:pt x="139" y="431"/>
                  </a:lnTo>
                  <a:lnTo>
                    <a:pt x="116" y="498"/>
                  </a:lnTo>
                  <a:lnTo>
                    <a:pt x="95" y="584"/>
                  </a:lnTo>
                  <a:lnTo>
                    <a:pt x="78" y="689"/>
                  </a:lnTo>
                  <a:lnTo>
                    <a:pt x="62" y="804"/>
                  </a:lnTo>
                  <a:lnTo>
                    <a:pt x="50" y="938"/>
                  </a:lnTo>
                  <a:lnTo>
                    <a:pt x="40" y="1091"/>
                  </a:lnTo>
                  <a:lnTo>
                    <a:pt x="36" y="1263"/>
                  </a:lnTo>
                  <a:lnTo>
                    <a:pt x="0" y="1263"/>
                  </a:lnTo>
                  <a:lnTo>
                    <a:pt x="12" y="0"/>
                  </a:lnTo>
                  <a:lnTo>
                    <a:pt x="1084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74960" y="1442880"/>
              <a:ext cx="498600" cy="1940040"/>
            </a:xfrm>
            <a:custGeom>
              <a:avLst/>
              <a:gdLst/>
              <a:ahLst/>
              <a:rect l="l" t="t" r="r" b="b"/>
              <a:pathLst>
                <a:path w="1385" h="5390">
                  <a:moveTo>
                    <a:pt x="925" y="0"/>
                  </a:moveTo>
                  <a:lnTo>
                    <a:pt x="1384" y="0"/>
                  </a:lnTo>
                  <a:lnTo>
                    <a:pt x="1384" y="144"/>
                  </a:lnTo>
                  <a:lnTo>
                    <a:pt x="1358" y="144"/>
                  </a:lnTo>
                  <a:lnTo>
                    <a:pt x="1344" y="144"/>
                  </a:lnTo>
                  <a:lnTo>
                    <a:pt x="1325" y="163"/>
                  </a:lnTo>
                  <a:lnTo>
                    <a:pt x="1307" y="192"/>
                  </a:lnTo>
                  <a:lnTo>
                    <a:pt x="1285" y="230"/>
                  </a:lnTo>
                  <a:lnTo>
                    <a:pt x="1259" y="278"/>
                  </a:lnTo>
                  <a:lnTo>
                    <a:pt x="1236" y="345"/>
                  </a:lnTo>
                  <a:lnTo>
                    <a:pt x="1216" y="412"/>
                  </a:lnTo>
                  <a:lnTo>
                    <a:pt x="1197" y="498"/>
                  </a:lnTo>
                  <a:lnTo>
                    <a:pt x="1176" y="603"/>
                  </a:lnTo>
                  <a:lnTo>
                    <a:pt x="1152" y="727"/>
                  </a:lnTo>
                  <a:lnTo>
                    <a:pt x="1126" y="880"/>
                  </a:lnTo>
                  <a:lnTo>
                    <a:pt x="1098" y="1062"/>
                  </a:lnTo>
                  <a:lnTo>
                    <a:pt x="781" y="3092"/>
                  </a:lnTo>
                  <a:lnTo>
                    <a:pt x="781" y="4451"/>
                  </a:lnTo>
                  <a:lnTo>
                    <a:pt x="781" y="4671"/>
                  </a:lnTo>
                  <a:lnTo>
                    <a:pt x="789" y="4852"/>
                  </a:lnTo>
                  <a:lnTo>
                    <a:pt x="796" y="4977"/>
                  </a:lnTo>
                  <a:lnTo>
                    <a:pt x="810" y="5073"/>
                  </a:lnTo>
                  <a:lnTo>
                    <a:pt x="831" y="5149"/>
                  </a:lnTo>
                  <a:lnTo>
                    <a:pt x="857" y="5197"/>
                  </a:lnTo>
                  <a:lnTo>
                    <a:pt x="890" y="5226"/>
                  </a:lnTo>
                  <a:lnTo>
                    <a:pt x="927" y="5245"/>
                  </a:lnTo>
                  <a:lnTo>
                    <a:pt x="970" y="5245"/>
                  </a:lnTo>
                  <a:lnTo>
                    <a:pt x="970" y="5389"/>
                  </a:lnTo>
                  <a:lnTo>
                    <a:pt x="409" y="5389"/>
                  </a:lnTo>
                  <a:lnTo>
                    <a:pt x="409" y="5245"/>
                  </a:lnTo>
                  <a:lnTo>
                    <a:pt x="455" y="5245"/>
                  </a:lnTo>
                  <a:lnTo>
                    <a:pt x="494" y="5226"/>
                  </a:lnTo>
                  <a:lnTo>
                    <a:pt x="527" y="5187"/>
                  </a:lnTo>
                  <a:lnTo>
                    <a:pt x="555" y="5111"/>
                  </a:lnTo>
                  <a:lnTo>
                    <a:pt x="576" y="5025"/>
                  </a:lnTo>
                  <a:lnTo>
                    <a:pt x="583" y="4938"/>
                  </a:lnTo>
                  <a:lnTo>
                    <a:pt x="591" y="4814"/>
                  </a:lnTo>
                  <a:lnTo>
                    <a:pt x="594" y="4652"/>
                  </a:lnTo>
                  <a:lnTo>
                    <a:pt x="597" y="4451"/>
                  </a:lnTo>
                  <a:lnTo>
                    <a:pt x="597" y="3188"/>
                  </a:lnTo>
                  <a:lnTo>
                    <a:pt x="236" y="919"/>
                  </a:lnTo>
                  <a:lnTo>
                    <a:pt x="206" y="737"/>
                  </a:lnTo>
                  <a:lnTo>
                    <a:pt x="182" y="603"/>
                  </a:lnTo>
                  <a:lnTo>
                    <a:pt x="163" y="489"/>
                  </a:lnTo>
                  <a:lnTo>
                    <a:pt x="151" y="422"/>
                  </a:lnTo>
                  <a:lnTo>
                    <a:pt x="135" y="364"/>
                  </a:lnTo>
                  <a:lnTo>
                    <a:pt x="114" y="307"/>
                  </a:lnTo>
                  <a:lnTo>
                    <a:pt x="89" y="249"/>
                  </a:lnTo>
                  <a:lnTo>
                    <a:pt x="56" y="182"/>
                  </a:lnTo>
                  <a:lnTo>
                    <a:pt x="44" y="163"/>
                  </a:lnTo>
                  <a:lnTo>
                    <a:pt x="32" y="144"/>
                  </a:lnTo>
                  <a:lnTo>
                    <a:pt x="16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62" y="0"/>
                  </a:lnTo>
                  <a:lnTo>
                    <a:pt x="562" y="144"/>
                  </a:lnTo>
                  <a:lnTo>
                    <a:pt x="532" y="144"/>
                  </a:lnTo>
                  <a:lnTo>
                    <a:pt x="508" y="144"/>
                  </a:lnTo>
                  <a:lnTo>
                    <a:pt x="487" y="163"/>
                  </a:lnTo>
                  <a:lnTo>
                    <a:pt x="468" y="192"/>
                  </a:lnTo>
                  <a:lnTo>
                    <a:pt x="448" y="230"/>
                  </a:lnTo>
                  <a:lnTo>
                    <a:pt x="431" y="278"/>
                  </a:lnTo>
                  <a:lnTo>
                    <a:pt x="419" y="336"/>
                  </a:lnTo>
                  <a:lnTo>
                    <a:pt x="412" y="403"/>
                  </a:lnTo>
                  <a:lnTo>
                    <a:pt x="409" y="498"/>
                  </a:lnTo>
                  <a:lnTo>
                    <a:pt x="412" y="584"/>
                  </a:lnTo>
                  <a:lnTo>
                    <a:pt x="423" y="698"/>
                  </a:lnTo>
                  <a:lnTo>
                    <a:pt x="439" y="842"/>
                  </a:lnTo>
                  <a:lnTo>
                    <a:pt x="468" y="1014"/>
                  </a:lnTo>
                  <a:lnTo>
                    <a:pt x="742" y="2748"/>
                  </a:lnTo>
                  <a:lnTo>
                    <a:pt x="1000" y="1091"/>
                  </a:lnTo>
                  <a:lnTo>
                    <a:pt x="1026" y="909"/>
                  </a:lnTo>
                  <a:lnTo>
                    <a:pt x="1043" y="766"/>
                  </a:lnTo>
                  <a:lnTo>
                    <a:pt x="1054" y="631"/>
                  </a:lnTo>
                  <a:lnTo>
                    <a:pt x="1059" y="527"/>
                  </a:lnTo>
                  <a:lnTo>
                    <a:pt x="1057" y="470"/>
                  </a:lnTo>
                  <a:lnTo>
                    <a:pt x="1054" y="422"/>
                  </a:lnTo>
                  <a:lnTo>
                    <a:pt x="1050" y="374"/>
                  </a:lnTo>
                  <a:lnTo>
                    <a:pt x="1045" y="326"/>
                  </a:lnTo>
                  <a:lnTo>
                    <a:pt x="1036" y="278"/>
                  </a:lnTo>
                  <a:lnTo>
                    <a:pt x="1026" y="240"/>
                  </a:lnTo>
                  <a:lnTo>
                    <a:pt x="1017" y="211"/>
                  </a:lnTo>
                  <a:lnTo>
                    <a:pt x="1005" y="192"/>
                  </a:lnTo>
                  <a:lnTo>
                    <a:pt x="989" y="163"/>
                  </a:lnTo>
                  <a:lnTo>
                    <a:pt x="970" y="154"/>
                  </a:lnTo>
                  <a:lnTo>
                    <a:pt x="949" y="144"/>
                  </a:lnTo>
                  <a:lnTo>
                    <a:pt x="925" y="144"/>
                  </a:lnTo>
                  <a:lnTo>
                    <a:pt x="925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05400" y="1398600"/>
              <a:ext cx="314280" cy="2028960"/>
            </a:xfrm>
            <a:custGeom>
              <a:avLst/>
              <a:gdLst/>
              <a:ahLst/>
              <a:rect l="l" t="t" r="r" b="b"/>
              <a:pathLst>
                <a:path w="872" h="5637">
                  <a:moveTo>
                    <a:pt x="785" y="0"/>
                  </a:moveTo>
                  <a:lnTo>
                    <a:pt x="785" y="1866"/>
                  </a:lnTo>
                  <a:lnTo>
                    <a:pt x="750" y="1866"/>
                  </a:lnTo>
                  <a:lnTo>
                    <a:pt x="738" y="1608"/>
                  </a:lnTo>
                  <a:lnTo>
                    <a:pt x="726" y="1378"/>
                  </a:lnTo>
                  <a:lnTo>
                    <a:pt x="708" y="1177"/>
                  </a:lnTo>
                  <a:lnTo>
                    <a:pt x="689" y="1014"/>
                  </a:lnTo>
                  <a:lnTo>
                    <a:pt x="663" y="861"/>
                  </a:lnTo>
                  <a:lnTo>
                    <a:pt x="633" y="727"/>
                  </a:lnTo>
                  <a:lnTo>
                    <a:pt x="598" y="594"/>
                  </a:lnTo>
                  <a:lnTo>
                    <a:pt x="560" y="498"/>
                  </a:lnTo>
                  <a:lnTo>
                    <a:pt x="516" y="412"/>
                  </a:lnTo>
                  <a:lnTo>
                    <a:pt x="474" y="354"/>
                  </a:lnTo>
                  <a:lnTo>
                    <a:pt x="430" y="326"/>
                  </a:lnTo>
                  <a:lnTo>
                    <a:pt x="388" y="316"/>
                  </a:lnTo>
                  <a:lnTo>
                    <a:pt x="339" y="326"/>
                  </a:lnTo>
                  <a:lnTo>
                    <a:pt x="295" y="373"/>
                  </a:lnTo>
                  <a:lnTo>
                    <a:pt x="255" y="450"/>
                  </a:lnTo>
                  <a:lnTo>
                    <a:pt x="220" y="565"/>
                  </a:lnTo>
                  <a:lnTo>
                    <a:pt x="189" y="699"/>
                  </a:lnTo>
                  <a:lnTo>
                    <a:pt x="168" y="842"/>
                  </a:lnTo>
                  <a:lnTo>
                    <a:pt x="157" y="985"/>
                  </a:lnTo>
                  <a:lnTo>
                    <a:pt x="155" y="1148"/>
                  </a:lnTo>
                  <a:lnTo>
                    <a:pt x="157" y="1263"/>
                  </a:lnTo>
                  <a:lnTo>
                    <a:pt x="163" y="1378"/>
                  </a:lnTo>
                  <a:lnTo>
                    <a:pt x="177" y="1493"/>
                  </a:lnTo>
                  <a:lnTo>
                    <a:pt x="196" y="1598"/>
                  </a:lnTo>
                  <a:lnTo>
                    <a:pt x="236" y="1751"/>
                  </a:lnTo>
                  <a:lnTo>
                    <a:pt x="297" y="1943"/>
                  </a:lnTo>
                  <a:lnTo>
                    <a:pt x="376" y="2152"/>
                  </a:lnTo>
                  <a:lnTo>
                    <a:pt x="480" y="2392"/>
                  </a:lnTo>
                  <a:lnTo>
                    <a:pt x="563" y="2574"/>
                  </a:lnTo>
                  <a:lnTo>
                    <a:pt x="633" y="2737"/>
                  </a:lnTo>
                  <a:lnTo>
                    <a:pt x="689" y="2880"/>
                  </a:lnTo>
                  <a:lnTo>
                    <a:pt x="731" y="3005"/>
                  </a:lnTo>
                  <a:lnTo>
                    <a:pt x="762" y="3110"/>
                  </a:lnTo>
                  <a:lnTo>
                    <a:pt x="790" y="3235"/>
                  </a:lnTo>
                  <a:lnTo>
                    <a:pt x="815" y="3369"/>
                  </a:lnTo>
                  <a:lnTo>
                    <a:pt x="836" y="3512"/>
                  </a:lnTo>
                  <a:lnTo>
                    <a:pt x="850" y="3655"/>
                  </a:lnTo>
                  <a:lnTo>
                    <a:pt x="862" y="3808"/>
                  </a:lnTo>
                  <a:lnTo>
                    <a:pt x="869" y="3971"/>
                  </a:lnTo>
                  <a:lnTo>
                    <a:pt x="871" y="4134"/>
                  </a:lnTo>
                  <a:lnTo>
                    <a:pt x="862" y="4421"/>
                  </a:lnTo>
                  <a:lnTo>
                    <a:pt x="841" y="4699"/>
                  </a:lnTo>
                  <a:lnTo>
                    <a:pt x="805" y="4947"/>
                  </a:lnTo>
                  <a:lnTo>
                    <a:pt x="757" y="5186"/>
                  </a:lnTo>
                  <a:lnTo>
                    <a:pt x="693" y="5387"/>
                  </a:lnTo>
                  <a:lnTo>
                    <a:pt x="624" y="5521"/>
                  </a:lnTo>
                  <a:lnTo>
                    <a:pt x="544" y="5598"/>
                  </a:lnTo>
                  <a:lnTo>
                    <a:pt x="458" y="5636"/>
                  </a:lnTo>
                  <a:lnTo>
                    <a:pt x="430" y="5626"/>
                  </a:lnTo>
                  <a:lnTo>
                    <a:pt x="401" y="5617"/>
                  </a:lnTo>
                  <a:lnTo>
                    <a:pt x="376" y="5607"/>
                  </a:lnTo>
                  <a:lnTo>
                    <a:pt x="351" y="5598"/>
                  </a:lnTo>
                  <a:lnTo>
                    <a:pt x="332" y="5569"/>
                  </a:lnTo>
                  <a:lnTo>
                    <a:pt x="307" y="5540"/>
                  </a:lnTo>
                  <a:lnTo>
                    <a:pt x="272" y="5502"/>
                  </a:lnTo>
                  <a:lnTo>
                    <a:pt x="229" y="5454"/>
                  </a:lnTo>
                  <a:lnTo>
                    <a:pt x="184" y="5397"/>
                  </a:lnTo>
                  <a:lnTo>
                    <a:pt x="150" y="5358"/>
                  </a:lnTo>
                  <a:lnTo>
                    <a:pt x="124" y="5330"/>
                  </a:lnTo>
                  <a:lnTo>
                    <a:pt x="108" y="5330"/>
                  </a:lnTo>
                  <a:lnTo>
                    <a:pt x="96" y="5330"/>
                  </a:lnTo>
                  <a:lnTo>
                    <a:pt x="84" y="5339"/>
                  </a:lnTo>
                  <a:lnTo>
                    <a:pt x="77" y="5358"/>
                  </a:lnTo>
                  <a:lnTo>
                    <a:pt x="70" y="5387"/>
                  </a:lnTo>
                  <a:lnTo>
                    <a:pt x="63" y="5416"/>
                  </a:lnTo>
                  <a:lnTo>
                    <a:pt x="56" y="5473"/>
                  </a:lnTo>
                  <a:lnTo>
                    <a:pt x="51" y="5550"/>
                  </a:lnTo>
                  <a:lnTo>
                    <a:pt x="49" y="5636"/>
                  </a:lnTo>
                  <a:lnTo>
                    <a:pt x="14" y="5636"/>
                  </a:lnTo>
                  <a:lnTo>
                    <a:pt x="14" y="3789"/>
                  </a:lnTo>
                  <a:lnTo>
                    <a:pt x="49" y="3789"/>
                  </a:lnTo>
                  <a:lnTo>
                    <a:pt x="61" y="4057"/>
                  </a:lnTo>
                  <a:lnTo>
                    <a:pt x="77" y="4287"/>
                  </a:lnTo>
                  <a:lnTo>
                    <a:pt x="96" y="4488"/>
                  </a:lnTo>
                  <a:lnTo>
                    <a:pt x="117" y="4651"/>
                  </a:lnTo>
                  <a:lnTo>
                    <a:pt x="141" y="4785"/>
                  </a:lnTo>
                  <a:lnTo>
                    <a:pt x="170" y="4909"/>
                  </a:lnTo>
                  <a:lnTo>
                    <a:pt x="206" y="5023"/>
                  </a:lnTo>
                  <a:lnTo>
                    <a:pt x="248" y="5128"/>
                  </a:lnTo>
                  <a:lnTo>
                    <a:pt x="293" y="5205"/>
                  </a:lnTo>
                  <a:lnTo>
                    <a:pt x="339" y="5272"/>
                  </a:lnTo>
                  <a:lnTo>
                    <a:pt x="386" y="5310"/>
                  </a:lnTo>
                  <a:lnTo>
                    <a:pt x="437" y="5330"/>
                  </a:lnTo>
                  <a:lnTo>
                    <a:pt x="492" y="5310"/>
                  </a:lnTo>
                  <a:lnTo>
                    <a:pt x="544" y="5263"/>
                  </a:lnTo>
                  <a:lnTo>
                    <a:pt x="589" y="5167"/>
                  </a:lnTo>
                  <a:lnTo>
                    <a:pt x="629" y="5052"/>
                  </a:lnTo>
                  <a:lnTo>
                    <a:pt x="658" y="4909"/>
                  </a:lnTo>
                  <a:lnTo>
                    <a:pt x="679" y="4766"/>
                  </a:lnTo>
                  <a:lnTo>
                    <a:pt x="693" y="4612"/>
                  </a:lnTo>
                  <a:lnTo>
                    <a:pt x="698" y="4440"/>
                  </a:lnTo>
                  <a:lnTo>
                    <a:pt x="696" y="4335"/>
                  </a:lnTo>
                  <a:lnTo>
                    <a:pt x="691" y="4229"/>
                  </a:lnTo>
                  <a:lnTo>
                    <a:pt x="682" y="4134"/>
                  </a:lnTo>
                  <a:lnTo>
                    <a:pt x="672" y="4028"/>
                  </a:lnTo>
                  <a:lnTo>
                    <a:pt x="656" y="3923"/>
                  </a:lnTo>
                  <a:lnTo>
                    <a:pt x="637" y="3827"/>
                  </a:lnTo>
                  <a:lnTo>
                    <a:pt x="614" y="3741"/>
                  </a:lnTo>
                  <a:lnTo>
                    <a:pt x="591" y="3655"/>
                  </a:lnTo>
                  <a:lnTo>
                    <a:pt x="563" y="3569"/>
                  </a:lnTo>
                  <a:lnTo>
                    <a:pt x="518" y="3464"/>
                  </a:lnTo>
                  <a:lnTo>
                    <a:pt x="460" y="3321"/>
                  </a:lnTo>
                  <a:lnTo>
                    <a:pt x="386" y="3148"/>
                  </a:lnTo>
                  <a:lnTo>
                    <a:pt x="307" y="2966"/>
                  </a:lnTo>
                  <a:lnTo>
                    <a:pt x="239" y="2804"/>
                  </a:lnTo>
                  <a:lnTo>
                    <a:pt x="184" y="2660"/>
                  </a:lnTo>
                  <a:lnTo>
                    <a:pt x="145" y="2545"/>
                  </a:lnTo>
                  <a:lnTo>
                    <a:pt x="110" y="2421"/>
                  </a:lnTo>
                  <a:lnTo>
                    <a:pt x="82" y="2296"/>
                  </a:lnTo>
                  <a:lnTo>
                    <a:pt x="58" y="2172"/>
                  </a:lnTo>
                  <a:lnTo>
                    <a:pt x="37" y="2039"/>
                  </a:lnTo>
                  <a:lnTo>
                    <a:pt x="18" y="1895"/>
                  </a:lnTo>
                  <a:lnTo>
                    <a:pt x="7" y="1742"/>
                  </a:lnTo>
                  <a:lnTo>
                    <a:pt x="0" y="1589"/>
                  </a:lnTo>
                  <a:lnTo>
                    <a:pt x="0" y="1426"/>
                  </a:lnTo>
                  <a:lnTo>
                    <a:pt x="4" y="1138"/>
                  </a:lnTo>
                  <a:lnTo>
                    <a:pt x="25" y="880"/>
                  </a:lnTo>
                  <a:lnTo>
                    <a:pt x="61" y="622"/>
                  </a:lnTo>
                  <a:lnTo>
                    <a:pt x="110" y="412"/>
                  </a:lnTo>
                  <a:lnTo>
                    <a:pt x="166" y="230"/>
                  </a:lnTo>
                  <a:lnTo>
                    <a:pt x="232" y="96"/>
                  </a:lnTo>
                  <a:lnTo>
                    <a:pt x="305" y="19"/>
                  </a:lnTo>
                  <a:lnTo>
                    <a:pt x="386" y="0"/>
                  </a:lnTo>
                  <a:lnTo>
                    <a:pt x="437" y="10"/>
                  </a:lnTo>
                  <a:lnTo>
                    <a:pt x="490" y="48"/>
                  </a:lnTo>
                  <a:lnTo>
                    <a:pt x="546" y="115"/>
                  </a:lnTo>
                  <a:lnTo>
                    <a:pt x="607" y="211"/>
                  </a:lnTo>
                  <a:lnTo>
                    <a:pt x="631" y="249"/>
                  </a:lnTo>
                  <a:lnTo>
                    <a:pt x="651" y="278"/>
                  </a:lnTo>
                  <a:lnTo>
                    <a:pt x="668" y="297"/>
                  </a:lnTo>
                  <a:lnTo>
                    <a:pt x="682" y="306"/>
                  </a:lnTo>
                  <a:lnTo>
                    <a:pt x="693" y="297"/>
                  </a:lnTo>
                  <a:lnTo>
                    <a:pt x="703" y="287"/>
                  </a:lnTo>
                  <a:lnTo>
                    <a:pt x="715" y="268"/>
                  </a:lnTo>
                  <a:lnTo>
                    <a:pt x="724" y="239"/>
                  </a:lnTo>
                  <a:lnTo>
                    <a:pt x="731" y="201"/>
                  </a:lnTo>
                  <a:lnTo>
                    <a:pt x="738" y="144"/>
                  </a:lnTo>
                  <a:lnTo>
                    <a:pt x="743" y="77"/>
                  </a:lnTo>
                  <a:lnTo>
                    <a:pt x="750" y="0"/>
                  </a:lnTo>
                  <a:lnTo>
                    <a:pt x="785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8360" y="1442880"/>
              <a:ext cx="395280" cy="1940040"/>
            </a:xfrm>
            <a:custGeom>
              <a:avLst/>
              <a:gdLst/>
              <a:ahLst/>
              <a:rect l="l" t="t" r="r" b="b"/>
              <a:pathLst>
                <a:path w="1100" h="5390">
                  <a:moveTo>
                    <a:pt x="1084" y="0"/>
                  </a:moveTo>
                  <a:lnTo>
                    <a:pt x="1099" y="1263"/>
                  </a:lnTo>
                  <a:lnTo>
                    <a:pt x="1061" y="1263"/>
                  </a:lnTo>
                  <a:lnTo>
                    <a:pt x="1054" y="1110"/>
                  </a:lnTo>
                  <a:lnTo>
                    <a:pt x="1047" y="976"/>
                  </a:lnTo>
                  <a:lnTo>
                    <a:pt x="1040" y="871"/>
                  </a:lnTo>
                  <a:lnTo>
                    <a:pt x="1033" y="794"/>
                  </a:lnTo>
                  <a:lnTo>
                    <a:pt x="1015" y="679"/>
                  </a:lnTo>
                  <a:lnTo>
                    <a:pt x="996" y="593"/>
                  </a:lnTo>
                  <a:lnTo>
                    <a:pt x="975" y="498"/>
                  </a:lnTo>
                  <a:lnTo>
                    <a:pt x="954" y="441"/>
                  </a:lnTo>
                  <a:lnTo>
                    <a:pt x="925" y="393"/>
                  </a:lnTo>
                  <a:lnTo>
                    <a:pt x="895" y="355"/>
                  </a:lnTo>
                  <a:lnTo>
                    <a:pt x="861" y="336"/>
                  </a:lnTo>
                  <a:lnTo>
                    <a:pt x="823" y="336"/>
                  </a:lnTo>
                  <a:lnTo>
                    <a:pt x="638" y="336"/>
                  </a:lnTo>
                  <a:lnTo>
                    <a:pt x="638" y="4451"/>
                  </a:lnTo>
                  <a:lnTo>
                    <a:pt x="638" y="4671"/>
                  </a:lnTo>
                  <a:lnTo>
                    <a:pt x="643" y="4852"/>
                  </a:lnTo>
                  <a:lnTo>
                    <a:pt x="652" y="4977"/>
                  </a:lnTo>
                  <a:lnTo>
                    <a:pt x="664" y="5073"/>
                  </a:lnTo>
                  <a:lnTo>
                    <a:pt x="685" y="5149"/>
                  </a:lnTo>
                  <a:lnTo>
                    <a:pt x="711" y="5197"/>
                  </a:lnTo>
                  <a:lnTo>
                    <a:pt x="741" y="5226"/>
                  </a:lnTo>
                  <a:lnTo>
                    <a:pt x="778" y="5245"/>
                  </a:lnTo>
                  <a:lnTo>
                    <a:pt x="825" y="5245"/>
                  </a:lnTo>
                  <a:lnTo>
                    <a:pt x="825" y="5389"/>
                  </a:lnTo>
                  <a:lnTo>
                    <a:pt x="266" y="5389"/>
                  </a:lnTo>
                  <a:lnTo>
                    <a:pt x="266" y="5245"/>
                  </a:lnTo>
                  <a:lnTo>
                    <a:pt x="313" y="5245"/>
                  </a:lnTo>
                  <a:lnTo>
                    <a:pt x="351" y="5226"/>
                  </a:lnTo>
                  <a:lnTo>
                    <a:pt x="384" y="5187"/>
                  </a:lnTo>
                  <a:lnTo>
                    <a:pt x="411" y="5111"/>
                  </a:lnTo>
                  <a:lnTo>
                    <a:pt x="432" y="5025"/>
                  </a:lnTo>
                  <a:lnTo>
                    <a:pt x="439" y="4938"/>
                  </a:lnTo>
                  <a:lnTo>
                    <a:pt x="446" y="4814"/>
                  </a:lnTo>
                  <a:lnTo>
                    <a:pt x="451" y="4652"/>
                  </a:lnTo>
                  <a:lnTo>
                    <a:pt x="453" y="4451"/>
                  </a:lnTo>
                  <a:lnTo>
                    <a:pt x="453" y="336"/>
                  </a:lnTo>
                  <a:lnTo>
                    <a:pt x="297" y="336"/>
                  </a:lnTo>
                  <a:lnTo>
                    <a:pt x="252" y="336"/>
                  </a:lnTo>
                  <a:lnTo>
                    <a:pt x="218" y="345"/>
                  </a:lnTo>
                  <a:lnTo>
                    <a:pt x="187" y="364"/>
                  </a:lnTo>
                  <a:lnTo>
                    <a:pt x="166" y="393"/>
                  </a:lnTo>
                  <a:lnTo>
                    <a:pt x="140" y="431"/>
                  </a:lnTo>
                  <a:lnTo>
                    <a:pt x="116" y="498"/>
                  </a:lnTo>
                  <a:lnTo>
                    <a:pt x="95" y="584"/>
                  </a:lnTo>
                  <a:lnTo>
                    <a:pt x="79" y="689"/>
                  </a:lnTo>
                  <a:lnTo>
                    <a:pt x="63" y="804"/>
                  </a:lnTo>
                  <a:lnTo>
                    <a:pt x="51" y="938"/>
                  </a:lnTo>
                  <a:lnTo>
                    <a:pt x="42" y="1091"/>
                  </a:lnTo>
                  <a:lnTo>
                    <a:pt x="37" y="1263"/>
                  </a:lnTo>
                  <a:lnTo>
                    <a:pt x="0" y="1263"/>
                  </a:lnTo>
                  <a:lnTo>
                    <a:pt x="14" y="0"/>
                  </a:lnTo>
                  <a:lnTo>
                    <a:pt x="1084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95960" y="1398600"/>
              <a:ext cx="501480" cy="1984320"/>
            </a:xfrm>
            <a:custGeom>
              <a:avLst/>
              <a:gdLst/>
              <a:ahLst/>
              <a:rect l="l" t="t" r="r" b="b"/>
              <a:pathLst>
                <a:path w="1395" h="5513">
                  <a:moveTo>
                    <a:pt x="862" y="3416"/>
                  </a:moveTo>
                  <a:lnTo>
                    <a:pt x="646" y="1244"/>
                  </a:lnTo>
                  <a:lnTo>
                    <a:pt x="414" y="3416"/>
                  </a:lnTo>
                  <a:lnTo>
                    <a:pt x="862" y="3416"/>
                  </a:lnTo>
                  <a:lnTo>
                    <a:pt x="862" y="3416"/>
                  </a:lnTo>
                  <a:close/>
                  <a:moveTo>
                    <a:pt x="893" y="3712"/>
                  </a:moveTo>
                  <a:lnTo>
                    <a:pt x="383" y="3712"/>
                  </a:lnTo>
                  <a:lnTo>
                    <a:pt x="295" y="4555"/>
                  </a:lnTo>
                  <a:lnTo>
                    <a:pt x="281" y="4699"/>
                  </a:lnTo>
                  <a:lnTo>
                    <a:pt x="269" y="4823"/>
                  </a:lnTo>
                  <a:lnTo>
                    <a:pt x="262" y="4928"/>
                  </a:lnTo>
                  <a:lnTo>
                    <a:pt x="262" y="5023"/>
                  </a:lnTo>
                  <a:lnTo>
                    <a:pt x="262" y="5081"/>
                  </a:lnTo>
                  <a:lnTo>
                    <a:pt x="269" y="5138"/>
                  </a:lnTo>
                  <a:lnTo>
                    <a:pt x="276" y="5186"/>
                  </a:lnTo>
                  <a:lnTo>
                    <a:pt x="290" y="5234"/>
                  </a:lnTo>
                  <a:lnTo>
                    <a:pt x="306" y="5282"/>
                  </a:lnTo>
                  <a:lnTo>
                    <a:pt x="335" y="5320"/>
                  </a:lnTo>
                  <a:lnTo>
                    <a:pt x="369" y="5349"/>
                  </a:lnTo>
                  <a:lnTo>
                    <a:pt x="414" y="5368"/>
                  </a:lnTo>
                  <a:lnTo>
                    <a:pt x="414" y="5512"/>
                  </a:lnTo>
                  <a:lnTo>
                    <a:pt x="0" y="5512"/>
                  </a:lnTo>
                  <a:lnTo>
                    <a:pt x="0" y="5368"/>
                  </a:lnTo>
                  <a:lnTo>
                    <a:pt x="37" y="5330"/>
                  </a:lnTo>
                  <a:lnTo>
                    <a:pt x="67" y="5301"/>
                  </a:lnTo>
                  <a:lnTo>
                    <a:pt x="91" y="5253"/>
                  </a:lnTo>
                  <a:lnTo>
                    <a:pt x="107" y="5205"/>
                  </a:lnTo>
                  <a:lnTo>
                    <a:pt x="131" y="5081"/>
                  </a:lnTo>
                  <a:lnTo>
                    <a:pt x="159" y="4909"/>
                  </a:lnTo>
                  <a:lnTo>
                    <a:pt x="187" y="4689"/>
                  </a:lnTo>
                  <a:lnTo>
                    <a:pt x="217" y="4421"/>
                  </a:lnTo>
                  <a:lnTo>
                    <a:pt x="682" y="0"/>
                  </a:lnTo>
                  <a:lnTo>
                    <a:pt x="718" y="0"/>
                  </a:lnTo>
                  <a:lnTo>
                    <a:pt x="1169" y="4478"/>
                  </a:lnTo>
                  <a:lnTo>
                    <a:pt x="1195" y="4718"/>
                  </a:lnTo>
                  <a:lnTo>
                    <a:pt x="1220" y="4919"/>
                  </a:lnTo>
                  <a:lnTo>
                    <a:pt x="1246" y="5071"/>
                  </a:lnTo>
                  <a:lnTo>
                    <a:pt x="1270" y="5176"/>
                  </a:lnTo>
                  <a:lnTo>
                    <a:pt x="1293" y="5253"/>
                  </a:lnTo>
                  <a:lnTo>
                    <a:pt x="1321" y="5310"/>
                  </a:lnTo>
                  <a:lnTo>
                    <a:pt x="1354" y="5349"/>
                  </a:lnTo>
                  <a:lnTo>
                    <a:pt x="1394" y="5368"/>
                  </a:lnTo>
                  <a:lnTo>
                    <a:pt x="1394" y="5512"/>
                  </a:lnTo>
                  <a:lnTo>
                    <a:pt x="874" y="5512"/>
                  </a:lnTo>
                  <a:lnTo>
                    <a:pt x="874" y="5368"/>
                  </a:lnTo>
                  <a:lnTo>
                    <a:pt x="909" y="5349"/>
                  </a:lnTo>
                  <a:lnTo>
                    <a:pt x="940" y="5330"/>
                  </a:lnTo>
                  <a:lnTo>
                    <a:pt x="964" y="5291"/>
                  </a:lnTo>
                  <a:lnTo>
                    <a:pt x="982" y="5253"/>
                  </a:lnTo>
                  <a:lnTo>
                    <a:pt x="991" y="5196"/>
                  </a:lnTo>
                  <a:lnTo>
                    <a:pt x="1000" y="5148"/>
                  </a:lnTo>
                  <a:lnTo>
                    <a:pt x="1005" y="5090"/>
                  </a:lnTo>
                  <a:lnTo>
                    <a:pt x="1007" y="5033"/>
                  </a:lnTo>
                  <a:lnTo>
                    <a:pt x="1005" y="4928"/>
                  </a:lnTo>
                  <a:lnTo>
                    <a:pt x="998" y="4804"/>
                  </a:lnTo>
                  <a:lnTo>
                    <a:pt x="986" y="4651"/>
                  </a:lnTo>
                  <a:lnTo>
                    <a:pt x="971" y="4478"/>
                  </a:lnTo>
                  <a:lnTo>
                    <a:pt x="893" y="3712"/>
                  </a:lnTo>
                  <a:lnTo>
                    <a:pt x="893" y="3712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c0c0c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29480" y="1442880"/>
              <a:ext cx="396720" cy="1940040"/>
            </a:xfrm>
            <a:custGeom>
              <a:avLst/>
              <a:gdLst/>
              <a:ahLst/>
              <a:rect l="l" t="t" r="r" b="b"/>
              <a:pathLst>
                <a:path w="1102" h="5390">
                  <a:moveTo>
                    <a:pt x="1087" y="0"/>
                  </a:moveTo>
                  <a:lnTo>
                    <a:pt x="1101" y="1263"/>
                  </a:lnTo>
                  <a:lnTo>
                    <a:pt x="1064" y="1263"/>
                  </a:lnTo>
                  <a:lnTo>
                    <a:pt x="1056" y="1110"/>
                  </a:lnTo>
                  <a:lnTo>
                    <a:pt x="1049" y="976"/>
                  </a:lnTo>
                  <a:lnTo>
                    <a:pt x="1042" y="871"/>
                  </a:lnTo>
                  <a:lnTo>
                    <a:pt x="1035" y="794"/>
                  </a:lnTo>
                  <a:lnTo>
                    <a:pt x="1016" y="679"/>
                  </a:lnTo>
                  <a:lnTo>
                    <a:pt x="998" y="593"/>
                  </a:lnTo>
                  <a:lnTo>
                    <a:pt x="976" y="498"/>
                  </a:lnTo>
                  <a:lnTo>
                    <a:pt x="955" y="441"/>
                  </a:lnTo>
                  <a:lnTo>
                    <a:pt x="928" y="393"/>
                  </a:lnTo>
                  <a:lnTo>
                    <a:pt x="897" y="355"/>
                  </a:lnTo>
                  <a:lnTo>
                    <a:pt x="862" y="336"/>
                  </a:lnTo>
                  <a:lnTo>
                    <a:pt x="825" y="336"/>
                  </a:lnTo>
                  <a:lnTo>
                    <a:pt x="640" y="336"/>
                  </a:lnTo>
                  <a:lnTo>
                    <a:pt x="640" y="4451"/>
                  </a:lnTo>
                  <a:lnTo>
                    <a:pt x="640" y="4671"/>
                  </a:lnTo>
                  <a:lnTo>
                    <a:pt x="644" y="4852"/>
                  </a:lnTo>
                  <a:lnTo>
                    <a:pt x="654" y="4977"/>
                  </a:lnTo>
                  <a:lnTo>
                    <a:pt x="665" y="5073"/>
                  </a:lnTo>
                  <a:lnTo>
                    <a:pt x="687" y="5149"/>
                  </a:lnTo>
                  <a:lnTo>
                    <a:pt x="713" y="5197"/>
                  </a:lnTo>
                  <a:lnTo>
                    <a:pt x="743" y="5226"/>
                  </a:lnTo>
                  <a:lnTo>
                    <a:pt x="781" y="5245"/>
                  </a:lnTo>
                  <a:lnTo>
                    <a:pt x="827" y="5245"/>
                  </a:lnTo>
                  <a:lnTo>
                    <a:pt x="827" y="5389"/>
                  </a:lnTo>
                  <a:lnTo>
                    <a:pt x="267" y="5389"/>
                  </a:lnTo>
                  <a:lnTo>
                    <a:pt x="267" y="5245"/>
                  </a:lnTo>
                  <a:lnTo>
                    <a:pt x="314" y="5245"/>
                  </a:lnTo>
                  <a:lnTo>
                    <a:pt x="351" y="5226"/>
                  </a:lnTo>
                  <a:lnTo>
                    <a:pt x="384" y="5187"/>
                  </a:lnTo>
                  <a:lnTo>
                    <a:pt x="412" y="5111"/>
                  </a:lnTo>
                  <a:lnTo>
                    <a:pt x="434" y="5025"/>
                  </a:lnTo>
                  <a:lnTo>
                    <a:pt x="441" y="4938"/>
                  </a:lnTo>
                  <a:lnTo>
                    <a:pt x="448" y="4814"/>
                  </a:lnTo>
                  <a:lnTo>
                    <a:pt x="452" y="4652"/>
                  </a:lnTo>
                  <a:lnTo>
                    <a:pt x="455" y="4451"/>
                  </a:lnTo>
                  <a:lnTo>
                    <a:pt x="455" y="336"/>
                  </a:lnTo>
                  <a:lnTo>
                    <a:pt x="298" y="336"/>
                  </a:lnTo>
                  <a:lnTo>
                    <a:pt x="253" y="336"/>
                  </a:lnTo>
                  <a:lnTo>
                    <a:pt x="218" y="345"/>
                  </a:lnTo>
                  <a:lnTo>
                    <a:pt x="187" y="364"/>
                  </a:lnTo>
                  <a:lnTo>
                    <a:pt x="166" y="393"/>
                  </a:lnTo>
                  <a:lnTo>
                    <a:pt x="141" y="431"/>
                  </a:lnTo>
                  <a:lnTo>
                    <a:pt x="118" y="498"/>
                  </a:lnTo>
                  <a:lnTo>
                    <a:pt x="97" y="584"/>
                  </a:lnTo>
                  <a:lnTo>
                    <a:pt x="80" y="689"/>
                  </a:lnTo>
                  <a:lnTo>
                    <a:pt x="64" y="804"/>
                  </a:lnTo>
                  <a:lnTo>
                    <a:pt x="52" y="938"/>
                  </a:lnTo>
                  <a:lnTo>
                    <a:pt x="43" y="1091"/>
                  </a:lnTo>
                  <a:lnTo>
                    <a:pt x="38" y="1263"/>
                  </a:lnTo>
                  <a:lnTo>
                    <a:pt x="0" y="1263"/>
                  </a:lnTo>
                  <a:lnTo>
                    <a:pt x="14" y="0"/>
                  </a:lnTo>
                  <a:lnTo>
                    <a:pt x="1087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49960" y="1442880"/>
              <a:ext cx="496800" cy="1940040"/>
            </a:xfrm>
            <a:custGeom>
              <a:avLst/>
              <a:gdLst/>
              <a:ahLst/>
              <a:rect l="l" t="t" r="r" b="b"/>
              <a:pathLst>
                <a:path w="1381" h="5390">
                  <a:moveTo>
                    <a:pt x="922" y="0"/>
                  </a:moveTo>
                  <a:lnTo>
                    <a:pt x="1380" y="0"/>
                  </a:lnTo>
                  <a:lnTo>
                    <a:pt x="1380" y="144"/>
                  </a:lnTo>
                  <a:lnTo>
                    <a:pt x="1355" y="144"/>
                  </a:lnTo>
                  <a:lnTo>
                    <a:pt x="1341" y="144"/>
                  </a:lnTo>
                  <a:lnTo>
                    <a:pt x="1323" y="163"/>
                  </a:lnTo>
                  <a:lnTo>
                    <a:pt x="1304" y="192"/>
                  </a:lnTo>
                  <a:lnTo>
                    <a:pt x="1283" y="230"/>
                  </a:lnTo>
                  <a:lnTo>
                    <a:pt x="1257" y="278"/>
                  </a:lnTo>
                  <a:lnTo>
                    <a:pt x="1233" y="345"/>
                  </a:lnTo>
                  <a:lnTo>
                    <a:pt x="1212" y="412"/>
                  </a:lnTo>
                  <a:lnTo>
                    <a:pt x="1194" y="498"/>
                  </a:lnTo>
                  <a:lnTo>
                    <a:pt x="1173" y="603"/>
                  </a:lnTo>
                  <a:lnTo>
                    <a:pt x="1149" y="727"/>
                  </a:lnTo>
                  <a:lnTo>
                    <a:pt x="1124" y="880"/>
                  </a:lnTo>
                  <a:lnTo>
                    <a:pt x="1095" y="1062"/>
                  </a:lnTo>
                  <a:lnTo>
                    <a:pt x="780" y="3092"/>
                  </a:lnTo>
                  <a:lnTo>
                    <a:pt x="780" y="4451"/>
                  </a:lnTo>
                  <a:lnTo>
                    <a:pt x="780" y="4671"/>
                  </a:lnTo>
                  <a:lnTo>
                    <a:pt x="787" y="4852"/>
                  </a:lnTo>
                  <a:lnTo>
                    <a:pt x="794" y="4977"/>
                  </a:lnTo>
                  <a:lnTo>
                    <a:pt x="808" y="5073"/>
                  </a:lnTo>
                  <a:lnTo>
                    <a:pt x="829" y="5149"/>
                  </a:lnTo>
                  <a:lnTo>
                    <a:pt x="855" y="5197"/>
                  </a:lnTo>
                  <a:lnTo>
                    <a:pt x="888" y="5226"/>
                  </a:lnTo>
                  <a:lnTo>
                    <a:pt x="925" y="5245"/>
                  </a:lnTo>
                  <a:lnTo>
                    <a:pt x="967" y="5245"/>
                  </a:lnTo>
                  <a:lnTo>
                    <a:pt x="967" y="5389"/>
                  </a:lnTo>
                  <a:lnTo>
                    <a:pt x="409" y="5389"/>
                  </a:lnTo>
                  <a:lnTo>
                    <a:pt x="409" y="5245"/>
                  </a:lnTo>
                  <a:lnTo>
                    <a:pt x="455" y="5245"/>
                  </a:lnTo>
                  <a:lnTo>
                    <a:pt x="492" y="5226"/>
                  </a:lnTo>
                  <a:lnTo>
                    <a:pt x="525" y="5187"/>
                  </a:lnTo>
                  <a:lnTo>
                    <a:pt x="553" y="5111"/>
                  </a:lnTo>
                  <a:lnTo>
                    <a:pt x="574" y="5025"/>
                  </a:lnTo>
                  <a:lnTo>
                    <a:pt x="581" y="4938"/>
                  </a:lnTo>
                  <a:lnTo>
                    <a:pt x="588" y="4814"/>
                  </a:lnTo>
                  <a:lnTo>
                    <a:pt x="592" y="4652"/>
                  </a:lnTo>
                  <a:lnTo>
                    <a:pt x="595" y="4451"/>
                  </a:lnTo>
                  <a:lnTo>
                    <a:pt x="595" y="3188"/>
                  </a:lnTo>
                  <a:lnTo>
                    <a:pt x="235" y="919"/>
                  </a:lnTo>
                  <a:lnTo>
                    <a:pt x="205" y="737"/>
                  </a:lnTo>
                  <a:lnTo>
                    <a:pt x="181" y="603"/>
                  </a:lnTo>
                  <a:lnTo>
                    <a:pt x="162" y="489"/>
                  </a:lnTo>
                  <a:lnTo>
                    <a:pt x="151" y="422"/>
                  </a:lnTo>
                  <a:lnTo>
                    <a:pt x="134" y="364"/>
                  </a:lnTo>
                  <a:lnTo>
                    <a:pt x="113" y="307"/>
                  </a:lnTo>
                  <a:lnTo>
                    <a:pt x="88" y="249"/>
                  </a:lnTo>
                  <a:lnTo>
                    <a:pt x="55" y="182"/>
                  </a:lnTo>
                  <a:lnTo>
                    <a:pt x="43" y="163"/>
                  </a:lnTo>
                  <a:lnTo>
                    <a:pt x="32" y="144"/>
                  </a:lnTo>
                  <a:lnTo>
                    <a:pt x="15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44"/>
                  </a:lnTo>
                  <a:lnTo>
                    <a:pt x="530" y="144"/>
                  </a:lnTo>
                  <a:lnTo>
                    <a:pt x="506" y="144"/>
                  </a:lnTo>
                  <a:lnTo>
                    <a:pt x="485" y="163"/>
                  </a:lnTo>
                  <a:lnTo>
                    <a:pt x="466" y="192"/>
                  </a:lnTo>
                  <a:lnTo>
                    <a:pt x="448" y="230"/>
                  </a:lnTo>
                  <a:lnTo>
                    <a:pt x="429" y="278"/>
                  </a:lnTo>
                  <a:lnTo>
                    <a:pt x="417" y="336"/>
                  </a:lnTo>
                  <a:lnTo>
                    <a:pt x="411" y="403"/>
                  </a:lnTo>
                  <a:lnTo>
                    <a:pt x="409" y="498"/>
                  </a:lnTo>
                  <a:lnTo>
                    <a:pt x="411" y="584"/>
                  </a:lnTo>
                  <a:lnTo>
                    <a:pt x="422" y="698"/>
                  </a:lnTo>
                  <a:lnTo>
                    <a:pt x="438" y="842"/>
                  </a:lnTo>
                  <a:lnTo>
                    <a:pt x="466" y="1014"/>
                  </a:lnTo>
                  <a:lnTo>
                    <a:pt x="740" y="2748"/>
                  </a:lnTo>
                  <a:lnTo>
                    <a:pt x="997" y="1091"/>
                  </a:lnTo>
                  <a:lnTo>
                    <a:pt x="1023" y="909"/>
                  </a:lnTo>
                  <a:lnTo>
                    <a:pt x="1040" y="766"/>
                  </a:lnTo>
                  <a:lnTo>
                    <a:pt x="1051" y="631"/>
                  </a:lnTo>
                  <a:lnTo>
                    <a:pt x="1055" y="527"/>
                  </a:lnTo>
                  <a:lnTo>
                    <a:pt x="1053" y="470"/>
                  </a:lnTo>
                  <a:lnTo>
                    <a:pt x="1051" y="422"/>
                  </a:lnTo>
                  <a:lnTo>
                    <a:pt x="1047" y="374"/>
                  </a:lnTo>
                  <a:lnTo>
                    <a:pt x="1042" y="326"/>
                  </a:lnTo>
                  <a:lnTo>
                    <a:pt x="1033" y="278"/>
                  </a:lnTo>
                  <a:lnTo>
                    <a:pt x="1023" y="240"/>
                  </a:lnTo>
                  <a:lnTo>
                    <a:pt x="1014" y="211"/>
                  </a:lnTo>
                  <a:lnTo>
                    <a:pt x="1002" y="192"/>
                  </a:lnTo>
                  <a:lnTo>
                    <a:pt x="986" y="163"/>
                  </a:lnTo>
                  <a:lnTo>
                    <a:pt x="967" y="154"/>
                  </a:lnTo>
                  <a:lnTo>
                    <a:pt x="946" y="144"/>
                  </a:lnTo>
                  <a:lnTo>
                    <a:pt x="922" y="144"/>
                  </a:lnTo>
                  <a:lnTo>
                    <a:pt x="922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02560" y="1398600"/>
              <a:ext cx="314280" cy="2028960"/>
            </a:xfrm>
            <a:custGeom>
              <a:avLst/>
              <a:gdLst/>
              <a:ahLst/>
              <a:rect l="l" t="t" r="r" b="b"/>
              <a:pathLst>
                <a:path w="874" h="5637">
                  <a:moveTo>
                    <a:pt x="787" y="0"/>
                  </a:moveTo>
                  <a:lnTo>
                    <a:pt x="787" y="1866"/>
                  </a:lnTo>
                  <a:lnTo>
                    <a:pt x="751" y="1866"/>
                  </a:lnTo>
                  <a:lnTo>
                    <a:pt x="740" y="1608"/>
                  </a:lnTo>
                  <a:lnTo>
                    <a:pt x="728" y="1378"/>
                  </a:lnTo>
                  <a:lnTo>
                    <a:pt x="709" y="1177"/>
                  </a:lnTo>
                  <a:lnTo>
                    <a:pt x="690" y="1014"/>
                  </a:lnTo>
                  <a:lnTo>
                    <a:pt x="664" y="861"/>
                  </a:lnTo>
                  <a:lnTo>
                    <a:pt x="635" y="727"/>
                  </a:lnTo>
                  <a:lnTo>
                    <a:pt x="599" y="594"/>
                  </a:lnTo>
                  <a:lnTo>
                    <a:pt x="562" y="498"/>
                  </a:lnTo>
                  <a:lnTo>
                    <a:pt x="517" y="412"/>
                  </a:lnTo>
                  <a:lnTo>
                    <a:pt x="476" y="354"/>
                  </a:lnTo>
                  <a:lnTo>
                    <a:pt x="431" y="326"/>
                  </a:lnTo>
                  <a:lnTo>
                    <a:pt x="389" y="316"/>
                  </a:lnTo>
                  <a:lnTo>
                    <a:pt x="339" y="326"/>
                  </a:lnTo>
                  <a:lnTo>
                    <a:pt x="295" y="373"/>
                  </a:lnTo>
                  <a:lnTo>
                    <a:pt x="255" y="450"/>
                  </a:lnTo>
                  <a:lnTo>
                    <a:pt x="220" y="565"/>
                  </a:lnTo>
                  <a:lnTo>
                    <a:pt x="190" y="699"/>
                  </a:lnTo>
                  <a:lnTo>
                    <a:pt x="168" y="842"/>
                  </a:lnTo>
                  <a:lnTo>
                    <a:pt x="157" y="985"/>
                  </a:lnTo>
                  <a:lnTo>
                    <a:pt x="155" y="1148"/>
                  </a:lnTo>
                  <a:lnTo>
                    <a:pt x="157" y="1263"/>
                  </a:lnTo>
                  <a:lnTo>
                    <a:pt x="164" y="1378"/>
                  </a:lnTo>
                  <a:lnTo>
                    <a:pt x="178" y="1493"/>
                  </a:lnTo>
                  <a:lnTo>
                    <a:pt x="197" y="1598"/>
                  </a:lnTo>
                  <a:lnTo>
                    <a:pt x="237" y="1751"/>
                  </a:lnTo>
                  <a:lnTo>
                    <a:pt x="298" y="1943"/>
                  </a:lnTo>
                  <a:lnTo>
                    <a:pt x="377" y="2152"/>
                  </a:lnTo>
                  <a:lnTo>
                    <a:pt x="482" y="2392"/>
                  </a:lnTo>
                  <a:lnTo>
                    <a:pt x="564" y="2574"/>
                  </a:lnTo>
                  <a:lnTo>
                    <a:pt x="635" y="2737"/>
                  </a:lnTo>
                  <a:lnTo>
                    <a:pt x="690" y="2880"/>
                  </a:lnTo>
                  <a:lnTo>
                    <a:pt x="732" y="3005"/>
                  </a:lnTo>
                  <a:lnTo>
                    <a:pt x="763" y="3110"/>
                  </a:lnTo>
                  <a:lnTo>
                    <a:pt x="791" y="3235"/>
                  </a:lnTo>
                  <a:lnTo>
                    <a:pt x="816" y="3369"/>
                  </a:lnTo>
                  <a:lnTo>
                    <a:pt x="837" y="3512"/>
                  </a:lnTo>
                  <a:lnTo>
                    <a:pt x="851" y="3655"/>
                  </a:lnTo>
                  <a:lnTo>
                    <a:pt x="863" y="3808"/>
                  </a:lnTo>
                  <a:lnTo>
                    <a:pt x="870" y="3971"/>
                  </a:lnTo>
                  <a:lnTo>
                    <a:pt x="873" y="4134"/>
                  </a:lnTo>
                  <a:lnTo>
                    <a:pt x="863" y="4421"/>
                  </a:lnTo>
                  <a:lnTo>
                    <a:pt x="842" y="4699"/>
                  </a:lnTo>
                  <a:lnTo>
                    <a:pt x="807" y="4947"/>
                  </a:lnTo>
                  <a:lnTo>
                    <a:pt x="758" y="5186"/>
                  </a:lnTo>
                  <a:lnTo>
                    <a:pt x="695" y="5387"/>
                  </a:lnTo>
                  <a:lnTo>
                    <a:pt x="625" y="5521"/>
                  </a:lnTo>
                  <a:lnTo>
                    <a:pt x="545" y="5598"/>
                  </a:lnTo>
                  <a:lnTo>
                    <a:pt x="459" y="5636"/>
                  </a:lnTo>
                  <a:lnTo>
                    <a:pt x="431" y="5626"/>
                  </a:lnTo>
                  <a:lnTo>
                    <a:pt x="403" y="5617"/>
                  </a:lnTo>
                  <a:lnTo>
                    <a:pt x="377" y="5607"/>
                  </a:lnTo>
                  <a:lnTo>
                    <a:pt x="351" y="5598"/>
                  </a:lnTo>
                  <a:lnTo>
                    <a:pt x="332" y="5569"/>
                  </a:lnTo>
                  <a:lnTo>
                    <a:pt x="307" y="5540"/>
                  </a:lnTo>
                  <a:lnTo>
                    <a:pt x="272" y="5502"/>
                  </a:lnTo>
                  <a:lnTo>
                    <a:pt x="230" y="5454"/>
                  </a:lnTo>
                  <a:lnTo>
                    <a:pt x="185" y="5397"/>
                  </a:lnTo>
                  <a:lnTo>
                    <a:pt x="151" y="5358"/>
                  </a:lnTo>
                  <a:lnTo>
                    <a:pt x="125" y="5330"/>
                  </a:lnTo>
                  <a:lnTo>
                    <a:pt x="108" y="5330"/>
                  </a:lnTo>
                  <a:lnTo>
                    <a:pt x="96" y="5330"/>
                  </a:lnTo>
                  <a:lnTo>
                    <a:pt x="85" y="5339"/>
                  </a:lnTo>
                  <a:lnTo>
                    <a:pt x="78" y="5358"/>
                  </a:lnTo>
                  <a:lnTo>
                    <a:pt x="71" y="5387"/>
                  </a:lnTo>
                  <a:lnTo>
                    <a:pt x="63" y="5416"/>
                  </a:lnTo>
                  <a:lnTo>
                    <a:pt x="56" y="5473"/>
                  </a:lnTo>
                  <a:lnTo>
                    <a:pt x="52" y="5550"/>
                  </a:lnTo>
                  <a:lnTo>
                    <a:pt x="49" y="5636"/>
                  </a:lnTo>
                  <a:lnTo>
                    <a:pt x="14" y="5636"/>
                  </a:lnTo>
                  <a:lnTo>
                    <a:pt x="14" y="3789"/>
                  </a:lnTo>
                  <a:lnTo>
                    <a:pt x="49" y="3789"/>
                  </a:lnTo>
                  <a:lnTo>
                    <a:pt x="61" y="4057"/>
                  </a:lnTo>
                  <a:lnTo>
                    <a:pt x="78" y="4287"/>
                  </a:lnTo>
                  <a:lnTo>
                    <a:pt x="96" y="4488"/>
                  </a:lnTo>
                  <a:lnTo>
                    <a:pt x="118" y="4651"/>
                  </a:lnTo>
                  <a:lnTo>
                    <a:pt x="141" y="4785"/>
                  </a:lnTo>
                  <a:lnTo>
                    <a:pt x="171" y="4909"/>
                  </a:lnTo>
                  <a:lnTo>
                    <a:pt x="206" y="5023"/>
                  </a:lnTo>
                  <a:lnTo>
                    <a:pt x="248" y="5128"/>
                  </a:lnTo>
                  <a:lnTo>
                    <a:pt x="293" y="5205"/>
                  </a:lnTo>
                  <a:lnTo>
                    <a:pt x="339" y="5272"/>
                  </a:lnTo>
                  <a:lnTo>
                    <a:pt x="386" y="5310"/>
                  </a:lnTo>
                  <a:lnTo>
                    <a:pt x="438" y="5330"/>
                  </a:lnTo>
                  <a:lnTo>
                    <a:pt x="493" y="5310"/>
                  </a:lnTo>
                  <a:lnTo>
                    <a:pt x="545" y="5263"/>
                  </a:lnTo>
                  <a:lnTo>
                    <a:pt x="590" y="5167"/>
                  </a:lnTo>
                  <a:lnTo>
                    <a:pt x="630" y="5052"/>
                  </a:lnTo>
                  <a:lnTo>
                    <a:pt x="660" y="4909"/>
                  </a:lnTo>
                  <a:lnTo>
                    <a:pt x="681" y="4766"/>
                  </a:lnTo>
                  <a:lnTo>
                    <a:pt x="695" y="4612"/>
                  </a:lnTo>
                  <a:lnTo>
                    <a:pt x="700" y="4440"/>
                  </a:lnTo>
                  <a:lnTo>
                    <a:pt x="697" y="4335"/>
                  </a:lnTo>
                  <a:lnTo>
                    <a:pt x="692" y="4229"/>
                  </a:lnTo>
                  <a:lnTo>
                    <a:pt x="683" y="4134"/>
                  </a:lnTo>
                  <a:lnTo>
                    <a:pt x="674" y="4028"/>
                  </a:lnTo>
                  <a:lnTo>
                    <a:pt x="657" y="3923"/>
                  </a:lnTo>
                  <a:lnTo>
                    <a:pt x="638" y="3827"/>
                  </a:lnTo>
                  <a:lnTo>
                    <a:pt x="616" y="3741"/>
                  </a:lnTo>
                  <a:lnTo>
                    <a:pt x="592" y="3655"/>
                  </a:lnTo>
                  <a:lnTo>
                    <a:pt x="564" y="3569"/>
                  </a:lnTo>
                  <a:lnTo>
                    <a:pt x="519" y="3464"/>
                  </a:lnTo>
                  <a:lnTo>
                    <a:pt x="462" y="3321"/>
                  </a:lnTo>
                  <a:lnTo>
                    <a:pt x="386" y="3148"/>
                  </a:lnTo>
                  <a:lnTo>
                    <a:pt x="307" y="2966"/>
                  </a:lnTo>
                  <a:lnTo>
                    <a:pt x="239" y="2804"/>
                  </a:lnTo>
                  <a:lnTo>
                    <a:pt x="185" y="2660"/>
                  </a:lnTo>
                  <a:lnTo>
                    <a:pt x="146" y="2545"/>
                  </a:lnTo>
                  <a:lnTo>
                    <a:pt x="111" y="2421"/>
                  </a:lnTo>
                  <a:lnTo>
                    <a:pt x="82" y="2296"/>
                  </a:lnTo>
                  <a:lnTo>
                    <a:pt x="59" y="2172"/>
                  </a:lnTo>
                  <a:lnTo>
                    <a:pt x="38" y="2039"/>
                  </a:lnTo>
                  <a:lnTo>
                    <a:pt x="19" y="1895"/>
                  </a:lnTo>
                  <a:lnTo>
                    <a:pt x="7" y="1742"/>
                  </a:lnTo>
                  <a:lnTo>
                    <a:pt x="0" y="1589"/>
                  </a:lnTo>
                  <a:lnTo>
                    <a:pt x="0" y="1426"/>
                  </a:lnTo>
                  <a:lnTo>
                    <a:pt x="5" y="1138"/>
                  </a:lnTo>
                  <a:lnTo>
                    <a:pt x="26" y="880"/>
                  </a:lnTo>
                  <a:lnTo>
                    <a:pt x="61" y="622"/>
                  </a:lnTo>
                  <a:lnTo>
                    <a:pt x="111" y="412"/>
                  </a:lnTo>
                  <a:lnTo>
                    <a:pt x="166" y="230"/>
                  </a:lnTo>
                  <a:lnTo>
                    <a:pt x="232" y="96"/>
                  </a:lnTo>
                  <a:lnTo>
                    <a:pt x="305" y="19"/>
                  </a:lnTo>
                  <a:lnTo>
                    <a:pt x="386" y="0"/>
                  </a:lnTo>
                  <a:lnTo>
                    <a:pt x="438" y="10"/>
                  </a:lnTo>
                  <a:lnTo>
                    <a:pt x="491" y="48"/>
                  </a:lnTo>
                  <a:lnTo>
                    <a:pt x="548" y="115"/>
                  </a:lnTo>
                  <a:lnTo>
                    <a:pt x="609" y="211"/>
                  </a:lnTo>
                  <a:lnTo>
                    <a:pt x="632" y="249"/>
                  </a:lnTo>
                  <a:lnTo>
                    <a:pt x="652" y="278"/>
                  </a:lnTo>
                  <a:lnTo>
                    <a:pt x="669" y="297"/>
                  </a:lnTo>
                  <a:lnTo>
                    <a:pt x="683" y="306"/>
                  </a:lnTo>
                  <a:lnTo>
                    <a:pt x="695" y="297"/>
                  </a:lnTo>
                  <a:lnTo>
                    <a:pt x="704" y="287"/>
                  </a:lnTo>
                  <a:lnTo>
                    <a:pt x="716" y="268"/>
                  </a:lnTo>
                  <a:lnTo>
                    <a:pt x="725" y="239"/>
                  </a:lnTo>
                  <a:lnTo>
                    <a:pt x="732" y="201"/>
                  </a:lnTo>
                  <a:lnTo>
                    <a:pt x="740" y="144"/>
                  </a:lnTo>
                  <a:lnTo>
                    <a:pt x="744" y="77"/>
                  </a:lnTo>
                  <a:lnTo>
                    <a:pt x="751" y="0"/>
                  </a:lnTo>
                  <a:lnTo>
                    <a:pt x="787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175520" y="1442880"/>
              <a:ext cx="395280" cy="1940040"/>
            </a:xfrm>
            <a:custGeom>
              <a:avLst/>
              <a:gdLst/>
              <a:ahLst/>
              <a:rect l="l" t="t" r="r" b="b"/>
              <a:pathLst>
                <a:path w="1098" h="5390">
                  <a:moveTo>
                    <a:pt x="1083" y="0"/>
                  </a:moveTo>
                  <a:lnTo>
                    <a:pt x="1097" y="1263"/>
                  </a:lnTo>
                  <a:lnTo>
                    <a:pt x="1059" y="1263"/>
                  </a:lnTo>
                  <a:lnTo>
                    <a:pt x="1052" y="1110"/>
                  </a:lnTo>
                  <a:lnTo>
                    <a:pt x="1045" y="976"/>
                  </a:lnTo>
                  <a:lnTo>
                    <a:pt x="1038" y="871"/>
                  </a:lnTo>
                  <a:lnTo>
                    <a:pt x="1031" y="794"/>
                  </a:lnTo>
                  <a:lnTo>
                    <a:pt x="1013" y="679"/>
                  </a:lnTo>
                  <a:lnTo>
                    <a:pt x="994" y="593"/>
                  </a:lnTo>
                  <a:lnTo>
                    <a:pt x="973" y="498"/>
                  </a:lnTo>
                  <a:lnTo>
                    <a:pt x="952" y="441"/>
                  </a:lnTo>
                  <a:lnTo>
                    <a:pt x="924" y="393"/>
                  </a:lnTo>
                  <a:lnTo>
                    <a:pt x="893" y="355"/>
                  </a:lnTo>
                  <a:lnTo>
                    <a:pt x="859" y="336"/>
                  </a:lnTo>
                  <a:lnTo>
                    <a:pt x="821" y="336"/>
                  </a:lnTo>
                  <a:lnTo>
                    <a:pt x="637" y="336"/>
                  </a:lnTo>
                  <a:lnTo>
                    <a:pt x="637" y="4451"/>
                  </a:lnTo>
                  <a:lnTo>
                    <a:pt x="637" y="4671"/>
                  </a:lnTo>
                  <a:lnTo>
                    <a:pt x="642" y="4852"/>
                  </a:lnTo>
                  <a:lnTo>
                    <a:pt x="652" y="4977"/>
                  </a:lnTo>
                  <a:lnTo>
                    <a:pt x="663" y="5073"/>
                  </a:lnTo>
                  <a:lnTo>
                    <a:pt x="684" y="5149"/>
                  </a:lnTo>
                  <a:lnTo>
                    <a:pt x="710" y="5197"/>
                  </a:lnTo>
                  <a:lnTo>
                    <a:pt x="739" y="5226"/>
                  </a:lnTo>
                  <a:lnTo>
                    <a:pt x="777" y="5245"/>
                  </a:lnTo>
                  <a:lnTo>
                    <a:pt x="824" y="5245"/>
                  </a:lnTo>
                  <a:lnTo>
                    <a:pt x="824" y="5389"/>
                  </a:lnTo>
                  <a:lnTo>
                    <a:pt x="265" y="5389"/>
                  </a:lnTo>
                  <a:lnTo>
                    <a:pt x="265" y="5245"/>
                  </a:lnTo>
                  <a:lnTo>
                    <a:pt x="312" y="5245"/>
                  </a:lnTo>
                  <a:lnTo>
                    <a:pt x="350" y="5226"/>
                  </a:lnTo>
                  <a:lnTo>
                    <a:pt x="383" y="5187"/>
                  </a:lnTo>
                  <a:lnTo>
                    <a:pt x="410" y="5111"/>
                  </a:lnTo>
                  <a:lnTo>
                    <a:pt x="431" y="5025"/>
                  </a:lnTo>
                  <a:lnTo>
                    <a:pt x="438" y="4938"/>
                  </a:lnTo>
                  <a:lnTo>
                    <a:pt x="445" y="4814"/>
                  </a:lnTo>
                  <a:lnTo>
                    <a:pt x="450" y="4652"/>
                  </a:lnTo>
                  <a:lnTo>
                    <a:pt x="453" y="4451"/>
                  </a:lnTo>
                  <a:lnTo>
                    <a:pt x="453" y="336"/>
                  </a:lnTo>
                  <a:lnTo>
                    <a:pt x="296" y="336"/>
                  </a:lnTo>
                  <a:lnTo>
                    <a:pt x="251" y="336"/>
                  </a:lnTo>
                  <a:lnTo>
                    <a:pt x="217" y="345"/>
                  </a:lnTo>
                  <a:lnTo>
                    <a:pt x="186" y="364"/>
                  </a:lnTo>
                  <a:lnTo>
                    <a:pt x="165" y="393"/>
                  </a:lnTo>
                  <a:lnTo>
                    <a:pt x="139" y="431"/>
                  </a:lnTo>
                  <a:lnTo>
                    <a:pt x="116" y="498"/>
                  </a:lnTo>
                  <a:lnTo>
                    <a:pt x="95" y="584"/>
                  </a:lnTo>
                  <a:lnTo>
                    <a:pt x="78" y="689"/>
                  </a:lnTo>
                  <a:lnTo>
                    <a:pt x="63" y="804"/>
                  </a:lnTo>
                  <a:lnTo>
                    <a:pt x="51" y="938"/>
                  </a:lnTo>
                  <a:lnTo>
                    <a:pt x="41" y="1091"/>
                  </a:lnTo>
                  <a:lnTo>
                    <a:pt x="37" y="1263"/>
                  </a:lnTo>
                  <a:lnTo>
                    <a:pt x="0" y="1263"/>
                  </a:lnTo>
                  <a:lnTo>
                    <a:pt x="13" y="0"/>
                  </a:lnTo>
                  <a:lnTo>
                    <a:pt x="10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96360" y="1442880"/>
              <a:ext cx="496800" cy="1940040"/>
            </a:xfrm>
            <a:custGeom>
              <a:avLst/>
              <a:gdLst/>
              <a:ahLst/>
              <a:rect l="l" t="t" r="r" b="b"/>
              <a:pathLst>
                <a:path w="1381" h="5390">
                  <a:moveTo>
                    <a:pt x="922" y="0"/>
                  </a:moveTo>
                  <a:lnTo>
                    <a:pt x="1380" y="0"/>
                  </a:lnTo>
                  <a:lnTo>
                    <a:pt x="1380" y="144"/>
                  </a:lnTo>
                  <a:lnTo>
                    <a:pt x="1354" y="144"/>
                  </a:lnTo>
                  <a:lnTo>
                    <a:pt x="1340" y="144"/>
                  </a:lnTo>
                  <a:lnTo>
                    <a:pt x="1321" y="163"/>
                  </a:lnTo>
                  <a:lnTo>
                    <a:pt x="1303" y="192"/>
                  </a:lnTo>
                  <a:lnTo>
                    <a:pt x="1282" y="230"/>
                  </a:lnTo>
                  <a:lnTo>
                    <a:pt x="1256" y="278"/>
                  </a:lnTo>
                  <a:lnTo>
                    <a:pt x="1233" y="345"/>
                  </a:lnTo>
                  <a:lnTo>
                    <a:pt x="1212" y="412"/>
                  </a:lnTo>
                  <a:lnTo>
                    <a:pt x="1193" y="498"/>
                  </a:lnTo>
                  <a:lnTo>
                    <a:pt x="1172" y="603"/>
                  </a:lnTo>
                  <a:lnTo>
                    <a:pt x="1148" y="727"/>
                  </a:lnTo>
                  <a:lnTo>
                    <a:pt x="1123" y="880"/>
                  </a:lnTo>
                  <a:lnTo>
                    <a:pt x="1095" y="1062"/>
                  </a:lnTo>
                  <a:lnTo>
                    <a:pt x="779" y="3092"/>
                  </a:lnTo>
                  <a:lnTo>
                    <a:pt x="779" y="4451"/>
                  </a:lnTo>
                  <a:lnTo>
                    <a:pt x="779" y="4671"/>
                  </a:lnTo>
                  <a:lnTo>
                    <a:pt x="787" y="4852"/>
                  </a:lnTo>
                  <a:lnTo>
                    <a:pt x="794" y="4977"/>
                  </a:lnTo>
                  <a:lnTo>
                    <a:pt x="808" y="5073"/>
                  </a:lnTo>
                  <a:lnTo>
                    <a:pt x="828" y="5149"/>
                  </a:lnTo>
                  <a:lnTo>
                    <a:pt x="854" y="5197"/>
                  </a:lnTo>
                  <a:lnTo>
                    <a:pt x="887" y="5226"/>
                  </a:lnTo>
                  <a:lnTo>
                    <a:pt x="924" y="5245"/>
                  </a:lnTo>
                  <a:lnTo>
                    <a:pt x="967" y="5245"/>
                  </a:lnTo>
                  <a:lnTo>
                    <a:pt x="967" y="5389"/>
                  </a:lnTo>
                  <a:lnTo>
                    <a:pt x="407" y="5389"/>
                  </a:lnTo>
                  <a:lnTo>
                    <a:pt x="407" y="5245"/>
                  </a:lnTo>
                  <a:lnTo>
                    <a:pt x="454" y="5245"/>
                  </a:lnTo>
                  <a:lnTo>
                    <a:pt x="492" y="5226"/>
                  </a:lnTo>
                  <a:lnTo>
                    <a:pt x="524" y="5187"/>
                  </a:lnTo>
                  <a:lnTo>
                    <a:pt x="552" y="5111"/>
                  </a:lnTo>
                  <a:lnTo>
                    <a:pt x="573" y="5025"/>
                  </a:lnTo>
                  <a:lnTo>
                    <a:pt x="580" y="4938"/>
                  </a:lnTo>
                  <a:lnTo>
                    <a:pt x="588" y="4814"/>
                  </a:lnTo>
                  <a:lnTo>
                    <a:pt x="592" y="4652"/>
                  </a:lnTo>
                  <a:lnTo>
                    <a:pt x="595" y="4451"/>
                  </a:lnTo>
                  <a:lnTo>
                    <a:pt x="595" y="3188"/>
                  </a:lnTo>
                  <a:lnTo>
                    <a:pt x="234" y="919"/>
                  </a:lnTo>
                  <a:lnTo>
                    <a:pt x="204" y="737"/>
                  </a:lnTo>
                  <a:lnTo>
                    <a:pt x="180" y="603"/>
                  </a:lnTo>
                  <a:lnTo>
                    <a:pt x="162" y="489"/>
                  </a:lnTo>
                  <a:lnTo>
                    <a:pt x="151" y="422"/>
                  </a:lnTo>
                  <a:lnTo>
                    <a:pt x="134" y="364"/>
                  </a:lnTo>
                  <a:lnTo>
                    <a:pt x="113" y="307"/>
                  </a:lnTo>
                  <a:lnTo>
                    <a:pt x="87" y="249"/>
                  </a:lnTo>
                  <a:lnTo>
                    <a:pt x="54" y="182"/>
                  </a:lnTo>
                  <a:lnTo>
                    <a:pt x="42" y="163"/>
                  </a:lnTo>
                  <a:lnTo>
                    <a:pt x="30" y="144"/>
                  </a:lnTo>
                  <a:lnTo>
                    <a:pt x="15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559" y="144"/>
                  </a:lnTo>
                  <a:lnTo>
                    <a:pt x="529" y="144"/>
                  </a:lnTo>
                  <a:lnTo>
                    <a:pt x="505" y="144"/>
                  </a:lnTo>
                  <a:lnTo>
                    <a:pt x="485" y="163"/>
                  </a:lnTo>
                  <a:lnTo>
                    <a:pt x="466" y="192"/>
                  </a:lnTo>
                  <a:lnTo>
                    <a:pt x="447" y="230"/>
                  </a:lnTo>
                  <a:lnTo>
                    <a:pt x="429" y="278"/>
                  </a:lnTo>
                  <a:lnTo>
                    <a:pt x="417" y="336"/>
                  </a:lnTo>
                  <a:lnTo>
                    <a:pt x="410" y="403"/>
                  </a:lnTo>
                  <a:lnTo>
                    <a:pt x="407" y="498"/>
                  </a:lnTo>
                  <a:lnTo>
                    <a:pt x="410" y="584"/>
                  </a:lnTo>
                  <a:lnTo>
                    <a:pt x="421" y="698"/>
                  </a:lnTo>
                  <a:lnTo>
                    <a:pt x="438" y="842"/>
                  </a:lnTo>
                  <a:lnTo>
                    <a:pt x="466" y="1014"/>
                  </a:lnTo>
                  <a:lnTo>
                    <a:pt x="739" y="2748"/>
                  </a:lnTo>
                  <a:lnTo>
                    <a:pt x="996" y="1091"/>
                  </a:lnTo>
                  <a:lnTo>
                    <a:pt x="1022" y="909"/>
                  </a:lnTo>
                  <a:lnTo>
                    <a:pt x="1039" y="766"/>
                  </a:lnTo>
                  <a:lnTo>
                    <a:pt x="1050" y="631"/>
                  </a:lnTo>
                  <a:lnTo>
                    <a:pt x="1055" y="527"/>
                  </a:lnTo>
                  <a:lnTo>
                    <a:pt x="1053" y="470"/>
                  </a:lnTo>
                  <a:lnTo>
                    <a:pt x="1050" y="422"/>
                  </a:lnTo>
                  <a:lnTo>
                    <a:pt x="1046" y="374"/>
                  </a:lnTo>
                  <a:lnTo>
                    <a:pt x="1041" y="326"/>
                  </a:lnTo>
                  <a:lnTo>
                    <a:pt x="1032" y="278"/>
                  </a:lnTo>
                  <a:lnTo>
                    <a:pt x="1022" y="240"/>
                  </a:lnTo>
                  <a:lnTo>
                    <a:pt x="1013" y="211"/>
                  </a:lnTo>
                  <a:lnTo>
                    <a:pt x="1001" y="192"/>
                  </a:lnTo>
                  <a:lnTo>
                    <a:pt x="985" y="163"/>
                  </a:lnTo>
                  <a:lnTo>
                    <a:pt x="967" y="154"/>
                  </a:lnTo>
                  <a:lnTo>
                    <a:pt x="946" y="144"/>
                  </a:lnTo>
                  <a:lnTo>
                    <a:pt x="922" y="144"/>
                  </a:lnTo>
                  <a:lnTo>
                    <a:pt x="922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15480" y="1442880"/>
              <a:ext cx="509400" cy="1940040"/>
            </a:xfrm>
            <a:custGeom>
              <a:avLst/>
              <a:gdLst/>
              <a:ahLst/>
              <a:rect l="l" t="t" r="r" b="b"/>
              <a:pathLst>
                <a:path w="1415" h="5390">
                  <a:moveTo>
                    <a:pt x="559" y="2392"/>
                  </a:moveTo>
                  <a:lnTo>
                    <a:pt x="1046" y="4365"/>
                  </a:lnTo>
                  <a:lnTo>
                    <a:pt x="1100" y="4595"/>
                  </a:lnTo>
                  <a:lnTo>
                    <a:pt x="1153" y="4777"/>
                  </a:lnTo>
                  <a:lnTo>
                    <a:pt x="1203" y="4919"/>
                  </a:lnTo>
                  <a:lnTo>
                    <a:pt x="1248" y="5034"/>
                  </a:lnTo>
                  <a:lnTo>
                    <a:pt x="1288" y="5111"/>
                  </a:lnTo>
                  <a:lnTo>
                    <a:pt x="1329" y="5187"/>
                  </a:lnTo>
                  <a:lnTo>
                    <a:pt x="1371" y="5226"/>
                  </a:lnTo>
                  <a:lnTo>
                    <a:pt x="1414" y="5245"/>
                  </a:lnTo>
                  <a:lnTo>
                    <a:pt x="1414" y="5389"/>
                  </a:lnTo>
                  <a:lnTo>
                    <a:pt x="792" y="5389"/>
                  </a:lnTo>
                  <a:lnTo>
                    <a:pt x="792" y="5245"/>
                  </a:lnTo>
                  <a:lnTo>
                    <a:pt x="817" y="5235"/>
                  </a:lnTo>
                  <a:lnTo>
                    <a:pt x="838" y="5216"/>
                  </a:lnTo>
                  <a:lnTo>
                    <a:pt x="857" y="5197"/>
                  </a:lnTo>
                  <a:lnTo>
                    <a:pt x="873" y="5168"/>
                  </a:lnTo>
                  <a:lnTo>
                    <a:pt x="882" y="5130"/>
                  </a:lnTo>
                  <a:lnTo>
                    <a:pt x="890" y="5073"/>
                  </a:lnTo>
                  <a:lnTo>
                    <a:pt x="894" y="5034"/>
                  </a:lnTo>
                  <a:lnTo>
                    <a:pt x="897" y="4986"/>
                  </a:lnTo>
                  <a:lnTo>
                    <a:pt x="894" y="4929"/>
                  </a:lnTo>
                  <a:lnTo>
                    <a:pt x="894" y="4891"/>
                  </a:lnTo>
                  <a:lnTo>
                    <a:pt x="890" y="4843"/>
                  </a:lnTo>
                  <a:lnTo>
                    <a:pt x="887" y="4814"/>
                  </a:lnTo>
                  <a:lnTo>
                    <a:pt x="878" y="4767"/>
                  </a:lnTo>
                  <a:lnTo>
                    <a:pt x="866" y="4700"/>
                  </a:lnTo>
                  <a:lnTo>
                    <a:pt x="847" y="4623"/>
                  </a:lnTo>
                  <a:lnTo>
                    <a:pt x="826" y="4537"/>
                  </a:lnTo>
                  <a:lnTo>
                    <a:pt x="371" y="2700"/>
                  </a:lnTo>
                  <a:lnTo>
                    <a:pt x="371" y="4432"/>
                  </a:lnTo>
                  <a:lnTo>
                    <a:pt x="371" y="4614"/>
                  </a:lnTo>
                  <a:lnTo>
                    <a:pt x="374" y="4767"/>
                  </a:lnTo>
                  <a:lnTo>
                    <a:pt x="376" y="4881"/>
                  </a:lnTo>
                  <a:lnTo>
                    <a:pt x="383" y="4967"/>
                  </a:lnTo>
                  <a:lnTo>
                    <a:pt x="388" y="5015"/>
                  </a:lnTo>
                  <a:lnTo>
                    <a:pt x="397" y="5053"/>
                  </a:lnTo>
                  <a:lnTo>
                    <a:pt x="409" y="5101"/>
                  </a:lnTo>
                  <a:lnTo>
                    <a:pt x="426" y="5149"/>
                  </a:lnTo>
                  <a:lnTo>
                    <a:pt x="447" y="5187"/>
                  </a:lnTo>
                  <a:lnTo>
                    <a:pt x="468" y="5216"/>
                  </a:lnTo>
                  <a:lnTo>
                    <a:pt x="491" y="5235"/>
                  </a:lnTo>
                  <a:lnTo>
                    <a:pt x="514" y="5245"/>
                  </a:lnTo>
                  <a:lnTo>
                    <a:pt x="559" y="5245"/>
                  </a:lnTo>
                  <a:lnTo>
                    <a:pt x="559" y="5389"/>
                  </a:lnTo>
                  <a:lnTo>
                    <a:pt x="0" y="5389"/>
                  </a:lnTo>
                  <a:lnTo>
                    <a:pt x="0" y="5245"/>
                  </a:lnTo>
                  <a:lnTo>
                    <a:pt x="46" y="5245"/>
                  </a:lnTo>
                  <a:lnTo>
                    <a:pt x="82" y="5226"/>
                  </a:lnTo>
                  <a:lnTo>
                    <a:pt x="115" y="5187"/>
                  </a:lnTo>
                  <a:lnTo>
                    <a:pt x="141" y="5130"/>
                  </a:lnTo>
                  <a:lnTo>
                    <a:pt x="164" y="5044"/>
                  </a:lnTo>
                  <a:lnTo>
                    <a:pt x="172" y="4948"/>
                  </a:lnTo>
                  <a:lnTo>
                    <a:pt x="180" y="4824"/>
                  </a:lnTo>
                  <a:lnTo>
                    <a:pt x="184" y="4643"/>
                  </a:lnTo>
                  <a:lnTo>
                    <a:pt x="187" y="4432"/>
                  </a:lnTo>
                  <a:lnTo>
                    <a:pt x="187" y="957"/>
                  </a:lnTo>
                  <a:lnTo>
                    <a:pt x="184" y="766"/>
                  </a:lnTo>
                  <a:lnTo>
                    <a:pt x="182" y="612"/>
                  </a:lnTo>
                  <a:lnTo>
                    <a:pt x="180" y="479"/>
                  </a:lnTo>
                  <a:lnTo>
                    <a:pt x="175" y="403"/>
                  </a:lnTo>
                  <a:lnTo>
                    <a:pt x="169" y="355"/>
                  </a:lnTo>
                  <a:lnTo>
                    <a:pt x="159" y="307"/>
                  </a:lnTo>
                  <a:lnTo>
                    <a:pt x="150" y="269"/>
                  </a:lnTo>
                  <a:lnTo>
                    <a:pt x="136" y="240"/>
                  </a:lnTo>
                  <a:lnTo>
                    <a:pt x="112" y="192"/>
                  </a:lnTo>
                  <a:lnTo>
                    <a:pt x="91" y="163"/>
                  </a:lnTo>
                  <a:lnTo>
                    <a:pt x="68" y="144"/>
                  </a:lnTo>
                  <a:lnTo>
                    <a:pt x="46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559" y="144"/>
                  </a:lnTo>
                  <a:lnTo>
                    <a:pt x="514" y="144"/>
                  </a:lnTo>
                  <a:lnTo>
                    <a:pt x="491" y="144"/>
                  </a:lnTo>
                  <a:lnTo>
                    <a:pt x="468" y="163"/>
                  </a:lnTo>
                  <a:lnTo>
                    <a:pt x="447" y="192"/>
                  </a:lnTo>
                  <a:lnTo>
                    <a:pt x="426" y="240"/>
                  </a:lnTo>
                  <a:lnTo>
                    <a:pt x="409" y="269"/>
                  </a:lnTo>
                  <a:lnTo>
                    <a:pt x="397" y="307"/>
                  </a:lnTo>
                  <a:lnTo>
                    <a:pt x="388" y="355"/>
                  </a:lnTo>
                  <a:lnTo>
                    <a:pt x="383" y="422"/>
                  </a:lnTo>
                  <a:lnTo>
                    <a:pt x="376" y="498"/>
                  </a:lnTo>
                  <a:lnTo>
                    <a:pt x="374" y="622"/>
                  </a:lnTo>
                  <a:lnTo>
                    <a:pt x="371" y="775"/>
                  </a:lnTo>
                  <a:lnTo>
                    <a:pt x="371" y="957"/>
                  </a:lnTo>
                  <a:lnTo>
                    <a:pt x="371" y="2603"/>
                  </a:lnTo>
                  <a:lnTo>
                    <a:pt x="386" y="2536"/>
                  </a:lnTo>
                  <a:lnTo>
                    <a:pt x="414" y="2431"/>
                  </a:lnTo>
                  <a:lnTo>
                    <a:pt x="451" y="2287"/>
                  </a:lnTo>
                  <a:lnTo>
                    <a:pt x="505" y="2096"/>
                  </a:lnTo>
                  <a:lnTo>
                    <a:pt x="634" y="1599"/>
                  </a:lnTo>
                  <a:lnTo>
                    <a:pt x="735" y="1196"/>
                  </a:lnTo>
                  <a:lnTo>
                    <a:pt x="811" y="880"/>
                  </a:lnTo>
                  <a:lnTo>
                    <a:pt x="854" y="660"/>
                  </a:lnTo>
                  <a:lnTo>
                    <a:pt x="864" y="575"/>
                  </a:lnTo>
                  <a:lnTo>
                    <a:pt x="873" y="498"/>
                  </a:lnTo>
                  <a:lnTo>
                    <a:pt x="878" y="431"/>
                  </a:lnTo>
                  <a:lnTo>
                    <a:pt x="880" y="374"/>
                  </a:lnTo>
                  <a:lnTo>
                    <a:pt x="878" y="326"/>
                  </a:lnTo>
                  <a:lnTo>
                    <a:pt x="873" y="278"/>
                  </a:lnTo>
                  <a:lnTo>
                    <a:pt x="866" y="240"/>
                  </a:lnTo>
                  <a:lnTo>
                    <a:pt x="859" y="211"/>
                  </a:lnTo>
                  <a:lnTo>
                    <a:pt x="845" y="173"/>
                  </a:lnTo>
                  <a:lnTo>
                    <a:pt x="831" y="154"/>
                  </a:lnTo>
                  <a:lnTo>
                    <a:pt x="812" y="144"/>
                  </a:lnTo>
                  <a:lnTo>
                    <a:pt x="792" y="144"/>
                  </a:lnTo>
                  <a:lnTo>
                    <a:pt x="761" y="144"/>
                  </a:lnTo>
                  <a:lnTo>
                    <a:pt x="761" y="0"/>
                  </a:lnTo>
                  <a:lnTo>
                    <a:pt x="1243" y="0"/>
                  </a:lnTo>
                  <a:lnTo>
                    <a:pt x="1243" y="144"/>
                  </a:lnTo>
                  <a:lnTo>
                    <a:pt x="1222" y="144"/>
                  </a:lnTo>
                  <a:lnTo>
                    <a:pt x="1200" y="154"/>
                  </a:lnTo>
                  <a:lnTo>
                    <a:pt x="1182" y="163"/>
                  </a:lnTo>
                  <a:lnTo>
                    <a:pt x="1165" y="192"/>
                  </a:lnTo>
                  <a:lnTo>
                    <a:pt x="1146" y="211"/>
                  </a:lnTo>
                  <a:lnTo>
                    <a:pt x="1126" y="249"/>
                  </a:lnTo>
                  <a:lnTo>
                    <a:pt x="1105" y="297"/>
                  </a:lnTo>
                  <a:lnTo>
                    <a:pt x="1081" y="364"/>
                  </a:lnTo>
                  <a:lnTo>
                    <a:pt x="1053" y="431"/>
                  </a:lnTo>
                  <a:lnTo>
                    <a:pt x="1023" y="527"/>
                  </a:lnTo>
                  <a:lnTo>
                    <a:pt x="992" y="641"/>
                  </a:lnTo>
                  <a:lnTo>
                    <a:pt x="958" y="775"/>
                  </a:lnTo>
                  <a:lnTo>
                    <a:pt x="937" y="852"/>
                  </a:lnTo>
                  <a:lnTo>
                    <a:pt x="897" y="1014"/>
                  </a:lnTo>
                  <a:lnTo>
                    <a:pt x="838" y="1254"/>
                  </a:lnTo>
                  <a:lnTo>
                    <a:pt x="761" y="1589"/>
                  </a:lnTo>
                  <a:lnTo>
                    <a:pt x="559" y="2392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636040" y="1442880"/>
              <a:ext cx="201600" cy="1940040"/>
            </a:xfrm>
            <a:custGeom>
              <a:avLst/>
              <a:gdLst/>
              <a:ahLst/>
              <a:rect l="l" t="t" r="r" b="b"/>
              <a:pathLst>
                <a:path w="560" h="5390">
                  <a:moveTo>
                    <a:pt x="559" y="5245"/>
                  </a:moveTo>
                  <a:lnTo>
                    <a:pt x="559" y="5389"/>
                  </a:lnTo>
                  <a:lnTo>
                    <a:pt x="0" y="5389"/>
                  </a:lnTo>
                  <a:lnTo>
                    <a:pt x="0" y="5245"/>
                  </a:lnTo>
                  <a:lnTo>
                    <a:pt x="46" y="5245"/>
                  </a:lnTo>
                  <a:lnTo>
                    <a:pt x="81" y="5226"/>
                  </a:lnTo>
                  <a:lnTo>
                    <a:pt x="114" y="5187"/>
                  </a:lnTo>
                  <a:lnTo>
                    <a:pt x="140" y="5130"/>
                  </a:lnTo>
                  <a:lnTo>
                    <a:pt x="163" y="5044"/>
                  </a:lnTo>
                  <a:lnTo>
                    <a:pt x="172" y="4948"/>
                  </a:lnTo>
                  <a:lnTo>
                    <a:pt x="179" y="4824"/>
                  </a:lnTo>
                  <a:lnTo>
                    <a:pt x="184" y="4643"/>
                  </a:lnTo>
                  <a:lnTo>
                    <a:pt x="186" y="4432"/>
                  </a:lnTo>
                  <a:lnTo>
                    <a:pt x="186" y="957"/>
                  </a:lnTo>
                  <a:lnTo>
                    <a:pt x="184" y="766"/>
                  </a:lnTo>
                  <a:lnTo>
                    <a:pt x="181" y="612"/>
                  </a:lnTo>
                  <a:lnTo>
                    <a:pt x="179" y="489"/>
                  </a:lnTo>
                  <a:lnTo>
                    <a:pt x="174" y="412"/>
                  </a:lnTo>
                  <a:lnTo>
                    <a:pt x="167" y="355"/>
                  </a:lnTo>
                  <a:lnTo>
                    <a:pt x="159" y="316"/>
                  </a:lnTo>
                  <a:lnTo>
                    <a:pt x="149" y="269"/>
                  </a:lnTo>
                  <a:lnTo>
                    <a:pt x="135" y="240"/>
                  </a:lnTo>
                  <a:lnTo>
                    <a:pt x="112" y="192"/>
                  </a:lnTo>
                  <a:lnTo>
                    <a:pt x="91" y="163"/>
                  </a:lnTo>
                  <a:lnTo>
                    <a:pt x="67" y="144"/>
                  </a:lnTo>
                  <a:lnTo>
                    <a:pt x="46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559" y="144"/>
                  </a:lnTo>
                  <a:lnTo>
                    <a:pt x="512" y="144"/>
                  </a:lnTo>
                  <a:lnTo>
                    <a:pt x="476" y="154"/>
                  </a:lnTo>
                  <a:lnTo>
                    <a:pt x="443" y="192"/>
                  </a:lnTo>
                  <a:lnTo>
                    <a:pt x="417" y="249"/>
                  </a:lnTo>
                  <a:lnTo>
                    <a:pt x="396" y="336"/>
                  </a:lnTo>
                  <a:lnTo>
                    <a:pt x="384" y="422"/>
                  </a:lnTo>
                  <a:lnTo>
                    <a:pt x="377" y="565"/>
                  </a:lnTo>
                  <a:lnTo>
                    <a:pt x="372" y="737"/>
                  </a:lnTo>
                  <a:lnTo>
                    <a:pt x="372" y="957"/>
                  </a:lnTo>
                  <a:lnTo>
                    <a:pt x="372" y="4432"/>
                  </a:lnTo>
                  <a:lnTo>
                    <a:pt x="372" y="4614"/>
                  </a:lnTo>
                  <a:lnTo>
                    <a:pt x="374" y="4767"/>
                  </a:lnTo>
                  <a:lnTo>
                    <a:pt x="377" y="4881"/>
                  </a:lnTo>
                  <a:lnTo>
                    <a:pt x="384" y="4967"/>
                  </a:lnTo>
                  <a:lnTo>
                    <a:pt x="388" y="5015"/>
                  </a:lnTo>
                  <a:lnTo>
                    <a:pt x="398" y="5053"/>
                  </a:lnTo>
                  <a:lnTo>
                    <a:pt x="410" y="5101"/>
                  </a:lnTo>
                  <a:lnTo>
                    <a:pt x="426" y="5149"/>
                  </a:lnTo>
                  <a:lnTo>
                    <a:pt x="445" y="5187"/>
                  </a:lnTo>
                  <a:lnTo>
                    <a:pt x="466" y="5216"/>
                  </a:lnTo>
                  <a:lnTo>
                    <a:pt x="489" y="5235"/>
                  </a:lnTo>
                  <a:lnTo>
                    <a:pt x="512" y="5245"/>
                  </a:lnTo>
                  <a:lnTo>
                    <a:pt x="559" y="5245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296064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86400" y="4495680"/>
            <a:ext cx="32767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Opracował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Ewa Goszczyc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001000" y="5943600"/>
            <a:ext cx="762120" cy="684360"/>
            <a:chOff x="8001000" y="5943600"/>
            <a:chExt cx="762120" cy="684360"/>
          </a:xfrm>
        </p:grpSpPr>
        <p:sp>
          <p:nvSpPr>
            <p:cNvPr id="58" name=""/>
            <p:cNvSpPr/>
            <p:nvPr/>
          </p:nvSpPr>
          <p:spPr>
            <a:xfrm>
              <a:off x="8001000" y="5943600"/>
              <a:ext cx="762120" cy="684360"/>
            </a:xfrm>
            <a:custGeom>
              <a:avLst/>
              <a:gdLst/>
              <a:ahLst/>
              <a:rect l="l" t="t" r="r" b="b"/>
              <a:pathLst>
                <a:path w="2118" h="1902">
                  <a:moveTo>
                    <a:pt x="0" y="0"/>
                  </a:moveTo>
                  <a:lnTo>
                    <a:pt x="2117" y="0"/>
                  </a:lnTo>
                  <a:lnTo>
                    <a:pt x="2117" y="1901"/>
                  </a:lnTo>
                  <a:lnTo>
                    <a:pt x="0" y="1901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1000" y="5943600"/>
              <a:ext cx="762120" cy="4428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0" y="0"/>
                  </a:moveTo>
                  <a:lnTo>
                    <a:pt x="2117" y="0"/>
                  </a:lnTo>
                  <a:lnTo>
                    <a:pt x="1993" y="123"/>
                  </a:lnTo>
                  <a:lnTo>
                    <a:pt x="123" y="123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1704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5" h="1902">
                  <a:moveTo>
                    <a:pt x="124" y="0"/>
                  </a:moveTo>
                  <a:lnTo>
                    <a:pt x="124" y="1901"/>
                  </a:lnTo>
                  <a:lnTo>
                    <a:pt x="0" y="1777"/>
                  </a:lnTo>
                  <a:lnTo>
                    <a:pt x="0" y="122"/>
                  </a:lnTo>
                  <a:lnTo>
                    <a:pt x="124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01000" y="6583320"/>
              <a:ext cx="762120" cy="4464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2117" y="123"/>
                  </a:moveTo>
                  <a:lnTo>
                    <a:pt x="0" y="123"/>
                  </a:lnTo>
                  <a:lnTo>
                    <a:pt x="123" y="0"/>
                  </a:lnTo>
                  <a:lnTo>
                    <a:pt x="1993" y="0"/>
                  </a:lnTo>
                  <a:lnTo>
                    <a:pt x="2117" y="123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100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0" y="1901"/>
                  </a:moveTo>
                  <a:lnTo>
                    <a:pt x="0" y="0"/>
                  </a:lnTo>
                  <a:lnTo>
                    <a:pt x="123" y="122"/>
                  </a:lnTo>
                  <a:lnTo>
                    <a:pt x="123" y="1777"/>
                  </a:lnTo>
                  <a:lnTo>
                    <a:pt x="0" y="1901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59760" y="6064200"/>
              <a:ext cx="446040" cy="446040"/>
            </a:xfrm>
            <a:custGeom>
              <a:avLst/>
              <a:gdLst/>
              <a:ahLst/>
              <a:rect l="l" t="t" r="r" b="b"/>
              <a:pathLst>
                <a:path w="1238" h="1237">
                  <a:moveTo>
                    <a:pt x="0" y="0"/>
                  </a:moveTo>
                  <a:lnTo>
                    <a:pt x="1237" y="619"/>
                  </a:lnTo>
                  <a:lnTo>
                    <a:pt x="0" y="1236"/>
                  </a:lnTo>
                  <a:lnTo>
                    <a:pt x="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1295280" y="304920"/>
            <a:ext cx="6551640" cy="2665440"/>
            <a:chOff x="1295280" y="304920"/>
            <a:chExt cx="6551640" cy="2665440"/>
          </a:xfrm>
        </p:grpSpPr>
        <p:sp>
          <p:nvSpPr>
            <p:cNvPr id="250" name=""/>
            <p:cNvSpPr/>
            <p:nvPr/>
          </p:nvSpPr>
          <p:spPr>
            <a:xfrm>
              <a:off x="1303200" y="304920"/>
              <a:ext cx="546120" cy="890640"/>
            </a:xfrm>
            <a:custGeom>
              <a:avLst/>
              <a:gdLst/>
              <a:ahLst/>
              <a:rect l="l" t="t" r="r" b="b"/>
              <a:pathLst>
                <a:path w="1517" h="2474">
                  <a:moveTo>
                    <a:pt x="451" y="1241"/>
                  </a:moveTo>
                  <a:lnTo>
                    <a:pt x="455" y="1404"/>
                  </a:lnTo>
                  <a:lnTo>
                    <a:pt x="470" y="1547"/>
                  </a:lnTo>
                  <a:lnTo>
                    <a:pt x="496" y="1665"/>
                  </a:lnTo>
                  <a:lnTo>
                    <a:pt x="536" y="1759"/>
                  </a:lnTo>
                  <a:lnTo>
                    <a:pt x="579" y="1828"/>
                  </a:lnTo>
                  <a:lnTo>
                    <a:pt x="632" y="1877"/>
                  </a:lnTo>
                  <a:lnTo>
                    <a:pt x="692" y="1906"/>
                  </a:lnTo>
                  <a:lnTo>
                    <a:pt x="759" y="1916"/>
                  </a:lnTo>
                  <a:lnTo>
                    <a:pt x="827" y="1906"/>
                  </a:lnTo>
                  <a:lnTo>
                    <a:pt x="887" y="1877"/>
                  </a:lnTo>
                  <a:lnTo>
                    <a:pt x="940" y="1833"/>
                  </a:lnTo>
                  <a:lnTo>
                    <a:pt x="986" y="1764"/>
                  </a:lnTo>
                  <a:lnTo>
                    <a:pt x="1020" y="1670"/>
                  </a:lnTo>
                  <a:lnTo>
                    <a:pt x="1045" y="1547"/>
                  </a:lnTo>
                  <a:lnTo>
                    <a:pt x="1060" y="1394"/>
                  </a:lnTo>
                  <a:lnTo>
                    <a:pt x="1067" y="1207"/>
                  </a:lnTo>
                  <a:lnTo>
                    <a:pt x="1060" y="1049"/>
                  </a:lnTo>
                  <a:lnTo>
                    <a:pt x="1045" y="917"/>
                  </a:lnTo>
                  <a:lnTo>
                    <a:pt x="1020" y="803"/>
                  </a:lnTo>
                  <a:lnTo>
                    <a:pt x="983" y="715"/>
                  </a:lnTo>
                  <a:lnTo>
                    <a:pt x="938" y="646"/>
                  </a:lnTo>
                  <a:lnTo>
                    <a:pt x="882" y="596"/>
                  </a:lnTo>
                  <a:lnTo>
                    <a:pt x="822" y="572"/>
                  </a:lnTo>
                  <a:lnTo>
                    <a:pt x="755" y="562"/>
                  </a:lnTo>
                  <a:lnTo>
                    <a:pt x="688" y="572"/>
                  </a:lnTo>
                  <a:lnTo>
                    <a:pt x="629" y="596"/>
                  </a:lnTo>
                  <a:lnTo>
                    <a:pt x="579" y="651"/>
                  </a:lnTo>
                  <a:lnTo>
                    <a:pt x="536" y="720"/>
                  </a:lnTo>
                  <a:lnTo>
                    <a:pt x="496" y="808"/>
                  </a:lnTo>
                  <a:lnTo>
                    <a:pt x="470" y="926"/>
                  </a:lnTo>
                  <a:lnTo>
                    <a:pt x="455" y="1069"/>
                  </a:lnTo>
                  <a:lnTo>
                    <a:pt x="451" y="1241"/>
                  </a:lnTo>
                  <a:lnTo>
                    <a:pt x="451" y="1241"/>
                  </a:lnTo>
                  <a:close/>
                  <a:moveTo>
                    <a:pt x="0" y="1236"/>
                  </a:moveTo>
                  <a:lnTo>
                    <a:pt x="12" y="955"/>
                  </a:lnTo>
                  <a:lnTo>
                    <a:pt x="49" y="715"/>
                  </a:lnTo>
                  <a:lnTo>
                    <a:pt x="111" y="503"/>
                  </a:lnTo>
                  <a:lnTo>
                    <a:pt x="200" y="325"/>
                  </a:lnTo>
                  <a:lnTo>
                    <a:pt x="309" y="177"/>
                  </a:lnTo>
                  <a:lnTo>
                    <a:pt x="436" y="79"/>
                  </a:lnTo>
                  <a:lnTo>
                    <a:pt x="586" y="20"/>
                  </a:lnTo>
                  <a:lnTo>
                    <a:pt x="755" y="0"/>
                  </a:lnTo>
                  <a:lnTo>
                    <a:pt x="926" y="20"/>
                  </a:lnTo>
                  <a:lnTo>
                    <a:pt x="1079" y="79"/>
                  </a:lnTo>
                  <a:lnTo>
                    <a:pt x="1209" y="177"/>
                  </a:lnTo>
                  <a:lnTo>
                    <a:pt x="1320" y="320"/>
                  </a:lnTo>
                  <a:lnTo>
                    <a:pt x="1407" y="493"/>
                  </a:lnTo>
                  <a:lnTo>
                    <a:pt x="1466" y="705"/>
                  </a:lnTo>
                  <a:lnTo>
                    <a:pt x="1502" y="945"/>
                  </a:lnTo>
                  <a:lnTo>
                    <a:pt x="1516" y="1216"/>
                  </a:lnTo>
                  <a:lnTo>
                    <a:pt x="1509" y="1414"/>
                  </a:lnTo>
                  <a:lnTo>
                    <a:pt x="1495" y="1596"/>
                  </a:lnTo>
                  <a:lnTo>
                    <a:pt x="1466" y="1759"/>
                  </a:lnTo>
                  <a:lnTo>
                    <a:pt x="1430" y="1902"/>
                  </a:lnTo>
                  <a:lnTo>
                    <a:pt x="1382" y="2030"/>
                  </a:lnTo>
                  <a:lnTo>
                    <a:pt x="1324" y="2138"/>
                  </a:lnTo>
                  <a:lnTo>
                    <a:pt x="1256" y="2237"/>
                  </a:lnTo>
                  <a:lnTo>
                    <a:pt x="1182" y="2320"/>
                  </a:lnTo>
                  <a:lnTo>
                    <a:pt x="1095" y="2385"/>
                  </a:lnTo>
                  <a:lnTo>
                    <a:pt x="995" y="2434"/>
                  </a:lnTo>
                  <a:lnTo>
                    <a:pt x="889" y="2458"/>
                  </a:lnTo>
                  <a:lnTo>
                    <a:pt x="774" y="2473"/>
                  </a:lnTo>
                  <a:lnTo>
                    <a:pt x="653" y="2458"/>
                  </a:lnTo>
                  <a:lnTo>
                    <a:pt x="548" y="2434"/>
                  </a:lnTo>
                  <a:lnTo>
                    <a:pt x="448" y="2394"/>
                  </a:lnTo>
                  <a:lnTo>
                    <a:pt x="364" y="2340"/>
                  </a:lnTo>
                  <a:lnTo>
                    <a:pt x="284" y="2266"/>
                  </a:lnTo>
                  <a:lnTo>
                    <a:pt x="217" y="2178"/>
                  </a:lnTo>
                  <a:lnTo>
                    <a:pt x="154" y="2059"/>
                  </a:lnTo>
                  <a:lnTo>
                    <a:pt x="101" y="1936"/>
                  </a:lnTo>
                  <a:lnTo>
                    <a:pt x="56" y="1783"/>
                  </a:lnTo>
                  <a:lnTo>
                    <a:pt x="24" y="1621"/>
                  </a:lnTo>
                  <a:lnTo>
                    <a:pt x="5" y="1438"/>
                  </a:lnTo>
                  <a:lnTo>
                    <a:pt x="0" y="1236"/>
                  </a:lnTo>
                  <a:lnTo>
                    <a:pt x="0" y="1236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36800" y="318960"/>
              <a:ext cx="487440" cy="863640"/>
            </a:xfrm>
            <a:custGeom>
              <a:avLst/>
              <a:gdLst/>
              <a:ahLst/>
              <a:rect l="l" t="t" r="r" b="b"/>
              <a:pathLst>
                <a:path w="1353" h="2398">
                  <a:moveTo>
                    <a:pt x="455" y="942"/>
                  </a:moveTo>
                  <a:lnTo>
                    <a:pt x="653" y="942"/>
                  </a:lnTo>
                  <a:lnTo>
                    <a:pt x="701" y="937"/>
                  </a:lnTo>
                  <a:lnTo>
                    <a:pt x="743" y="927"/>
                  </a:lnTo>
                  <a:lnTo>
                    <a:pt x="774" y="907"/>
                  </a:lnTo>
                  <a:lnTo>
                    <a:pt x="800" y="884"/>
                  </a:lnTo>
                  <a:lnTo>
                    <a:pt x="817" y="849"/>
                  </a:lnTo>
                  <a:lnTo>
                    <a:pt x="829" y="810"/>
                  </a:lnTo>
                  <a:lnTo>
                    <a:pt x="836" y="759"/>
                  </a:lnTo>
                  <a:lnTo>
                    <a:pt x="840" y="710"/>
                  </a:lnTo>
                  <a:lnTo>
                    <a:pt x="836" y="656"/>
                  </a:lnTo>
                  <a:lnTo>
                    <a:pt x="829" y="612"/>
                  </a:lnTo>
                  <a:lnTo>
                    <a:pt x="817" y="577"/>
                  </a:lnTo>
                  <a:lnTo>
                    <a:pt x="800" y="548"/>
                  </a:lnTo>
                  <a:lnTo>
                    <a:pt x="776" y="518"/>
                  </a:lnTo>
                  <a:lnTo>
                    <a:pt x="743" y="498"/>
                  </a:lnTo>
                  <a:lnTo>
                    <a:pt x="703" y="488"/>
                  </a:lnTo>
                  <a:lnTo>
                    <a:pt x="656" y="488"/>
                  </a:lnTo>
                  <a:lnTo>
                    <a:pt x="455" y="488"/>
                  </a:lnTo>
                  <a:lnTo>
                    <a:pt x="455" y="942"/>
                  </a:lnTo>
                  <a:lnTo>
                    <a:pt x="455" y="942"/>
                  </a:lnTo>
                  <a:close/>
                  <a:moveTo>
                    <a:pt x="455" y="1879"/>
                  </a:moveTo>
                  <a:lnTo>
                    <a:pt x="687" y="1879"/>
                  </a:lnTo>
                  <a:lnTo>
                    <a:pt x="739" y="1874"/>
                  </a:lnTo>
                  <a:lnTo>
                    <a:pt x="786" y="1860"/>
                  </a:lnTo>
                  <a:lnTo>
                    <a:pt x="821" y="1840"/>
                  </a:lnTo>
                  <a:lnTo>
                    <a:pt x="850" y="1815"/>
                  </a:lnTo>
                  <a:lnTo>
                    <a:pt x="870" y="1776"/>
                  </a:lnTo>
                  <a:lnTo>
                    <a:pt x="884" y="1736"/>
                  </a:lnTo>
                  <a:lnTo>
                    <a:pt x="894" y="1682"/>
                  </a:lnTo>
                  <a:lnTo>
                    <a:pt x="899" y="1633"/>
                  </a:lnTo>
                  <a:lnTo>
                    <a:pt x="894" y="1583"/>
                  </a:lnTo>
                  <a:lnTo>
                    <a:pt x="887" y="1533"/>
                  </a:lnTo>
                  <a:lnTo>
                    <a:pt x="873" y="1489"/>
                  </a:lnTo>
                  <a:lnTo>
                    <a:pt x="852" y="1459"/>
                  </a:lnTo>
                  <a:lnTo>
                    <a:pt x="824" y="1425"/>
                  </a:lnTo>
                  <a:lnTo>
                    <a:pt x="786" y="1405"/>
                  </a:lnTo>
                  <a:lnTo>
                    <a:pt x="739" y="1395"/>
                  </a:lnTo>
                  <a:lnTo>
                    <a:pt x="684" y="1395"/>
                  </a:lnTo>
                  <a:lnTo>
                    <a:pt x="455" y="1395"/>
                  </a:lnTo>
                  <a:lnTo>
                    <a:pt x="455" y="1879"/>
                  </a:lnTo>
                  <a:lnTo>
                    <a:pt x="455" y="1879"/>
                  </a:lnTo>
                  <a:close/>
                  <a:moveTo>
                    <a:pt x="0" y="0"/>
                  </a:moveTo>
                  <a:lnTo>
                    <a:pt x="845" y="0"/>
                  </a:lnTo>
                  <a:lnTo>
                    <a:pt x="945" y="10"/>
                  </a:lnTo>
                  <a:lnTo>
                    <a:pt x="1035" y="40"/>
                  </a:lnTo>
                  <a:lnTo>
                    <a:pt x="1109" y="94"/>
                  </a:lnTo>
                  <a:lnTo>
                    <a:pt x="1172" y="173"/>
                  </a:lnTo>
                  <a:lnTo>
                    <a:pt x="1220" y="262"/>
                  </a:lnTo>
                  <a:lnTo>
                    <a:pt x="1256" y="360"/>
                  </a:lnTo>
                  <a:lnTo>
                    <a:pt x="1278" y="474"/>
                  </a:lnTo>
                  <a:lnTo>
                    <a:pt x="1285" y="597"/>
                  </a:lnTo>
                  <a:lnTo>
                    <a:pt x="1278" y="700"/>
                  </a:lnTo>
                  <a:lnTo>
                    <a:pt x="1264" y="794"/>
                  </a:lnTo>
                  <a:lnTo>
                    <a:pt x="1240" y="884"/>
                  </a:lnTo>
                  <a:lnTo>
                    <a:pt x="1203" y="962"/>
                  </a:lnTo>
                  <a:lnTo>
                    <a:pt x="1172" y="1006"/>
                  </a:lnTo>
                  <a:lnTo>
                    <a:pt x="1136" y="1050"/>
                  </a:lnTo>
                  <a:lnTo>
                    <a:pt x="1094" y="1085"/>
                  </a:lnTo>
                  <a:lnTo>
                    <a:pt x="1047" y="1124"/>
                  </a:lnTo>
                  <a:lnTo>
                    <a:pt x="1119" y="1154"/>
                  </a:lnTo>
                  <a:lnTo>
                    <a:pt x="1181" y="1203"/>
                  </a:lnTo>
                  <a:lnTo>
                    <a:pt x="1235" y="1262"/>
                  </a:lnTo>
                  <a:lnTo>
                    <a:pt x="1278" y="1331"/>
                  </a:lnTo>
                  <a:lnTo>
                    <a:pt x="1309" y="1410"/>
                  </a:lnTo>
                  <a:lnTo>
                    <a:pt x="1333" y="1504"/>
                  </a:lnTo>
                  <a:lnTo>
                    <a:pt x="1347" y="1603"/>
                  </a:lnTo>
                  <a:lnTo>
                    <a:pt x="1352" y="1717"/>
                  </a:lnTo>
                  <a:lnTo>
                    <a:pt x="1347" y="1800"/>
                  </a:lnTo>
                  <a:lnTo>
                    <a:pt x="1338" y="1889"/>
                  </a:lnTo>
                  <a:lnTo>
                    <a:pt x="1321" y="1968"/>
                  </a:lnTo>
                  <a:lnTo>
                    <a:pt x="1299" y="2047"/>
                  </a:lnTo>
                  <a:lnTo>
                    <a:pt x="1268" y="2116"/>
                  </a:lnTo>
                  <a:lnTo>
                    <a:pt x="1235" y="2180"/>
                  </a:lnTo>
                  <a:lnTo>
                    <a:pt x="1196" y="2234"/>
                  </a:lnTo>
                  <a:lnTo>
                    <a:pt x="1155" y="2283"/>
                  </a:lnTo>
                  <a:lnTo>
                    <a:pt x="1122" y="2308"/>
                  </a:lnTo>
                  <a:lnTo>
                    <a:pt x="1082" y="2328"/>
                  </a:lnTo>
                  <a:lnTo>
                    <a:pt x="1035" y="2348"/>
                  </a:lnTo>
                  <a:lnTo>
                    <a:pt x="983" y="2362"/>
                  </a:lnTo>
                  <a:lnTo>
                    <a:pt x="912" y="2377"/>
                  </a:lnTo>
                  <a:lnTo>
                    <a:pt x="852" y="2382"/>
                  </a:lnTo>
                  <a:lnTo>
                    <a:pt x="809" y="2392"/>
                  </a:lnTo>
                  <a:lnTo>
                    <a:pt x="781" y="2397"/>
                  </a:lnTo>
                  <a:lnTo>
                    <a:pt x="0" y="23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06680" y="318960"/>
              <a:ext cx="417600" cy="863640"/>
            </a:xfrm>
            <a:custGeom>
              <a:avLst/>
              <a:gdLst/>
              <a:ahLst/>
              <a:rect l="l" t="t" r="r" b="b"/>
              <a:pathLst>
                <a:path w="1160" h="2398">
                  <a:moveTo>
                    <a:pt x="0" y="0"/>
                  </a:moveTo>
                  <a:lnTo>
                    <a:pt x="452" y="0"/>
                  </a:lnTo>
                  <a:lnTo>
                    <a:pt x="452" y="1805"/>
                  </a:lnTo>
                  <a:lnTo>
                    <a:pt x="1159" y="1805"/>
                  </a:lnTo>
                  <a:lnTo>
                    <a:pt x="1159" y="2397"/>
                  </a:lnTo>
                  <a:lnTo>
                    <a:pt x="0" y="2397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03480" y="318960"/>
              <a:ext cx="163440" cy="863640"/>
            </a:xfrm>
            <a:custGeom>
              <a:avLst/>
              <a:gdLst/>
              <a:ahLst/>
              <a:rect l="l" t="t" r="r" b="b"/>
              <a:pathLst>
                <a:path w="454" h="2398">
                  <a:moveTo>
                    <a:pt x="0" y="0"/>
                  </a:moveTo>
                  <a:lnTo>
                    <a:pt x="453" y="0"/>
                  </a:lnTo>
                  <a:lnTo>
                    <a:pt x="453" y="2397"/>
                  </a:lnTo>
                  <a:lnTo>
                    <a:pt x="0" y="2397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62320" y="304920"/>
              <a:ext cx="511200" cy="890640"/>
            </a:xfrm>
            <a:custGeom>
              <a:avLst/>
              <a:gdLst/>
              <a:ahLst/>
              <a:rect l="l" t="t" r="r" b="b"/>
              <a:pathLst>
                <a:path w="1421" h="2474">
                  <a:moveTo>
                    <a:pt x="1025" y="1453"/>
                  </a:moveTo>
                  <a:lnTo>
                    <a:pt x="1420" y="1645"/>
                  </a:lnTo>
                  <a:lnTo>
                    <a:pt x="1396" y="1778"/>
                  </a:lnTo>
                  <a:lnTo>
                    <a:pt x="1368" y="1897"/>
                  </a:lnTo>
                  <a:lnTo>
                    <a:pt x="1333" y="2000"/>
                  </a:lnTo>
                  <a:lnTo>
                    <a:pt x="1295" y="2099"/>
                  </a:lnTo>
                  <a:lnTo>
                    <a:pt x="1250" y="2182"/>
                  </a:lnTo>
                  <a:lnTo>
                    <a:pt x="1198" y="2261"/>
                  </a:lnTo>
                  <a:lnTo>
                    <a:pt x="1143" y="2325"/>
                  </a:lnTo>
                  <a:lnTo>
                    <a:pt x="1083" y="2375"/>
                  </a:lnTo>
                  <a:lnTo>
                    <a:pt x="1013" y="2414"/>
                  </a:lnTo>
                  <a:lnTo>
                    <a:pt x="938" y="2444"/>
                  </a:lnTo>
                  <a:lnTo>
                    <a:pt x="851" y="2458"/>
                  </a:lnTo>
                  <a:lnTo>
                    <a:pt x="758" y="2473"/>
                  </a:lnTo>
                  <a:lnTo>
                    <a:pt x="643" y="2458"/>
                  </a:lnTo>
                  <a:lnTo>
                    <a:pt x="541" y="2439"/>
                  </a:lnTo>
                  <a:lnTo>
                    <a:pt x="449" y="2404"/>
                  </a:lnTo>
                  <a:lnTo>
                    <a:pt x="370" y="2355"/>
                  </a:lnTo>
                  <a:lnTo>
                    <a:pt x="295" y="2291"/>
                  </a:lnTo>
                  <a:lnTo>
                    <a:pt x="228" y="2197"/>
                  </a:lnTo>
                  <a:lnTo>
                    <a:pt x="165" y="2089"/>
                  </a:lnTo>
                  <a:lnTo>
                    <a:pt x="110" y="1956"/>
                  </a:lnTo>
                  <a:lnTo>
                    <a:pt x="59" y="1803"/>
                  </a:lnTo>
                  <a:lnTo>
                    <a:pt x="26" y="1635"/>
                  </a:lnTo>
                  <a:lnTo>
                    <a:pt x="4" y="1443"/>
                  </a:lnTo>
                  <a:lnTo>
                    <a:pt x="0" y="1231"/>
                  </a:lnTo>
                  <a:lnTo>
                    <a:pt x="12" y="945"/>
                  </a:lnTo>
                  <a:lnTo>
                    <a:pt x="47" y="705"/>
                  </a:lnTo>
                  <a:lnTo>
                    <a:pt x="107" y="493"/>
                  </a:lnTo>
                  <a:lnTo>
                    <a:pt x="192" y="315"/>
                  </a:lnTo>
                  <a:lnTo>
                    <a:pt x="298" y="177"/>
                  </a:lnTo>
                  <a:lnTo>
                    <a:pt x="423" y="79"/>
                  </a:lnTo>
                  <a:lnTo>
                    <a:pt x="570" y="20"/>
                  </a:lnTo>
                  <a:lnTo>
                    <a:pt x="736" y="0"/>
                  </a:lnTo>
                  <a:lnTo>
                    <a:pt x="867" y="10"/>
                  </a:lnTo>
                  <a:lnTo>
                    <a:pt x="981" y="44"/>
                  </a:lnTo>
                  <a:lnTo>
                    <a:pt x="1083" y="99"/>
                  </a:lnTo>
                  <a:lnTo>
                    <a:pt x="1172" y="182"/>
                  </a:lnTo>
                  <a:lnTo>
                    <a:pt x="1245" y="286"/>
                  </a:lnTo>
                  <a:lnTo>
                    <a:pt x="1307" y="414"/>
                  </a:lnTo>
                  <a:lnTo>
                    <a:pt x="1363" y="567"/>
                  </a:lnTo>
                  <a:lnTo>
                    <a:pt x="1406" y="744"/>
                  </a:lnTo>
                  <a:lnTo>
                    <a:pt x="1009" y="887"/>
                  </a:lnTo>
                  <a:lnTo>
                    <a:pt x="997" y="833"/>
                  </a:lnTo>
                  <a:lnTo>
                    <a:pt x="987" y="789"/>
                  </a:lnTo>
                  <a:lnTo>
                    <a:pt x="974" y="754"/>
                  </a:lnTo>
                  <a:lnTo>
                    <a:pt x="965" y="729"/>
                  </a:lnTo>
                  <a:lnTo>
                    <a:pt x="943" y="690"/>
                  </a:lnTo>
                  <a:lnTo>
                    <a:pt x="922" y="651"/>
                  </a:lnTo>
                  <a:lnTo>
                    <a:pt x="898" y="621"/>
                  </a:lnTo>
                  <a:lnTo>
                    <a:pt x="874" y="596"/>
                  </a:lnTo>
                  <a:lnTo>
                    <a:pt x="844" y="577"/>
                  </a:lnTo>
                  <a:lnTo>
                    <a:pt x="813" y="562"/>
                  </a:lnTo>
                  <a:lnTo>
                    <a:pt x="782" y="552"/>
                  </a:lnTo>
                  <a:lnTo>
                    <a:pt x="749" y="552"/>
                  </a:lnTo>
                  <a:lnTo>
                    <a:pt x="676" y="567"/>
                  </a:lnTo>
                  <a:lnTo>
                    <a:pt x="613" y="601"/>
                  </a:lnTo>
                  <a:lnTo>
                    <a:pt x="558" y="665"/>
                  </a:lnTo>
                  <a:lnTo>
                    <a:pt x="515" y="754"/>
                  </a:lnTo>
                  <a:lnTo>
                    <a:pt x="485" y="838"/>
                  </a:lnTo>
                  <a:lnTo>
                    <a:pt x="466" y="945"/>
                  </a:lnTo>
                  <a:lnTo>
                    <a:pt x="454" y="1073"/>
                  </a:lnTo>
                  <a:lnTo>
                    <a:pt x="452" y="1226"/>
                  </a:lnTo>
                  <a:lnTo>
                    <a:pt x="454" y="1404"/>
                  </a:lnTo>
                  <a:lnTo>
                    <a:pt x="468" y="1557"/>
                  </a:lnTo>
                  <a:lnTo>
                    <a:pt x="492" y="1675"/>
                  </a:lnTo>
                  <a:lnTo>
                    <a:pt x="527" y="1764"/>
                  </a:lnTo>
                  <a:lnTo>
                    <a:pt x="565" y="1828"/>
                  </a:lnTo>
                  <a:lnTo>
                    <a:pt x="613" y="1877"/>
                  </a:lnTo>
                  <a:lnTo>
                    <a:pt x="669" y="1902"/>
                  </a:lnTo>
                  <a:lnTo>
                    <a:pt x="733" y="1916"/>
                  </a:lnTo>
                  <a:lnTo>
                    <a:pt x="794" y="1906"/>
                  </a:lnTo>
                  <a:lnTo>
                    <a:pt x="847" y="1882"/>
                  </a:lnTo>
                  <a:lnTo>
                    <a:pt x="893" y="1847"/>
                  </a:lnTo>
                  <a:lnTo>
                    <a:pt x="931" y="1798"/>
                  </a:lnTo>
                  <a:lnTo>
                    <a:pt x="960" y="1729"/>
                  </a:lnTo>
                  <a:lnTo>
                    <a:pt x="987" y="1650"/>
                  </a:lnTo>
                  <a:lnTo>
                    <a:pt x="1009" y="1557"/>
                  </a:lnTo>
                  <a:lnTo>
                    <a:pt x="1025" y="1453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13120" y="318960"/>
              <a:ext cx="500040" cy="863640"/>
            </a:xfrm>
            <a:custGeom>
              <a:avLst/>
              <a:gdLst/>
              <a:ahLst/>
              <a:rect l="l" t="t" r="r" b="b"/>
              <a:pathLst>
                <a:path w="1389" h="2398">
                  <a:moveTo>
                    <a:pt x="80" y="0"/>
                  </a:moveTo>
                  <a:lnTo>
                    <a:pt x="1359" y="0"/>
                  </a:lnTo>
                  <a:lnTo>
                    <a:pt x="1359" y="479"/>
                  </a:lnTo>
                  <a:lnTo>
                    <a:pt x="537" y="1879"/>
                  </a:lnTo>
                  <a:lnTo>
                    <a:pt x="1388" y="1879"/>
                  </a:lnTo>
                  <a:lnTo>
                    <a:pt x="1388" y="2397"/>
                  </a:lnTo>
                  <a:lnTo>
                    <a:pt x="0" y="2397"/>
                  </a:lnTo>
                  <a:lnTo>
                    <a:pt x="0" y="1899"/>
                  </a:lnTo>
                  <a:lnTo>
                    <a:pt x="814" y="513"/>
                  </a:lnTo>
                  <a:lnTo>
                    <a:pt x="80" y="513"/>
                  </a:lnTo>
                  <a:lnTo>
                    <a:pt x="8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86240" y="318960"/>
              <a:ext cx="442800" cy="863640"/>
            </a:xfrm>
            <a:custGeom>
              <a:avLst/>
              <a:gdLst/>
              <a:ahLst/>
              <a:rect l="l" t="t" r="r" b="b"/>
              <a:pathLst>
                <a:path w="1230" h="2398">
                  <a:moveTo>
                    <a:pt x="0" y="0"/>
                  </a:moveTo>
                  <a:lnTo>
                    <a:pt x="1208" y="0"/>
                  </a:lnTo>
                  <a:lnTo>
                    <a:pt x="1208" y="513"/>
                  </a:lnTo>
                  <a:lnTo>
                    <a:pt x="452" y="513"/>
                  </a:lnTo>
                  <a:lnTo>
                    <a:pt x="452" y="888"/>
                  </a:lnTo>
                  <a:lnTo>
                    <a:pt x="1152" y="888"/>
                  </a:lnTo>
                  <a:lnTo>
                    <a:pt x="1152" y="1380"/>
                  </a:lnTo>
                  <a:lnTo>
                    <a:pt x="452" y="1380"/>
                  </a:lnTo>
                  <a:lnTo>
                    <a:pt x="452" y="1855"/>
                  </a:lnTo>
                  <a:lnTo>
                    <a:pt x="1229" y="1855"/>
                  </a:lnTo>
                  <a:lnTo>
                    <a:pt x="1229" y="2397"/>
                  </a:lnTo>
                  <a:lnTo>
                    <a:pt x="0" y="2397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15080" y="318960"/>
              <a:ext cx="502920" cy="863640"/>
            </a:xfrm>
            <a:custGeom>
              <a:avLst/>
              <a:gdLst/>
              <a:ahLst/>
              <a:rect l="l" t="t" r="r" b="b"/>
              <a:pathLst>
                <a:path w="1399" h="2398">
                  <a:moveTo>
                    <a:pt x="0" y="0"/>
                  </a:moveTo>
                  <a:lnTo>
                    <a:pt x="420" y="0"/>
                  </a:lnTo>
                  <a:lnTo>
                    <a:pt x="972" y="1326"/>
                  </a:lnTo>
                  <a:lnTo>
                    <a:pt x="972" y="0"/>
                  </a:lnTo>
                  <a:lnTo>
                    <a:pt x="1398" y="0"/>
                  </a:lnTo>
                  <a:lnTo>
                    <a:pt x="1398" y="2397"/>
                  </a:lnTo>
                  <a:lnTo>
                    <a:pt x="972" y="2397"/>
                  </a:lnTo>
                  <a:lnTo>
                    <a:pt x="422" y="1075"/>
                  </a:lnTo>
                  <a:lnTo>
                    <a:pt x="422" y="2397"/>
                  </a:lnTo>
                  <a:lnTo>
                    <a:pt x="0" y="2397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32480" y="318960"/>
              <a:ext cx="163440" cy="863640"/>
            </a:xfrm>
            <a:custGeom>
              <a:avLst/>
              <a:gdLst/>
              <a:ahLst/>
              <a:rect l="l" t="t" r="r" b="b"/>
              <a:pathLst>
                <a:path w="454" h="2398">
                  <a:moveTo>
                    <a:pt x="0" y="0"/>
                  </a:moveTo>
                  <a:lnTo>
                    <a:pt x="453" y="0"/>
                  </a:lnTo>
                  <a:lnTo>
                    <a:pt x="453" y="2397"/>
                  </a:lnTo>
                  <a:lnTo>
                    <a:pt x="0" y="2397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59280" y="318960"/>
              <a:ext cx="573120" cy="863640"/>
            </a:xfrm>
            <a:custGeom>
              <a:avLst/>
              <a:gdLst/>
              <a:ahLst/>
              <a:rect l="l" t="t" r="r" b="b"/>
              <a:pathLst>
                <a:path w="1591" h="2398">
                  <a:moveTo>
                    <a:pt x="949" y="1484"/>
                  </a:moveTo>
                  <a:lnTo>
                    <a:pt x="788" y="621"/>
                  </a:lnTo>
                  <a:lnTo>
                    <a:pt x="627" y="1484"/>
                  </a:lnTo>
                  <a:lnTo>
                    <a:pt x="949" y="1484"/>
                  </a:lnTo>
                  <a:lnTo>
                    <a:pt x="949" y="1484"/>
                  </a:lnTo>
                  <a:close/>
                  <a:moveTo>
                    <a:pt x="1042" y="1998"/>
                  </a:moveTo>
                  <a:lnTo>
                    <a:pt x="533" y="1998"/>
                  </a:lnTo>
                  <a:lnTo>
                    <a:pt x="459" y="2397"/>
                  </a:lnTo>
                  <a:lnTo>
                    <a:pt x="0" y="2397"/>
                  </a:lnTo>
                  <a:lnTo>
                    <a:pt x="545" y="0"/>
                  </a:lnTo>
                  <a:lnTo>
                    <a:pt x="1040" y="0"/>
                  </a:lnTo>
                  <a:lnTo>
                    <a:pt x="1590" y="2397"/>
                  </a:lnTo>
                  <a:lnTo>
                    <a:pt x="1117" y="2397"/>
                  </a:lnTo>
                  <a:lnTo>
                    <a:pt x="1042" y="1998"/>
                  </a:lnTo>
                  <a:lnTo>
                    <a:pt x="1042" y="1998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95280" y="2079720"/>
              <a:ext cx="478080" cy="890640"/>
            </a:xfrm>
            <a:custGeom>
              <a:avLst/>
              <a:gdLst/>
              <a:ahLst/>
              <a:rect l="l" t="t" r="r" b="b"/>
              <a:pathLst>
                <a:path w="1329" h="2474">
                  <a:moveTo>
                    <a:pt x="0" y="1640"/>
                  </a:moveTo>
                  <a:lnTo>
                    <a:pt x="429" y="1596"/>
                  </a:lnTo>
                  <a:lnTo>
                    <a:pt x="437" y="1675"/>
                  </a:lnTo>
                  <a:lnTo>
                    <a:pt x="451" y="1744"/>
                  </a:lnTo>
                  <a:lnTo>
                    <a:pt x="465" y="1803"/>
                  </a:lnTo>
                  <a:lnTo>
                    <a:pt x="487" y="1857"/>
                  </a:lnTo>
                  <a:lnTo>
                    <a:pt x="523" y="1916"/>
                  </a:lnTo>
                  <a:lnTo>
                    <a:pt x="571" y="1960"/>
                  </a:lnTo>
                  <a:lnTo>
                    <a:pt x="624" y="1990"/>
                  </a:lnTo>
                  <a:lnTo>
                    <a:pt x="687" y="2000"/>
                  </a:lnTo>
                  <a:lnTo>
                    <a:pt x="730" y="1995"/>
                  </a:lnTo>
                  <a:lnTo>
                    <a:pt x="771" y="1980"/>
                  </a:lnTo>
                  <a:lnTo>
                    <a:pt x="805" y="1955"/>
                  </a:lnTo>
                  <a:lnTo>
                    <a:pt x="836" y="1926"/>
                  </a:lnTo>
                  <a:lnTo>
                    <a:pt x="858" y="1886"/>
                  </a:lnTo>
                  <a:lnTo>
                    <a:pt x="874" y="1842"/>
                  </a:lnTo>
                  <a:lnTo>
                    <a:pt x="884" y="1798"/>
                  </a:lnTo>
                  <a:lnTo>
                    <a:pt x="889" y="1758"/>
                  </a:lnTo>
                  <a:lnTo>
                    <a:pt x="884" y="1709"/>
                  </a:lnTo>
                  <a:lnTo>
                    <a:pt x="874" y="1665"/>
                  </a:lnTo>
                  <a:lnTo>
                    <a:pt x="860" y="1625"/>
                  </a:lnTo>
                  <a:lnTo>
                    <a:pt x="839" y="1591"/>
                  </a:lnTo>
                  <a:lnTo>
                    <a:pt x="805" y="1551"/>
                  </a:lnTo>
                  <a:lnTo>
                    <a:pt x="754" y="1518"/>
                  </a:lnTo>
                  <a:lnTo>
                    <a:pt x="690" y="1483"/>
                  </a:lnTo>
                  <a:lnTo>
                    <a:pt x="607" y="1454"/>
                  </a:lnTo>
                  <a:lnTo>
                    <a:pt x="468" y="1390"/>
                  </a:lnTo>
                  <a:lnTo>
                    <a:pt x="352" y="1326"/>
                  </a:lnTo>
                  <a:lnTo>
                    <a:pt x="256" y="1247"/>
                  </a:lnTo>
                  <a:lnTo>
                    <a:pt x="183" y="1163"/>
                  </a:lnTo>
                  <a:lnTo>
                    <a:pt x="126" y="1064"/>
                  </a:lnTo>
                  <a:lnTo>
                    <a:pt x="87" y="951"/>
                  </a:lnTo>
                  <a:lnTo>
                    <a:pt x="63" y="828"/>
                  </a:lnTo>
                  <a:lnTo>
                    <a:pt x="55" y="700"/>
                  </a:lnTo>
                  <a:lnTo>
                    <a:pt x="58" y="611"/>
                  </a:lnTo>
                  <a:lnTo>
                    <a:pt x="71" y="517"/>
                  </a:lnTo>
                  <a:lnTo>
                    <a:pt x="92" y="433"/>
                  </a:lnTo>
                  <a:lnTo>
                    <a:pt x="121" y="355"/>
                  </a:lnTo>
                  <a:lnTo>
                    <a:pt x="157" y="276"/>
                  </a:lnTo>
                  <a:lnTo>
                    <a:pt x="201" y="202"/>
                  </a:lnTo>
                  <a:lnTo>
                    <a:pt x="256" y="143"/>
                  </a:lnTo>
                  <a:lnTo>
                    <a:pt x="319" y="93"/>
                  </a:lnTo>
                  <a:lnTo>
                    <a:pt x="388" y="54"/>
                  </a:lnTo>
                  <a:lnTo>
                    <a:pt x="473" y="19"/>
                  </a:lnTo>
                  <a:lnTo>
                    <a:pt x="569" y="5"/>
                  </a:lnTo>
                  <a:lnTo>
                    <a:pt x="678" y="0"/>
                  </a:lnTo>
                  <a:lnTo>
                    <a:pt x="808" y="10"/>
                  </a:lnTo>
                  <a:lnTo>
                    <a:pt x="923" y="39"/>
                  </a:lnTo>
                  <a:lnTo>
                    <a:pt x="1019" y="93"/>
                  </a:lnTo>
                  <a:lnTo>
                    <a:pt x="1103" y="172"/>
                  </a:lnTo>
                  <a:lnTo>
                    <a:pt x="1169" y="266"/>
                  </a:lnTo>
                  <a:lnTo>
                    <a:pt x="1219" y="394"/>
                  </a:lnTo>
                  <a:lnTo>
                    <a:pt x="1255" y="537"/>
                  </a:lnTo>
                  <a:lnTo>
                    <a:pt x="1279" y="714"/>
                  </a:lnTo>
                  <a:lnTo>
                    <a:pt x="853" y="754"/>
                  </a:lnTo>
                  <a:lnTo>
                    <a:pt x="841" y="680"/>
                  </a:lnTo>
                  <a:lnTo>
                    <a:pt x="827" y="611"/>
                  </a:lnTo>
                  <a:lnTo>
                    <a:pt x="808" y="562"/>
                  </a:lnTo>
                  <a:lnTo>
                    <a:pt x="783" y="517"/>
                  </a:lnTo>
                  <a:lnTo>
                    <a:pt x="752" y="488"/>
                  </a:lnTo>
                  <a:lnTo>
                    <a:pt x="718" y="463"/>
                  </a:lnTo>
                  <a:lnTo>
                    <a:pt x="678" y="453"/>
                  </a:lnTo>
                  <a:lnTo>
                    <a:pt x="631" y="448"/>
                  </a:lnTo>
                  <a:lnTo>
                    <a:pt x="593" y="448"/>
                  </a:lnTo>
                  <a:lnTo>
                    <a:pt x="562" y="458"/>
                  </a:lnTo>
                  <a:lnTo>
                    <a:pt x="535" y="478"/>
                  </a:lnTo>
                  <a:lnTo>
                    <a:pt x="513" y="502"/>
                  </a:lnTo>
                  <a:lnTo>
                    <a:pt x="494" y="532"/>
                  </a:lnTo>
                  <a:lnTo>
                    <a:pt x="482" y="562"/>
                  </a:lnTo>
                  <a:lnTo>
                    <a:pt x="475" y="591"/>
                  </a:lnTo>
                  <a:lnTo>
                    <a:pt x="473" y="631"/>
                  </a:lnTo>
                  <a:lnTo>
                    <a:pt x="473" y="660"/>
                  </a:lnTo>
                  <a:lnTo>
                    <a:pt x="480" y="690"/>
                  </a:lnTo>
                  <a:lnTo>
                    <a:pt x="492" y="709"/>
                  </a:lnTo>
                  <a:lnTo>
                    <a:pt x="506" y="734"/>
                  </a:lnTo>
                  <a:lnTo>
                    <a:pt x="527" y="754"/>
                  </a:lnTo>
                  <a:lnTo>
                    <a:pt x="560" y="778"/>
                  </a:lnTo>
                  <a:lnTo>
                    <a:pt x="603" y="803"/>
                  </a:lnTo>
                  <a:lnTo>
                    <a:pt x="657" y="828"/>
                  </a:lnTo>
                  <a:lnTo>
                    <a:pt x="795" y="872"/>
                  </a:lnTo>
                  <a:lnTo>
                    <a:pt x="910" y="926"/>
                  </a:lnTo>
                  <a:lnTo>
                    <a:pt x="1007" y="981"/>
                  </a:lnTo>
                  <a:lnTo>
                    <a:pt x="1084" y="1035"/>
                  </a:lnTo>
                  <a:lnTo>
                    <a:pt x="1142" y="1089"/>
                  </a:lnTo>
                  <a:lnTo>
                    <a:pt x="1193" y="1153"/>
                  </a:lnTo>
                  <a:lnTo>
                    <a:pt x="1236" y="1222"/>
                  </a:lnTo>
                  <a:lnTo>
                    <a:pt x="1269" y="1301"/>
                  </a:lnTo>
                  <a:lnTo>
                    <a:pt x="1294" y="1380"/>
                  </a:lnTo>
                  <a:lnTo>
                    <a:pt x="1313" y="1464"/>
                  </a:lnTo>
                  <a:lnTo>
                    <a:pt x="1323" y="1556"/>
                  </a:lnTo>
                  <a:lnTo>
                    <a:pt x="1328" y="1655"/>
                  </a:lnTo>
                  <a:lnTo>
                    <a:pt x="1320" y="1763"/>
                  </a:lnTo>
                  <a:lnTo>
                    <a:pt x="1306" y="1872"/>
                  </a:lnTo>
                  <a:lnTo>
                    <a:pt x="1281" y="1975"/>
                  </a:lnTo>
                  <a:lnTo>
                    <a:pt x="1250" y="2079"/>
                  </a:lnTo>
                  <a:lnTo>
                    <a:pt x="1205" y="2167"/>
                  </a:lnTo>
                  <a:lnTo>
                    <a:pt x="1154" y="2246"/>
                  </a:lnTo>
                  <a:lnTo>
                    <a:pt x="1096" y="2310"/>
                  </a:lnTo>
                  <a:lnTo>
                    <a:pt x="1031" y="2369"/>
                  </a:lnTo>
                  <a:lnTo>
                    <a:pt x="957" y="2409"/>
                  </a:lnTo>
                  <a:lnTo>
                    <a:pt x="872" y="2438"/>
                  </a:lnTo>
                  <a:lnTo>
                    <a:pt x="780" y="2458"/>
                  </a:lnTo>
                  <a:lnTo>
                    <a:pt x="680" y="2473"/>
                  </a:lnTo>
                  <a:lnTo>
                    <a:pt x="506" y="2453"/>
                  </a:lnTo>
                  <a:lnTo>
                    <a:pt x="364" y="2409"/>
                  </a:lnTo>
                  <a:lnTo>
                    <a:pt x="248" y="2335"/>
                  </a:lnTo>
                  <a:lnTo>
                    <a:pt x="164" y="2236"/>
                  </a:lnTo>
                  <a:lnTo>
                    <a:pt x="99" y="2108"/>
                  </a:lnTo>
                  <a:lnTo>
                    <a:pt x="48" y="1965"/>
                  </a:lnTo>
                  <a:lnTo>
                    <a:pt x="17" y="1808"/>
                  </a:lnTo>
                  <a:lnTo>
                    <a:pt x="0" y="164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17640" y="2093760"/>
              <a:ext cx="493920" cy="863640"/>
            </a:xfrm>
            <a:custGeom>
              <a:avLst/>
              <a:gdLst/>
              <a:ahLst/>
              <a:rect l="l" t="t" r="r" b="b"/>
              <a:pathLst>
                <a:path w="1371" h="2398">
                  <a:moveTo>
                    <a:pt x="0" y="0"/>
                  </a:moveTo>
                  <a:lnTo>
                    <a:pt x="1370" y="0"/>
                  </a:lnTo>
                  <a:lnTo>
                    <a:pt x="1370" y="592"/>
                  </a:lnTo>
                  <a:lnTo>
                    <a:pt x="910" y="592"/>
                  </a:lnTo>
                  <a:lnTo>
                    <a:pt x="910" y="2397"/>
                  </a:lnTo>
                  <a:lnTo>
                    <a:pt x="459" y="2397"/>
                  </a:lnTo>
                  <a:lnTo>
                    <a:pt x="459" y="592"/>
                  </a:lnTo>
                  <a:lnTo>
                    <a:pt x="0" y="592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32080" y="2093760"/>
              <a:ext cx="573120" cy="863640"/>
            </a:xfrm>
            <a:custGeom>
              <a:avLst/>
              <a:gdLst/>
              <a:ahLst/>
              <a:rect l="l" t="t" r="r" b="b"/>
              <a:pathLst>
                <a:path w="1592" h="2398">
                  <a:moveTo>
                    <a:pt x="951" y="1485"/>
                  </a:moveTo>
                  <a:lnTo>
                    <a:pt x="791" y="621"/>
                  </a:lnTo>
                  <a:lnTo>
                    <a:pt x="630" y="1485"/>
                  </a:lnTo>
                  <a:lnTo>
                    <a:pt x="951" y="1485"/>
                  </a:lnTo>
                  <a:lnTo>
                    <a:pt x="951" y="1485"/>
                  </a:lnTo>
                  <a:close/>
                  <a:moveTo>
                    <a:pt x="1045" y="2002"/>
                  </a:moveTo>
                  <a:lnTo>
                    <a:pt x="536" y="2002"/>
                  </a:lnTo>
                  <a:lnTo>
                    <a:pt x="461" y="2397"/>
                  </a:lnTo>
                  <a:lnTo>
                    <a:pt x="0" y="2397"/>
                  </a:lnTo>
                  <a:lnTo>
                    <a:pt x="548" y="0"/>
                  </a:lnTo>
                  <a:lnTo>
                    <a:pt x="1043" y="0"/>
                  </a:lnTo>
                  <a:lnTo>
                    <a:pt x="1591" y="2397"/>
                  </a:lnTo>
                  <a:lnTo>
                    <a:pt x="1120" y="2397"/>
                  </a:lnTo>
                  <a:lnTo>
                    <a:pt x="1045" y="2002"/>
                  </a:lnTo>
                  <a:lnTo>
                    <a:pt x="1045" y="2002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21040" y="2093760"/>
              <a:ext cx="493560" cy="863640"/>
            </a:xfrm>
            <a:custGeom>
              <a:avLst/>
              <a:gdLst/>
              <a:ahLst/>
              <a:rect l="l" t="t" r="r" b="b"/>
              <a:pathLst>
                <a:path w="1371" h="2398">
                  <a:moveTo>
                    <a:pt x="0" y="0"/>
                  </a:moveTo>
                  <a:lnTo>
                    <a:pt x="1370" y="0"/>
                  </a:lnTo>
                  <a:lnTo>
                    <a:pt x="1370" y="592"/>
                  </a:lnTo>
                  <a:lnTo>
                    <a:pt x="910" y="592"/>
                  </a:lnTo>
                  <a:lnTo>
                    <a:pt x="910" y="2397"/>
                  </a:lnTo>
                  <a:lnTo>
                    <a:pt x="460" y="2397"/>
                  </a:lnTo>
                  <a:lnTo>
                    <a:pt x="460" y="592"/>
                  </a:lnTo>
                  <a:lnTo>
                    <a:pt x="0" y="592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32240" y="2093760"/>
              <a:ext cx="573120" cy="863640"/>
            </a:xfrm>
            <a:custGeom>
              <a:avLst/>
              <a:gdLst/>
              <a:ahLst/>
              <a:rect l="l" t="t" r="r" b="b"/>
              <a:pathLst>
                <a:path w="1592" h="2398">
                  <a:moveTo>
                    <a:pt x="0" y="0"/>
                  </a:moveTo>
                  <a:lnTo>
                    <a:pt x="501" y="0"/>
                  </a:lnTo>
                  <a:lnTo>
                    <a:pt x="799" y="809"/>
                  </a:lnTo>
                  <a:lnTo>
                    <a:pt x="1092" y="0"/>
                  </a:lnTo>
                  <a:lnTo>
                    <a:pt x="1591" y="0"/>
                  </a:lnTo>
                  <a:lnTo>
                    <a:pt x="1023" y="1391"/>
                  </a:lnTo>
                  <a:lnTo>
                    <a:pt x="1023" y="2397"/>
                  </a:lnTo>
                  <a:lnTo>
                    <a:pt x="569" y="2397"/>
                  </a:lnTo>
                  <a:lnTo>
                    <a:pt x="569" y="1391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29120" y="2079720"/>
              <a:ext cx="477720" cy="890640"/>
            </a:xfrm>
            <a:custGeom>
              <a:avLst/>
              <a:gdLst/>
              <a:ahLst/>
              <a:rect l="l" t="t" r="r" b="b"/>
              <a:pathLst>
                <a:path w="1328" h="2474">
                  <a:moveTo>
                    <a:pt x="0" y="1640"/>
                  </a:moveTo>
                  <a:lnTo>
                    <a:pt x="428" y="1596"/>
                  </a:lnTo>
                  <a:lnTo>
                    <a:pt x="436" y="1675"/>
                  </a:lnTo>
                  <a:lnTo>
                    <a:pt x="450" y="1744"/>
                  </a:lnTo>
                  <a:lnTo>
                    <a:pt x="465" y="1803"/>
                  </a:lnTo>
                  <a:lnTo>
                    <a:pt x="487" y="1857"/>
                  </a:lnTo>
                  <a:lnTo>
                    <a:pt x="523" y="1916"/>
                  </a:lnTo>
                  <a:lnTo>
                    <a:pt x="570" y="1960"/>
                  </a:lnTo>
                  <a:lnTo>
                    <a:pt x="624" y="1990"/>
                  </a:lnTo>
                  <a:lnTo>
                    <a:pt x="686" y="2000"/>
                  </a:lnTo>
                  <a:lnTo>
                    <a:pt x="730" y="1995"/>
                  </a:lnTo>
                  <a:lnTo>
                    <a:pt x="771" y="1980"/>
                  </a:lnTo>
                  <a:lnTo>
                    <a:pt x="804" y="1955"/>
                  </a:lnTo>
                  <a:lnTo>
                    <a:pt x="836" y="1926"/>
                  </a:lnTo>
                  <a:lnTo>
                    <a:pt x="858" y="1886"/>
                  </a:lnTo>
                  <a:lnTo>
                    <a:pt x="874" y="1842"/>
                  </a:lnTo>
                  <a:lnTo>
                    <a:pt x="884" y="1798"/>
                  </a:lnTo>
                  <a:lnTo>
                    <a:pt x="889" y="1758"/>
                  </a:lnTo>
                  <a:lnTo>
                    <a:pt x="884" y="1709"/>
                  </a:lnTo>
                  <a:lnTo>
                    <a:pt x="874" y="1665"/>
                  </a:lnTo>
                  <a:lnTo>
                    <a:pt x="860" y="1625"/>
                  </a:lnTo>
                  <a:lnTo>
                    <a:pt x="838" y="1591"/>
                  </a:lnTo>
                  <a:lnTo>
                    <a:pt x="804" y="1551"/>
                  </a:lnTo>
                  <a:lnTo>
                    <a:pt x="754" y="1518"/>
                  </a:lnTo>
                  <a:lnTo>
                    <a:pt x="688" y="1483"/>
                  </a:lnTo>
                  <a:lnTo>
                    <a:pt x="607" y="1454"/>
                  </a:lnTo>
                  <a:lnTo>
                    <a:pt x="468" y="1390"/>
                  </a:lnTo>
                  <a:lnTo>
                    <a:pt x="352" y="1326"/>
                  </a:lnTo>
                  <a:lnTo>
                    <a:pt x="255" y="1247"/>
                  </a:lnTo>
                  <a:lnTo>
                    <a:pt x="183" y="1163"/>
                  </a:lnTo>
                  <a:lnTo>
                    <a:pt x="125" y="1064"/>
                  </a:lnTo>
                  <a:lnTo>
                    <a:pt x="86" y="951"/>
                  </a:lnTo>
                  <a:lnTo>
                    <a:pt x="62" y="828"/>
                  </a:lnTo>
                  <a:lnTo>
                    <a:pt x="55" y="700"/>
                  </a:lnTo>
                  <a:lnTo>
                    <a:pt x="57" y="611"/>
                  </a:lnTo>
                  <a:lnTo>
                    <a:pt x="69" y="517"/>
                  </a:lnTo>
                  <a:lnTo>
                    <a:pt x="92" y="433"/>
                  </a:lnTo>
                  <a:lnTo>
                    <a:pt x="121" y="355"/>
                  </a:lnTo>
                  <a:lnTo>
                    <a:pt x="156" y="276"/>
                  </a:lnTo>
                  <a:lnTo>
                    <a:pt x="199" y="202"/>
                  </a:lnTo>
                  <a:lnTo>
                    <a:pt x="255" y="143"/>
                  </a:lnTo>
                  <a:lnTo>
                    <a:pt x="317" y="93"/>
                  </a:lnTo>
                  <a:lnTo>
                    <a:pt x="388" y="54"/>
                  </a:lnTo>
                  <a:lnTo>
                    <a:pt x="472" y="19"/>
                  </a:lnTo>
                  <a:lnTo>
                    <a:pt x="568" y="5"/>
                  </a:lnTo>
                  <a:lnTo>
                    <a:pt x="676" y="0"/>
                  </a:lnTo>
                  <a:lnTo>
                    <a:pt x="806" y="10"/>
                  </a:lnTo>
                  <a:lnTo>
                    <a:pt x="922" y="39"/>
                  </a:lnTo>
                  <a:lnTo>
                    <a:pt x="1019" y="93"/>
                  </a:lnTo>
                  <a:lnTo>
                    <a:pt x="1103" y="172"/>
                  </a:lnTo>
                  <a:lnTo>
                    <a:pt x="1168" y="266"/>
                  </a:lnTo>
                  <a:lnTo>
                    <a:pt x="1219" y="394"/>
                  </a:lnTo>
                  <a:lnTo>
                    <a:pt x="1255" y="537"/>
                  </a:lnTo>
                  <a:lnTo>
                    <a:pt x="1279" y="714"/>
                  </a:lnTo>
                  <a:lnTo>
                    <a:pt x="853" y="754"/>
                  </a:lnTo>
                  <a:lnTo>
                    <a:pt x="841" y="680"/>
                  </a:lnTo>
                  <a:lnTo>
                    <a:pt x="826" y="611"/>
                  </a:lnTo>
                  <a:lnTo>
                    <a:pt x="806" y="562"/>
                  </a:lnTo>
                  <a:lnTo>
                    <a:pt x="783" y="517"/>
                  </a:lnTo>
                  <a:lnTo>
                    <a:pt x="751" y="488"/>
                  </a:lnTo>
                  <a:lnTo>
                    <a:pt x="718" y="463"/>
                  </a:lnTo>
                  <a:lnTo>
                    <a:pt x="676" y="453"/>
                  </a:lnTo>
                  <a:lnTo>
                    <a:pt x="631" y="448"/>
                  </a:lnTo>
                  <a:lnTo>
                    <a:pt x="593" y="448"/>
                  </a:lnTo>
                  <a:lnTo>
                    <a:pt x="561" y="458"/>
                  </a:lnTo>
                  <a:lnTo>
                    <a:pt x="534" y="478"/>
                  </a:lnTo>
                  <a:lnTo>
                    <a:pt x="513" y="502"/>
                  </a:lnTo>
                  <a:lnTo>
                    <a:pt x="494" y="532"/>
                  </a:lnTo>
                  <a:lnTo>
                    <a:pt x="482" y="562"/>
                  </a:lnTo>
                  <a:lnTo>
                    <a:pt x="475" y="591"/>
                  </a:lnTo>
                  <a:lnTo>
                    <a:pt x="472" y="631"/>
                  </a:lnTo>
                  <a:lnTo>
                    <a:pt x="472" y="660"/>
                  </a:lnTo>
                  <a:lnTo>
                    <a:pt x="480" y="690"/>
                  </a:lnTo>
                  <a:lnTo>
                    <a:pt x="491" y="709"/>
                  </a:lnTo>
                  <a:lnTo>
                    <a:pt x="506" y="734"/>
                  </a:lnTo>
                  <a:lnTo>
                    <a:pt x="527" y="754"/>
                  </a:lnTo>
                  <a:lnTo>
                    <a:pt x="558" y="778"/>
                  </a:lnTo>
                  <a:lnTo>
                    <a:pt x="602" y="803"/>
                  </a:lnTo>
                  <a:lnTo>
                    <a:pt x="657" y="828"/>
                  </a:lnTo>
                  <a:lnTo>
                    <a:pt x="794" y="872"/>
                  </a:lnTo>
                  <a:lnTo>
                    <a:pt x="910" y="926"/>
                  </a:lnTo>
                  <a:lnTo>
                    <a:pt x="1007" y="981"/>
                  </a:lnTo>
                  <a:lnTo>
                    <a:pt x="1084" y="1035"/>
                  </a:lnTo>
                  <a:lnTo>
                    <a:pt x="1141" y="1089"/>
                  </a:lnTo>
                  <a:lnTo>
                    <a:pt x="1192" y="1153"/>
                  </a:lnTo>
                  <a:lnTo>
                    <a:pt x="1236" y="1222"/>
                  </a:lnTo>
                  <a:lnTo>
                    <a:pt x="1269" y="1301"/>
                  </a:lnTo>
                  <a:lnTo>
                    <a:pt x="1293" y="1380"/>
                  </a:lnTo>
                  <a:lnTo>
                    <a:pt x="1312" y="1464"/>
                  </a:lnTo>
                  <a:lnTo>
                    <a:pt x="1323" y="1556"/>
                  </a:lnTo>
                  <a:lnTo>
                    <a:pt x="1327" y="1655"/>
                  </a:lnTo>
                  <a:lnTo>
                    <a:pt x="1319" y="1763"/>
                  </a:lnTo>
                  <a:lnTo>
                    <a:pt x="1305" y="1872"/>
                  </a:lnTo>
                  <a:lnTo>
                    <a:pt x="1281" y="1975"/>
                  </a:lnTo>
                  <a:lnTo>
                    <a:pt x="1250" y="2079"/>
                  </a:lnTo>
                  <a:lnTo>
                    <a:pt x="1205" y="2167"/>
                  </a:lnTo>
                  <a:lnTo>
                    <a:pt x="1153" y="2246"/>
                  </a:lnTo>
                  <a:lnTo>
                    <a:pt x="1096" y="2310"/>
                  </a:lnTo>
                  <a:lnTo>
                    <a:pt x="1031" y="2369"/>
                  </a:lnTo>
                  <a:lnTo>
                    <a:pt x="957" y="2409"/>
                  </a:lnTo>
                  <a:lnTo>
                    <a:pt x="872" y="2438"/>
                  </a:lnTo>
                  <a:lnTo>
                    <a:pt x="780" y="2458"/>
                  </a:lnTo>
                  <a:lnTo>
                    <a:pt x="679" y="2473"/>
                  </a:lnTo>
                  <a:lnTo>
                    <a:pt x="506" y="2453"/>
                  </a:lnTo>
                  <a:lnTo>
                    <a:pt x="364" y="2409"/>
                  </a:lnTo>
                  <a:lnTo>
                    <a:pt x="248" y="2335"/>
                  </a:lnTo>
                  <a:lnTo>
                    <a:pt x="164" y="2236"/>
                  </a:lnTo>
                  <a:lnTo>
                    <a:pt x="99" y="2108"/>
                  </a:lnTo>
                  <a:lnTo>
                    <a:pt x="48" y="1965"/>
                  </a:lnTo>
                  <a:lnTo>
                    <a:pt x="17" y="1808"/>
                  </a:lnTo>
                  <a:lnTo>
                    <a:pt x="0" y="164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52920" y="2093760"/>
              <a:ext cx="493920" cy="863640"/>
            </a:xfrm>
            <a:custGeom>
              <a:avLst/>
              <a:gdLst/>
              <a:ahLst/>
              <a:rect l="l" t="t" r="r" b="b"/>
              <a:pathLst>
                <a:path w="1371" h="2398">
                  <a:moveTo>
                    <a:pt x="0" y="0"/>
                  </a:moveTo>
                  <a:lnTo>
                    <a:pt x="1370" y="0"/>
                  </a:lnTo>
                  <a:lnTo>
                    <a:pt x="1370" y="592"/>
                  </a:lnTo>
                  <a:lnTo>
                    <a:pt x="910" y="592"/>
                  </a:lnTo>
                  <a:lnTo>
                    <a:pt x="910" y="2397"/>
                  </a:lnTo>
                  <a:lnTo>
                    <a:pt x="458" y="2397"/>
                  </a:lnTo>
                  <a:lnTo>
                    <a:pt x="458" y="592"/>
                  </a:lnTo>
                  <a:lnTo>
                    <a:pt x="0" y="592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65560" y="2093760"/>
              <a:ext cx="573120" cy="863640"/>
            </a:xfrm>
            <a:custGeom>
              <a:avLst/>
              <a:gdLst/>
              <a:ahLst/>
              <a:rect l="l" t="t" r="r" b="b"/>
              <a:pathLst>
                <a:path w="1592" h="2398">
                  <a:moveTo>
                    <a:pt x="0" y="0"/>
                  </a:moveTo>
                  <a:lnTo>
                    <a:pt x="501" y="0"/>
                  </a:lnTo>
                  <a:lnTo>
                    <a:pt x="799" y="809"/>
                  </a:lnTo>
                  <a:lnTo>
                    <a:pt x="1093" y="0"/>
                  </a:lnTo>
                  <a:lnTo>
                    <a:pt x="1591" y="0"/>
                  </a:lnTo>
                  <a:lnTo>
                    <a:pt x="1022" y="1391"/>
                  </a:lnTo>
                  <a:lnTo>
                    <a:pt x="1022" y="2397"/>
                  </a:lnTo>
                  <a:lnTo>
                    <a:pt x="569" y="2397"/>
                  </a:lnTo>
                  <a:lnTo>
                    <a:pt x="569" y="1391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70720" y="2079720"/>
              <a:ext cx="510840" cy="890640"/>
            </a:xfrm>
            <a:custGeom>
              <a:avLst/>
              <a:gdLst/>
              <a:ahLst/>
              <a:rect l="l" t="t" r="r" b="b"/>
              <a:pathLst>
                <a:path w="1420" h="2474">
                  <a:moveTo>
                    <a:pt x="1025" y="1454"/>
                  </a:moveTo>
                  <a:lnTo>
                    <a:pt x="1419" y="1645"/>
                  </a:lnTo>
                  <a:lnTo>
                    <a:pt x="1395" y="1778"/>
                  </a:lnTo>
                  <a:lnTo>
                    <a:pt x="1367" y="1896"/>
                  </a:lnTo>
                  <a:lnTo>
                    <a:pt x="1333" y="2000"/>
                  </a:lnTo>
                  <a:lnTo>
                    <a:pt x="1294" y="2098"/>
                  </a:lnTo>
                  <a:lnTo>
                    <a:pt x="1249" y="2182"/>
                  </a:lnTo>
                  <a:lnTo>
                    <a:pt x="1199" y="2261"/>
                  </a:lnTo>
                  <a:lnTo>
                    <a:pt x="1143" y="2325"/>
                  </a:lnTo>
                  <a:lnTo>
                    <a:pt x="1083" y="2374"/>
                  </a:lnTo>
                  <a:lnTo>
                    <a:pt x="1013" y="2414"/>
                  </a:lnTo>
                  <a:lnTo>
                    <a:pt x="938" y="2443"/>
                  </a:lnTo>
                  <a:lnTo>
                    <a:pt x="852" y="2458"/>
                  </a:lnTo>
                  <a:lnTo>
                    <a:pt x="757" y="2473"/>
                  </a:lnTo>
                  <a:lnTo>
                    <a:pt x="642" y="2458"/>
                  </a:lnTo>
                  <a:lnTo>
                    <a:pt x="541" y="2438"/>
                  </a:lnTo>
                  <a:lnTo>
                    <a:pt x="451" y="2404"/>
                  </a:lnTo>
                  <a:lnTo>
                    <a:pt x="371" y="2355"/>
                  </a:lnTo>
                  <a:lnTo>
                    <a:pt x="296" y="2291"/>
                  </a:lnTo>
                  <a:lnTo>
                    <a:pt x="229" y="2197"/>
                  </a:lnTo>
                  <a:lnTo>
                    <a:pt x="166" y="2089"/>
                  </a:lnTo>
                  <a:lnTo>
                    <a:pt x="111" y="1955"/>
                  </a:lnTo>
                  <a:lnTo>
                    <a:pt x="60" y="1803"/>
                  </a:lnTo>
                  <a:lnTo>
                    <a:pt x="26" y="1635"/>
                  </a:lnTo>
                  <a:lnTo>
                    <a:pt x="5" y="1444"/>
                  </a:lnTo>
                  <a:lnTo>
                    <a:pt x="0" y="1232"/>
                  </a:lnTo>
                  <a:lnTo>
                    <a:pt x="12" y="946"/>
                  </a:lnTo>
                  <a:lnTo>
                    <a:pt x="48" y="705"/>
                  </a:lnTo>
                  <a:lnTo>
                    <a:pt x="108" y="493"/>
                  </a:lnTo>
                  <a:lnTo>
                    <a:pt x="192" y="315"/>
                  </a:lnTo>
                  <a:lnTo>
                    <a:pt x="298" y="177"/>
                  </a:lnTo>
                  <a:lnTo>
                    <a:pt x="423" y="79"/>
                  </a:lnTo>
                  <a:lnTo>
                    <a:pt x="570" y="19"/>
                  </a:lnTo>
                  <a:lnTo>
                    <a:pt x="736" y="0"/>
                  </a:lnTo>
                  <a:lnTo>
                    <a:pt x="866" y="10"/>
                  </a:lnTo>
                  <a:lnTo>
                    <a:pt x="982" y="44"/>
                  </a:lnTo>
                  <a:lnTo>
                    <a:pt x="1083" y="98"/>
                  </a:lnTo>
                  <a:lnTo>
                    <a:pt x="1171" y="182"/>
                  </a:lnTo>
                  <a:lnTo>
                    <a:pt x="1244" y="286"/>
                  </a:lnTo>
                  <a:lnTo>
                    <a:pt x="1306" y="414"/>
                  </a:lnTo>
                  <a:lnTo>
                    <a:pt x="1362" y="567"/>
                  </a:lnTo>
                  <a:lnTo>
                    <a:pt x="1405" y="744"/>
                  </a:lnTo>
                  <a:lnTo>
                    <a:pt x="1008" y="887"/>
                  </a:lnTo>
                  <a:lnTo>
                    <a:pt x="996" y="833"/>
                  </a:lnTo>
                  <a:lnTo>
                    <a:pt x="986" y="788"/>
                  </a:lnTo>
                  <a:lnTo>
                    <a:pt x="974" y="754"/>
                  </a:lnTo>
                  <a:lnTo>
                    <a:pt x="965" y="729"/>
                  </a:lnTo>
                  <a:lnTo>
                    <a:pt x="943" y="690"/>
                  </a:lnTo>
                  <a:lnTo>
                    <a:pt x="921" y="650"/>
                  </a:lnTo>
                  <a:lnTo>
                    <a:pt x="897" y="621"/>
                  </a:lnTo>
                  <a:lnTo>
                    <a:pt x="873" y="596"/>
                  </a:lnTo>
                  <a:lnTo>
                    <a:pt x="844" y="576"/>
                  </a:lnTo>
                  <a:lnTo>
                    <a:pt x="812" y="562"/>
                  </a:lnTo>
                  <a:lnTo>
                    <a:pt x="781" y="552"/>
                  </a:lnTo>
                  <a:lnTo>
                    <a:pt x="748" y="552"/>
                  </a:lnTo>
                  <a:lnTo>
                    <a:pt x="675" y="567"/>
                  </a:lnTo>
                  <a:lnTo>
                    <a:pt x="613" y="601"/>
                  </a:lnTo>
                  <a:lnTo>
                    <a:pt x="558" y="665"/>
                  </a:lnTo>
                  <a:lnTo>
                    <a:pt x="515" y="754"/>
                  </a:lnTo>
                  <a:lnTo>
                    <a:pt x="486" y="838"/>
                  </a:lnTo>
                  <a:lnTo>
                    <a:pt x="467" y="946"/>
                  </a:lnTo>
                  <a:lnTo>
                    <a:pt x="455" y="1074"/>
                  </a:lnTo>
                  <a:lnTo>
                    <a:pt x="453" y="1227"/>
                  </a:lnTo>
                  <a:lnTo>
                    <a:pt x="455" y="1404"/>
                  </a:lnTo>
                  <a:lnTo>
                    <a:pt x="470" y="1556"/>
                  </a:lnTo>
                  <a:lnTo>
                    <a:pt x="494" y="1675"/>
                  </a:lnTo>
                  <a:lnTo>
                    <a:pt x="527" y="1763"/>
                  </a:lnTo>
                  <a:lnTo>
                    <a:pt x="565" y="1827"/>
                  </a:lnTo>
                  <a:lnTo>
                    <a:pt x="613" y="1877"/>
                  </a:lnTo>
                  <a:lnTo>
                    <a:pt x="668" y="1901"/>
                  </a:lnTo>
                  <a:lnTo>
                    <a:pt x="733" y="1916"/>
                  </a:lnTo>
                  <a:lnTo>
                    <a:pt x="793" y="1906"/>
                  </a:lnTo>
                  <a:lnTo>
                    <a:pt x="847" y="1882"/>
                  </a:lnTo>
                  <a:lnTo>
                    <a:pt x="892" y="1847"/>
                  </a:lnTo>
                  <a:lnTo>
                    <a:pt x="930" y="1798"/>
                  </a:lnTo>
                  <a:lnTo>
                    <a:pt x="960" y="1729"/>
                  </a:lnTo>
                  <a:lnTo>
                    <a:pt x="986" y="1650"/>
                  </a:lnTo>
                  <a:lnTo>
                    <a:pt x="1008" y="1556"/>
                  </a:lnTo>
                  <a:lnTo>
                    <a:pt x="1025" y="1454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19720" y="2093760"/>
              <a:ext cx="500040" cy="863640"/>
            </a:xfrm>
            <a:custGeom>
              <a:avLst/>
              <a:gdLst/>
              <a:ahLst/>
              <a:rect l="l" t="t" r="r" b="b"/>
              <a:pathLst>
                <a:path w="1389" h="2398">
                  <a:moveTo>
                    <a:pt x="80" y="0"/>
                  </a:moveTo>
                  <a:lnTo>
                    <a:pt x="1358" y="0"/>
                  </a:lnTo>
                  <a:lnTo>
                    <a:pt x="1358" y="478"/>
                  </a:lnTo>
                  <a:lnTo>
                    <a:pt x="538" y="1879"/>
                  </a:lnTo>
                  <a:lnTo>
                    <a:pt x="1388" y="1879"/>
                  </a:lnTo>
                  <a:lnTo>
                    <a:pt x="1388" y="2397"/>
                  </a:lnTo>
                  <a:lnTo>
                    <a:pt x="0" y="2397"/>
                  </a:lnTo>
                  <a:lnTo>
                    <a:pt x="0" y="1899"/>
                  </a:lnTo>
                  <a:lnTo>
                    <a:pt x="815" y="513"/>
                  </a:lnTo>
                  <a:lnTo>
                    <a:pt x="80" y="513"/>
                  </a:lnTo>
                  <a:lnTo>
                    <a:pt x="8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92840" y="2093760"/>
              <a:ext cx="504720" cy="863640"/>
            </a:xfrm>
            <a:custGeom>
              <a:avLst/>
              <a:gdLst/>
              <a:ahLst/>
              <a:rect l="l" t="t" r="r" b="b"/>
              <a:pathLst>
                <a:path w="1401" h="2398">
                  <a:moveTo>
                    <a:pt x="0" y="0"/>
                  </a:moveTo>
                  <a:lnTo>
                    <a:pt x="422" y="0"/>
                  </a:lnTo>
                  <a:lnTo>
                    <a:pt x="974" y="1327"/>
                  </a:lnTo>
                  <a:lnTo>
                    <a:pt x="974" y="0"/>
                  </a:lnTo>
                  <a:lnTo>
                    <a:pt x="1400" y="0"/>
                  </a:lnTo>
                  <a:lnTo>
                    <a:pt x="1400" y="2397"/>
                  </a:lnTo>
                  <a:lnTo>
                    <a:pt x="974" y="2397"/>
                  </a:lnTo>
                  <a:lnTo>
                    <a:pt x="425" y="1076"/>
                  </a:lnTo>
                  <a:lnTo>
                    <a:pt x="425" y="2397"/>
                  </a:lnTo>
                  <a:lnTo>
                    <a:pt x="0" y="2397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04120" y="2093760"/>
              <a:ext cx="442800" cy="863640"/>
            </a:xfrm>
            <a:custGeom>
              <a:avLst/>
              <a:gdLst/>
              <a:ahLst/>
              <a:rect l="l" t="t" r="r" b="b"/>
              <a:pathLst>
                <a:path w="1232" h="2398">
                  <a:moveTo>
                    <a:pt x="0" y="0"/>
                  </a:moveTo>
                  <a:lnTo>
                    <a:pt x="1210" y="0"/>
                  </a:lnTo>
                  <a:lnTo>
                    <a:pt x="1210" y="513"/>
                  </a:lnTo>
                  <a:lnTo>
                    <a:pt x="454" y="513"/>
                  </a:lnTo>
                  <a:lnTo>
                    <a:pt x="454" y="888"/>
                  </a:lnTo>
                  <a:lnTo>
                    <a:pt x="1154" y="888"/>
                  </a:lnTo>
                  <a:lnTo>
                    <a:pt x="1154" y="1381"/>
                  </a:lnTo>
                  <a:lnTo>
                    <a:pt x="454" y="1381"/>
                  </a:lnTo>
                  <a:lnTo>
                    <a:pt x="454" y="1854"/>
                  </a:lnTo>
                  <a:lnTo>
                    <a:pt x="1231" y="1854"/>
                  </a:lnTo>
                  <a:lnTo>
                    <a:pt x="1231" y="2397"/>
                  </a:lnTo>
                  <a:lnTo>
                    <a:pt x="0" y="2397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295280" y="3406320"/>
            <a:ext cx="2970360" cy="807120"/>
            <a:chOff x="1295280" y="3406320"/>
            <a:chExt cx="2970360" cy="807120"/>
          </a:xfrm>
        </p:grpSpPr>
        <p:grpSp>
          <p:nvGrpSpPr>
            <p:cNvPr id="273" name=""/>
            <p:cNvGrpSpPr/>
            <p:nvPr/>
          </p:nvGrpSpPr>
          <p:grpSpPr>
            <a:xfrm>
              <a:off x="1295280" y="3444840"/>
              <a:ext cx="2970360" cy="730440"/>
              <a:chOff x="1295280" y="3444840"/>
              <a:chExt cx="2970360" cy="730440"/>
            </a:xfrm>
          </p:grpSpPr>
          <p:sp>
            <p:nvSpPr>
              <p:cNvPr id="274" name=""/>
              <p:cNvSpPr/>
              <p:nvPr/>
            </p:nvSpPr>
            <p:spPr>
              <a:xfrm>
                <a:off x="1295280" y="3444840"/>
                <a:ext cx="2968920" cy="728640"/>
              </a:xfrm>
              <a:custGeom>
                <a:avLst/>
                <a:gdLst/>
                <a:ahLst/>
                <a:rect l="l" t="t" r="r" b="b"/>
                <a:pathLst>
                  <a:path w="8248" h="2025">
                    <a:moveTo>
                      <a:pt x="0" y="0"/>
                    </a:moveTo>
                    <a:lnTo>
                      <a:pt x="8247" y="0"/>
                    </a:lnTo>
                    <a:lnTo>
                      <a:pt x="8247" y="2024"/>
                    </a:lnTo>
                    <a:lnTo>
                      <a:pt x="0" y="202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95280" y="3444840"/>
                <a:ext cx="2968920" cy="47520"/>
              </a:xfrm>
              <a:custGeom>
                <a:avLst/>
                <a:gdLst/>
                <a:ahLst/>
                <a:rect l="l" t="t" r="r" b="b"/>
                <a:pathLst>
                  <a:path w="8248" h="132">
                    <a:moveTo>
                      <a:pt x="0" y="0"/>
                    </a:moveTo>
                    <a:lnTo>
                      <a:pt x="8247" y="0"/>
                    </a:lnTo>
                    <a:lnTo>
                      <a:pt x="8109" y="131"/>
                    </a:lnTo>
                    <a:lnTo>
                      <a:pt x="136" y="1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14880" y="3444840"/>
                <a:ext cx="50760" cy="728640"/>
              </a:xfrm>
              <a:custGeom>
                <a:avLst/>
                <a:gdLst/>
                <a:ahLst/>
                <a:rect l="l" t="t" r="r" b="b"/>
                <a:pathLst>
                  <a:path w="141" h="2025">
                    <a:moveTo>
                      <a:pt x="140" y="0"/>
                    </a:moveTo>
                    <a:lnTo>
                      <a:pt x="140" y="2024"/>
                    </a:lnTo>
                    <a:lnTo>
                      <a:pt x="0" y="1892"/>
                    </a:lnTo>
                    <a:lnTo>
                      <a:pt x="0" y="131"/>
                    </a:lnTo>
                    <a:lnTo>
                      <a:pt x="14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95280" y="4125960"/>
                <a:ext cx="2968920" cy="49320"/>
              </a:xfrm>
              <a:custGeom>
                <a:avLst/>
                <a:gdLst/>
                <a:ahLst/>
                <a:rect l="l" t="t" r="r" b="b"/>
                <a:pathLst>
                  <a:path w="8248" h="135">
                    <a:moveTo>
                      <a:pt x="8247" y="134"/>
                    </a:moveTo>
                    <a:lnTo>
                      <a:pt x="0" y="134"/>
                    </a:lnTo>
                    <a:lnTo>
                      <a:pt x="136" y="0"/>
                    </a:lnTo>
                    <a:lnTo>
                      <a:pt x="8109" y="0"/>
                    </a:lnTo>
                    <a:lnTo>
                      <a:pt x="8247" y="134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95280" y="3444840"/>
                <a:ext cx="49320" cy="728640"/>
              </a:xfrm>
              <a:custGeom>
                <a:avLst/>
                <a:gdLst/>
                <a:ahLst/>
                <a:rect l="l" t="t" r="r" b="b"/>
                <a:pathLst>
                  <a:path w="138" h="2025">
                    <a:moveTo>
                      <a:pt x="0" y="2024"/>
                    </a:moveTo>
                    <a:lnTo>
                      <a:pt x="0" y="0"/>
                    </a:lnTo>
                    <a:lnTo>
                      <a:pt x="137" y="131"/>
                    </a:lnTo>
                    <a:lnTo>
                      <a:pt x="137" y="1892"/>
                    </a:lnTo>
                    <a:lnTo>
                      <a:pt x="0" y="2024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344600" y="3406320"/>
              <a:ext cx="2873520" cy="807120"/>
              <a:chOff x="1344600" y="3406320"/>
              <a:chExt cx="2873520" cy="807120"/>
            </a:xfrm>
          </p:grpSpPr>
          <p:sp>
            <p:nvSpPr>
              <p:cNvPr id="280" name=""/>
              <p:cNvSpPr/>
              <p:nvPr/>
            </p:nvSpPr>
            <p:spPr>
              <a:xfrm>
                <a:off x="1344600" y="3492360"/>
                <a:ext cx="2873520" cy="635040"/>
              </a:xfrm>
              <a:prstGeom prst="roundRect">
                <a:avLst>
                  <a:gd name="adj" fmla="val 25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44600" y="3406320"/>
                <a:ext cx="28735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a50021"/>
                    </a:solidFill>
                    <a:latin typeface="Times New Roman"/>
                  </a:rPr>
                  <a:t>ŚREDNI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a50021"/>
                    </a:solidFill>
                    <a:latin typeface="Times New Roman"/>
                  </a:rPr>
                  <a:t>ARYTMETYCZ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295280" y="4724280"/>
            <a:ext cx="2970360" cy="762120"/>
            <a:chOff x="1295280" y="4724280"/>
            <a:chExt cx="2970360" cy="762120"/>
          </a:xfrm>
        </p:grpSpPr>
        <p:grpSp>
          <p:nvGrpSpPr>
            <p:cNvPr id="283" name=""/>
            <p:cNvGrpSpPr/>
            <p:nvPr/>
          </p:nvGrpSpPr>
          <p:grpSpPr>
            <a:xfrm>
              <a:off x="1295280" y="4724280"/>
              <a:ext cx="2970360" cy="762120"/>
              <a:chOff x="1295280" y="4724280"/>
              <a:chExt cx="2970360" cy="762120"/>
            </a:xfrm>
          </p:grpSpPr>
          <p:sp>
            <p:nvSpPr>
              <p:cNvPr id="284" name=""/>
              <p:cNvSpPr/>
              <p:nvPr/>
            </p:nvSpPr>
            <p:spPr>
              <a:xfrm>
                <a:off x="1295280" y="4724280"/>
                <a:ext cx="2968920" cy="762120"/>
              </a:xfrm>
              <a:custGeom>
                <a:avLst/>
                <a:gdLst/>
                <a:ahLst/>
                <a:rect l="l" t="t" r="r" b="b"/>
                <a:pathLst>
                  <a:path w="8248" h="2118">
                    <a:moveTo>
                      <a:pt x="0" y="0"/>
                    </a:moveTo>
                    <a:lnTo>
                      <a:pt x="8247" y="0"/>
                    </a:lnTo>
                    <a:lnTo>
                      <a:pt x="8247" y="2117"/>
                    </a:lnTo>
                    <a:lnTo>
                      <a:pt x="0" y="2117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95280" y="4724280"/>
                <a:ext cx="2968920" cy="49320"/>
              </a:xfrm>
              <a:custGeom>
                <a:avLst/>
                <a:gdLst/>
                <a:ahLst/>
                <a:rect l="l" t="t" r="r" b="b"/>
                <a:pathLst>
                  <a:path w="8248" h="138">
                    <a:moveTo>
                      <a:pt x="0" y="0"/>
                    </a:moveTo>
                    <a:lnTo>
                      <a:pt x="8247" y="0"/>
                    </a:lnTo>
                    <a:lnTo>
                      <a:pt x="8109" y="137"/>
                    </a:lnTo>
                    <a:lnTo>
                      <a:pt x="136" y="137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214880" y="4724280"/>
                <a:ext cx="50760" cy="762120"/>
              </a:xfrm>
              <a:custGeom>
                <a:avLst/>
                <a:gdLst/>
                <a:ahLst/>
                <a:rect l="l" t="t" r="r" b="b"/>
                <a:pathLst>
                  <a:path w="141" h="2118">
                    <a:moveTo>
                      <a:pt x="140" y="0"/>
                    </a:moveTo>
                    <a:lnTo>
                      <a:pt x="140" y="2117"/>
                    </a:lnTo>
                    <a:lnTo>
                      <a:pt x="0" y="1979"/>
                    </a:lnTo>
                    <a:lnTo>
                      <a:pt x="0" y="137"/>
                    </a:lnTo>
                    <a:lnTo>
                      <a:pt x="14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95280" y="5435640"/>
                <a:ext cx="2968920" cy="50760"/>
              </a:xfrm>
              <a:custGeom>
                <a:avLst/>
                <a:gdLst/>
                <a:ahLst/>
                <a:rect l="l" t="t" r="r" b="b"/>
                <a:pathLst>
                  <a:path w="8248" h="141">
                    <a:moveTo>
                      <a:pt x="8247" y="140"/>
                    </a:moveTo>
                    <a:lnTo>
                      <a:pt x="0" y="140"/>
                    </a:lnTo>
                    <a:lnTo>
                      <a:pt x="136" y="0"/>
                    </a:lnTo>
                    <a:lnTo>
                      <a:pt x="8109" y="0"/>
                    </a:lnTo>
                    <a:lnTo>
                      <a:pt x="8247" y="14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95280" y="4724280"/>
                <a:ext cx="49320" cy="762120"/>
              </a:xfrm>
              <a:custGeom>
                <a:avLst/>
                <a:gdLst/>
                <a:ahLst/>
                <a:rect l="l" t="t" r="r" b="b"/>
                <a:pathLst>
                  <a:path w="138" h="2118">
                    <a:moveTo>
                      <a:pt x="0" y="2117"/>
                    </a:moveTo>
                    <a:lnTo>
                      <a:pt x="0" y="0"/>
                    </a:lnTo>
                    <a:lnTo>
                      <a:pt x="137" y="137"/>
                    </a:lnTo>
                    <a:lnTo>
                      <a:pt x="137" y="1979"/>
                    </a:lnTo>
                    <a:lnTo>
                      <a:pt x="0" y="2117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344600" y="4773600"/>
              <a:ext cx="2873520" cy="663480"/>
              <a:chOff x="1344600" y="4773600"/>
              <a:chExt cx="2873520" cy="663480"/>
            </a:xfrm>
          </p:grpSpPr>
          <p:sp>
            <p:nvSpPr>
              <p:cNvPr id="290" name=""/>
              <p:cNvSpPr/>
              <p:nvPr/>
            </p:nvSpPr>
            <p:spPr>
              <a:xfrm>
                <a:off x="1344600" y="4773600"/>
                <a:ext cx="2873520" cy="663480"/>
              </a:xfrm>
              <a:prstGeom prst="roundRect">
                <a:avLst>
                  <a:gd name="adj" fmla="val 23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44600" y="4884480"/>
                <a:ext cx="28735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a50021"/>
                    </a:solidFill>
                    <a:latin typeface="Times New Roman"/>
                  </a:rPr>
                  <a:t>ROZSTĘ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4952880" y="3429000"/>
            <a:ext cx="2970360" cy="762120"/>
            <a:chOff x="4952880" y="3429000"/>
            <a:chExt cx="2970360" cy="762120"/>
          </a:xfrm>
        </p:grpSpPr>
        <p:grpSp>
          <p:nvGrpSpPr>
            <p:cNvPr id="293" name=""/>
            <p:cNvGrpSpPr/>
            <p:nvPr/>
          </p:nvGrpSpPr>
          <p:grpSpPr>
            <a:xfrm>
              <a:off x="4952880" y="3429000"/>
              <a:ext cx="2970360" cy="762120"/>
              <a:chOff x="4952880" y="3429000"/>
              <a:chExt cx="2970360" cy="762120"/>
            </a:xfrm>
          </p:grpSpPr>
          <p:sp>
            <p:nvSpPr>
              <p:cNvPr id="294" name=""/>
              <p:cNvSpPr/>
              <p:nvPr/>
            </p:nvSpPr>
            <p:spPr>
              <a:xfrm>
                <a:off x="4952880" y="3429000"/>
                <a:ext cx="2968920" cy="762120"/>
              </a:xfrm>
              <a:custGeom>
                <a:avLst/>
                <a:gdLst/>
                <a:ahLst/>
                <a:rect l="l" t="t" r="r" b="b"/>
                <a:pathLst>
                  <a:path w="8248" h="2118">
                    <a:moveTo>
                      <a:pt x="0" y="0"/>
                    </a:moveTo>
                    <a:lnTo>
                      <a:pt x="8247" y="0"/>
                    </a:lnTo>
                    <a:lnTo>
                      <a:pt x="8247" y="2117"/>
                    </a:lnTo>
                    <a:lnTo>
                      <a:pt x="0" y="2117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952880" y="3429000"/>
                <a:ext cx="2968920" cy="49320"/>
              </a:xfrm>
              <a:custGeom>
                <a:avLst/>
                <a:gdLst/>
                <a:ahLst/>
                <a:rect l="l" t="t" r="r" b="b"/>
                <a:pathLst>
                  <a:path w="8248" h="138">
                    <a:moveTo>
                      <a:pt x="0" y="0"/>
                    </a:moveTo>
                    <a:lnTo>
                      <a:pt x="8247" y="0"/>
                    </a:lnTo>
                    <a:lnTo>
                      <a:pt x="8109" y="137"/>
                    </a:lnTo>
                    <a:lnTo>
                      <a:pt x="136" y="137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872480" y="3429000"/>
                <a:ext cx="50760" cy="762120"/>
              </a:xfrm>
              <a:custGeom>
                <a:avLst/>
                <a:gdLst/>
                <a:ahLst/>
                <a:rect l="l" t="t" r="r" b="b"/>
                <a:pathLst>
                  <a:path w="141" h="2118">
                    <a:moveTo>
                      <a:pt x="140" y="0"/>
                    </a:moveTo>
                    <a:lnTo>
                      <a:pt x="140" y="2117"/>
                    </a:lnTo>
                    <a:lnTo>
                      <a:pt x="0" y="1979"/>
                    </a:lnTo>
                    <a:lnTo>
                      <a:pt x="0" y="137"/>
                    </a:lnTo>
                    <a:lnTo>
                      <a:pt x="14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952880" y="4140360"/>
                <a:ext cx="2968920" cy="50760"/>
              </a:xfrm>
              <a:custGeom>
                <a:avLst/>
                <a:gdLst/>
                <a:ahLst/>
                <a:rect l="l" t="t" r="r" b="b"/>
                <a:pathLst>
                  <a:path w="8248" h="141">
                    <a:moveTo>
                      <a:pt x="8247" y="140"/>
                    </a:moveTo>
                    <a:lnTo>
                      <a:pt x="0" y="140"/>
                    </a:lnTo>
                    <a:lnTo>
                      <a:pt x="136" y="0"/>
                    </a:lnTo>
                    <a:lnTo>
                      <a:pt x="8109" y="0"/>
                    </a:lnTo>
                    <a:lnTo>
                      <a:pt x="8247" y="14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952880" y="3429000"/>
                <a:ext cx="49320" cy="762120"/>
              </a:xfrm>
              <a:custGeom>
                <a:avLst/>
                <a:gdLst/>
                <a:ahLst/>
                <a:rect l="l" t="t" r="r" b="b"/>
                <a:pathLst>
                  <a:path w="138" h="2118">
                    <a:moveTo>
                      <a:pt x="0" y="2117"/>
                    </a:moveTo>
                    <a:lnTo>
                      <a:pt x="0" y="0"/>
                    </a:lnTo>
                    <a:lnTo>
                      <a:pt x="137" y="137"/>
                    </a:lnTo>
                    <a:lnTo>
                      <a:pt x="137" y="1979"/>
                    </a:lnTo>
                    <a:lnTo>
                      <a:pt x="0" y="2117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5002200" y="3478320"/>
              <a:ext cx="2873520" cy="663480"/>
              <a:chOff x="5002200" y="3478320"/>
              <a:chExt cx="2873520" cy="663480"/>
            </a:xfrm>
          </p:grpSpPr>
          <p:sp>
            <p:nvSpPr>
              <p:cNvPr id="300" name=""/>
              <p:cNvSpPr/>
              <p:nvPr/>
            </p:nvSpPr>
            <p:spPr>
              <a:xfrm>
                <a:off x="5002200" y="3478320"/>
                <a:ext cx="2873520" cy="663480"/>
              </a:xfrm>
              <a:prstGeom prst="roundRect">
                <a:avLst>
                  <a:gd name="adj" fmla="val 23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02200" y="3589200"/>
                <a:ext cx="28735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a50021"/>
                    </a:solidFill>
                    <a:latin typeface="Times New Roman"/>
                  </a:rPr>
                  <a:t>MO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4952880" y="4724280"/>
            <a:ext cx="2970360" cy="762120"/>
            <a:chOff x="4952880" y="4724280"/>
            <a:chExt cx="2970360" cy="762120"/>
          </a:xfrm>
        </p:grpSpPr>
        <p:grpSp>
          <p:nvGrpSpPr>
            <p:cNvPr id="303" name=""/>
            <p:cNvGrpSpPr/>
            <p:nvPr/>
          </p:nvGrpSpPr>
          <p:grpSpPr>
            <a:xfrm>
              <a:off x="4952880" y="4724280"/>
              <a:ext cx="2970360" cy="762120"/>
              <a:chOff x="4952880" y="4724280"/>
              <a:chExt cx="2970360" cy="762120"/>
            </a:xfrm>
          </p:grpSpPr>
          <p:sp>
            <p:nvSpPr>
              <p:cNvPr id="304" name=""/>
              <p:cNvSpPr/>
              <p:nvPr/>
            </p:nvSpPr>
            <p:spPr>
              <a:xfrm>
                <a:off x="4952880" y="4724280"/>
                <a:ext cx="2968920" cy="762120"/>
              </a:xfrm>
              <a:custGeom>
                <a:avLst/>
                <a:gdLst/>
                <a:ahLst/>
                <a:rect l="l" t="t" r="r" b="b"/>
                <a:pathLst>
                  <a:path w="8248" h="2118">
                    <a:moveTo>
                      <a:pt x="0" y="0"/>
                    </a:moveTo>
                    <a:lnTo>
                      <a:pt x="8247" y="0"/>
                    </a:lnTo>
                    <a:lnTo>
                      <a:pt x="8247" y="2117"/>
                    </a:lnTo>
                    <a:lnTo>
                      <a:pt x="0" y="2117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52880" y="4724280"/>
                <a:ext cx="2968920" cy="49320"/>
              </a:xfrm>
              <a:custGeom>
                <a:avLst/>
                <a:gdLst/>
                <a:ahLst/>
                <a:rect l="l" t="t" r="r" b="b"/>
                <a:pathLst>
                  <a:path w="8248" h="138">
                    <a:moveTo>
                      <a:pt x="0" y="0"/>
                    </a:moveTo>
                    <a:lnTo>
                      <a:pt x="8247" y="0"/>
                    </a:lnTo>
                    <a:lnTo>
                      <a:pt x="8109" y="137"/>
                    </a:lnTo>
                    <a:lnTo>
                      <a:pt x="136" y="137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872480" y="4724280"/>
                <a:ext cx="50760" cy="762120"/>
              </a:xfrm>
              <a:custGeom>
                <a:avLst/>
                <a:gdLst/>
                <a:ahLst/>
                <a:rect l="l" t="t" r="r" b="b"/>
                <a:pathLst>
                  <a:path w="141" h="2118">
                    <a:moveTo>
                      <a:pt x="140" y="0"/>
                    </a:moveTo>
                    <a:lnTo>
                      <a:pt x="140" y="2117"/>
                    </a:lnTo>
                    <a:lnTo>
                      <a:pt x="0" y="1979"/>
                    </a:lnTo>
                    <a:lnTo>
                      <a:pt x="0" y="137"/>
                    </a:lnTo>
                    <a:lnTo>
                      <a:pt x="14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952880" y="5435640"/>
                <a:ext cx="2968920" cy="50760"/>
              </a:xfrm>
              <a:custGeom>
                <a:avLst/>
                <a:gdLst/>
                <a:ahLst/>
                <a:rect l="l" t="t" r="r" b="b"/>
                <a:pathLst>
                  <a:path w="8248" h="141">
                    <a:moveTo>
                      <a:pt x="8247" y="140"/>
                    </a:moveTo>
                    <a:lnTo>
                      <a:pt x="0" y="140"/>
                    </a:lnTo>
                    <a:lnTo>
                      <a:pt x="136" y="0"/>
                    </a:lnTo>
                    <a:lnTo>
                      <a:pt x="8109" y="0"/>
                    </a:lnTo>
                    <a:lnTo>
                      <a:pt x="8247" y="14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52880" y="4724280"/>
                <a:ext cx="49320" cy="762120"/>
              </a:xfrm>
              <a:custGeom>
                <a:avLst/>
                <a:gdLst/>
                <a:ahLst/>
                <a:rect l="l" t="t" r="r" b="b"/>
                <a:pathLst>
                  <a:path w="138" h="2118">
                    <a:moveTo>
                      <a:pt x="0" y="2117"/>
                    </a:moveTo>
                    <a:lnTo>
                      <a:pt x="0" y="0"/>
                    </a:lnTo>
                    <a:lnTo>
                      <a:pt x="137" y="137"/>
                    </a:lnTo>
                    <a:lnTo>
                      <a:pt x="137" y="1979"/>
                    </a:lnTo>
                    <a:lnTo>
                      <a:pt x="0" y="2117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002200" y="4773600"/>
              <a:ext cx="2873520" cy="663480"/>
              <a:chOff x="5002200" y="4773600"/>
              <a:chExt cx="2873520" cy="663480"/>
            </a:xfrm>
          </p:grpSpPr>
          <p:sp>
            <p:nvSpPr>
              <p:cNvPr id="310" name=""/>
              <p:cNvSpPr/>
              <p:nvPr/>
            </p:nvSpPr>
            <p:spPr>
              <a:xfrm>
                <a:off x="5002200" y="4773600"/>
                <a:ext cx="2873520" cy="663480"/>
              </a:xfrm>
              <a:prstGeom prst="roundRect">
                <a:avLst>
                  <a:gd name="adj" fmla="val 23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02200" y="4884480"/>
                <a:ext cx="28735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a50021"/>
                    </a:solidFill>
                    <a:latin typeface="Times New Roman"/>
                  </a:rPr>
                  <a:t>MEDIA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246320" cy="1714680"/>
          </a:xfrm>
          <a:prstGeom prst="rect">
            <a:avLst/>
          </a:prstGeom>
          <a:ln w="0">
            <a:noFill/>
          </a:ln>
        </p:spPr>
      </p:pic>
      <p:grpSp>
        <p:nvGrpSpPr>
          <p:cNvPr id="313" name=""/>
          <p:cNvGrpSpPr/>
          <p:nvPr/>
        </p:nvGrpSpPr>
        <p:grpSpPr>
          <a:xfrm>
            <a:off x="7848720" y="5791320"/>
            <a:ext cx="760320" cy="760320"/>
            <a:chOff x="7848720" y="5791320"/>
            <a:chExt cx="760320" cy="760320"/>
          </a:xfrm>
        </p:grpSpPr>
        <p:sp>
          <p:nvSpPr>
            <p:cNvPr id="314" name=""/>
            <p:cNvSpPr/>
            <p:nvPr/>
          </p:nvSpPr>
          <p:spPr>
            <a:xfrm>
              <a:off x="7848720" y="5791320"/>
              <a:ext cx="758880" cy="758880"/>
            </a:xfrm>
            <a:custGeom>
              <a:avLst/>
              <a:gdLst/>
              <a:ahLst/>
              <a:rect l="l" t="t" r="r" b="b"/>
              <a:pathLst>
                <a:path w="2109" h="2109">
                  <a:moveTo>
                    <a:pt x="0" y="0"/>
                  </a:moveTo>
                  <a:lnTo>
                    <a:pt x="2108" y="0"/>
                  </a:lnTo>
                  <a:lnTo>
                    <a:pt x="2108" y="2108"/>
                  </a:lnTo>
                  <a:lnTo>
                    <a:pt x="0" y="2108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48720" y="5791320"/>
              <a:ext cx="758880" cy="48960"/>
            </a:xfrm>
            <a:custGeom>
              <a:avLst/>
              <a:gdLst/>
              <a:ahLst/>
              <a:rect l="l" t="t" r="r" b="b"/>
              <a:pathLst>
                <a:path w="2109" h="136">
                  <a:moveTo>
                    <a:pt x="0" y="0"/>
                  </a:moveTo>
                  <a:lnTo>
                    <a:pt x="2108" y="0"/>
                  </a:lnTo>
                  <a:lnTo>
                    <a:pt x="1971" y="135"/>
                  </a:lnTo>
                  <a:lnTo>
                    <a:pt x="135" y="135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58280" y="5791320"/>
              <a:ext cx="50760" cy="758880"/>
            </a:xfrm>
            <a:custGeom>
              <a:avLst/>
              <a:gdLst/>
              <a:ahLst/>
              <a:rect l="l" t="t" r="r" b="b"/>
              <a:pathLst>
                <a:path w="140" h="2109">
                  <a:moveTo>
                    <a:pt x="139" y="0"/>
                  </a:moveTo>
                  <a:lnTo>
                    <a:pt x="139" y="2108"/>
                  </a:lnTo>
                  <a:lnTo>
                    <a:pt x="0" y="1971"/>
                  </a:lnTo>
                  <a:lnTo>
                    <a:pt x="0" y="135"/>
                  </a:lnTo>
                  <a:lnTo>
                    <a:pt x="139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48720" y="6500880"/>
              <a:ext cx="758880" cy="50760"/>
            </a:xfrm>
            <a:custGeom>
              <a:avLst/>
              <a:gdLst/>
              <a:ahLst/>
              <a:rect l="l" t="t" r="r" b="b"/>
              <a:pathLst>
                <a:path w="2109" h="140">
                  <a:moveTo>
                    <a:pt x="2108" y="139"/>
                  </a:moveTo>
                  <a:lnTo>
                    <a:pt x="0" y="139"/>
                  </a:lnTo>
                  <a:lnTo>
                    <a:pt x="135" y="0"/>
                  </a:lnTo>
                  <a:lnTo>
                    <a:pt x="1971" y="0"/>
                  </a:lnTo>
                  <a:lnTo>
                    <a:pt x="2108" y="139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48720" y="5791320"/>
              <a:ext cx="48960" cy="758880"/>
            </a:xfrm>
            <a:custGeom>
              <a:avLst/>
              <a:gdLst/>
              <a:ahLst/>
              <a:rect l="l" t="t" r="r" b="b"/>
              <a:pathLst>
                <a:path w="136" h="2109">
                  <a:moveTo>
                    <a:pt x="0" y="2108"/>
                  </a:moveTo>
                  <a:lnTo>
                    <a:pt x="0" y="0"/>
                  </a:lnTo>
                  <a:lnTo>
                    <a:pt x="135" y="135"/>
                  </a:lnTo>
                  <a:lnTo>
                    <a:pt x="135" y="1971"/>
                  </a:lnTo>
                  <a:lnTo>
                    <a:pt x="0" y="2108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81920" y="5932440"/>
              <a:ext cx="500040" cy="498600"/>
            </a:xfrm>
            <a:custGeom>
              <a:avLst/>
              <a:gdLst/>
              <a:ahLst/>
              <a:rect l="l" t="t" r="r" b="b"/>
              <a:pathLst>
                <a:path w="1388" h="1384">
                  <a:moveTo>
                    <a:pt x="0" y="342"/>
                  </a:moveTo>
                  <a:lnTo>
                    <a:pt x="342" y="342"/>
                  </a:lnTo>
                  <a:lnTo>
                    <a:pt x="342" y="863"/>
                  </a:lnTo>
                  <a:cubicBezTo>
                    <a:pt x="342" y="953"/>
                    <a:pt x="421" y="1025"/>
                    <a:pt x="523" y="1025"/>
                  </a:cubicBezTo>
                  <a:lnTo>
                    <a:pt x="685" y="1025"/>
                  </a:lnTo>
                  <a:cubicBezTo>
                    <a:pt x="787" y="1025"/>
                    <a:pt x="864" y="953"/>
                    <a:pt x="864" y="863"/>
                  </a:cubicBezTo>
                  <a:lnTo>
                    <a:pt x="864" y="342"/>
                  </a:lnTo>
                  <a:lnTo>
                    <a:pt x="685" y="342"/>
                  </a:lnTo>
                  <a:lnTo>
                    <a:pt x="1029" y="0"/>
                  </a:lnTo>
                  <a:lnTo>
                    <a:pt x="1387" y="342"/>
                  </a:lnTo>
                  <a:lnTo>
                    <a:pt x="1208" y="342"/>
                  </a:lnTo>
                  <a:lnTo>
                    <a:pt x="1208" y="863"/>
                  </a:lnTo>
                  <a:cubicBezTo>
                    <a:pt x="1208" y="1133"/>
                    <a:pt x="956" y="1383"/>
                    <a:pt x="685" y="1383"/>
                  </a:cubicBezTo>
                  <a:lnTo>
                    <a:pt x="523" y="1383"/>
                  </a:lnTo>
                  <a:cubicBezTo>
                    <a:pt x="252" y="1383"/>
                    <a:pt x="0" y="1133"/>
                    <a:pt x="0" y="863"/>
                  </a:cubicBezTo>
                  <a:lnTo>
                    <a:pt x="0" y="342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2514600" y="304920"/>
            <a:ext cx="5332320" cy="2208240"/>
            <a:chOff x="2514600" y="304920"/>
            <a:chExt cx="5332320" cy="2208240"/>
          </a:xfrm>
        </p:grpSpPr>
        <p:sp>
          <p:nvSpPr>
            <p:cNvPr id="321" name=""/>
            <p:cNvSpPr/>
            <p:nvPr/>
          </p:nvSpPr>
          <p:spPr>
            <a:xfrm>
              <a:off x="2533680" y="304920"/>
              <a:ext cx="371520" cy="849240"/>
            </a:xfrm>
            <a:custGeom>
              <a:avLst/>
              <a:gdLst/>
              <a:ahLst/>
              <a:rect l="l" t="t" r="r" b="b"/>
              <a:pathLst>
                <a:path w="1032" h="2357">
                  <a:moveTo>
                    <a:pt x="510" y="0"/>
                  </a:moveTo>
                  <a:lnTo>
                    <a:pt x="781" y="0"/>
                  </a:lnTo>
                  <a:lnTo>
                    <a:pt x="532" y="374"/>
                  </a:lnTo>
                  <a:lnTo>
                    <a:pt x="381" y="374"/>
                  </a:lnTo>
                  <a:lnTo>
                    <a:pt x="510" y="0"/>
                  </a:lnTo>
                  <a:lnTo>
                    <a:pt x="510" y="0"/>
                  </a:lnTo>
                  <a:close/>
                  <a:moveTo>
                    <a:pt x="0" y="1719"/>
                  </a:moveTo>
                  <a:lnTo>
                    <a:pt x="334" y="1685"/>
                  </a:lnTo>
                  <a:lnTo>
                    <a:pt x="339" y="1745"/>
                  </a:lnTo>
                  <a:lnTo>
                    <a:pt x="351" y="1798"/>
                  </a:lnTo>
                  <a:lnTo>
                    <a:pt x="362" y="1843"/>
                  </a:lnTo>
                  <a:lnTo>
                    <a:pt x="379" y="1885"/>
                  </a:lnTo>
                  <a:lnTo>
                    <a:pt x="407" y="1930"/>
                  </a:lnTo>
                  <a:lnTo>
                    <a:pt x="444" y="1964"/>
                  </a:lnTo>
                  <a:lnTo>
                    <a:pt x="485" y="1987"/>
                  </a:lnTo>
                  <a:lnTo>
                    <a:pt x="534" y="1994"/>
                  </a:lnTo>
                  <a:lnTo>
                    <a:pt x="568" y="1991"/>
                  </a:lnTo>
                  <a:lnTo>
                    <a:pt x="600" y="1979"/>
                  </a:lnTo>
                  <a:lnTo>
                    <a:pt x="626" y="1960"/>
                  </a:lnTo>
                  <a:lnTo>
                    <a:pt x="650" y="1938"/>
                  </a:lnTo>
                  <a:lnTo>
                    <a:pt x="667" y="1908"/>
                  </a:lnTo>
                  <a:lnTo>
                    <a:pt x="680" y="1874"/>
                  </a:lnTo>
                  <a:lnTo>
                    <a:pt x="688" y="1840"/>
                  </a:lnTo>
                  <a:lnTo>
                    <a:pt x="691" y="1809"/>
                  </a:lnTo>
                  <a:lnTo>
                    <a:pt x="688" y="1772"/>
                  </a:lnTo>
                  <a:lnTo>
                    <a:pt x="680" y="1738"/>
                  </a:lnTo>
                  <a:lnTo>
                    <a:pt x="669" y="1707"/>
                  </a:lnTo>
                  <a:lnTo>
                    <a:pt x="652" y="1681"/>
                  </a:lnTo>
                  <a:lnTo>
                    <a:pt x="626" y="1651"/>
                  </a:lnTo>
                  <a:lnTo>
                    <a:pt x="587" y="1624"/>
                  </a:lnTo>
                  <a:lnTo>
                    <a:pt x="536" y="1598"/>
                  </a:lnTo>
                  <a:lnTo>
                    <a:pt x="472" y="1575"/>
                  </a:lnTo>
                  <a:lnTo>
                    <a:pt x="364" y="1526"/>
                  </a:lnTo>
                  <a:lnTo>
                    <a:pt x="274" y="1477"/>
                  </a:lnTo>
                  <a:lnTo>
                    <a:pt x="199" y="1416"/>
                  </a:lnTo>
                  <a:lnTo>
                    <a:pt x="143" y="1352"/>
                  </a:lnTo>
                  <a:lnTo>
                    <a:pt x="98" y="1277"/>
                  </a:lnTo>
                  <a:lnTo>
                    <a:pt x="68" y="1190"/>
                  </a:lnTo>
                  <a:lnTo>
                    <a:pt x="49" y="1094"/>
                  </a:lnTo>
                  <a:lnTo>
                    <a:pt x="43" y="996"/>
                  </a:lnTo>
                  <a:lnTo>
                    <a:pt x="45" y="928"/>
                  </a:lnTo>
                  <a:lnTo>
                    <a:pt x="55" y="856"/>
                  </a:lnTo>
                  <a:lnTo>
                    <a:pt x="71" y="792"/>
                  </a:lnTo>
                  <a:lnTo>
                    <a:pt x="94" y="733"/>
                  </a:lnTo>
                  <a:lnTo>
                    <a:pt x="122" y="672"/>
                  </a:lnTo>
                  <a:lnTo>
                    <a:pt x="156" y="616"/>
                  </a:lnTo>
                  <a:lnTo>
                    <a:pt x="199" y="570"/>
                  </a:lnTo>
                  <a:lnTo>
                    <a:pt x="248" y="533"/>
                  </a:lnTo>
                  <a:lnTo>
                    <a:pt x="302" y="502"/>
                  </a:lnTo>
                  <a:lnTo>
                    <a:pt x="367" y="476"/>
                  </a:lnTo>
                  <a:lnTo>
                    <a:pt x="442" y="465"/>
                  </a:lnTo>
                  <a:lnTo>
                    <a:pt x="527" y="461"/>
                  </a:lnTo>
                  <a:lnTo>
                    <a:pt x="628" y="468"/>
                  </a:lnTo>
                  <a:lnTo>
                    <a:pt x="718" y="491"/>
                  </a:lnTo>
                  <a:lnTo>
                    <a:pt x="793" y="533"/>
                  </a:lnTo>
                  <a:lnTo>
                    <a:pt x="858" y="593"/>
                  </a:lnTo>
                  <a:lnTo>
                    <a:pt x="908" y="665"/>
                  </a:lnTo>
                  <a:lnTo>
                    <a:pt x="947" y="763"/>
                  </a:lnTo>
                  <a:lnTo>
                    <a:pt x="975" y="872"/>
                  </a:lnTo>
                  <a:lnTo>
                    <a:pt x="994" y="1008"/>
                  </a:lnTo>
                  <a:lnTo>
                    <a:pt x="663" y="1038"/>
                  </a:lnTo>
                  <a:lnTo>
                    <a:pt x="654" y="981"/>
                  </a:lnTo>
                  <a:lnTo>
                    <a:pt x="643" y="928"/>
                  </a:lnTo>
                  <a:lnTo>
                    <a:pt x="628" y="890"/>
                  </a:lnTo>
                  <a:lnTo>
                    <a:pt x="609" y="856"/>
                  </a:lnTo>
                  <a:lnTo>
                    <a:pt x="585" y="834"/>
                  </a:lnTo>
                  <a:lnTo>
                    <a:pt x="558" y="815"/>
                  </a:lnTo>
                  <a:lnTo>
                    <a:pt x="527" y="807"/>
                  </a:lnTo>
                  <a:lnTo>
                    <a:pt x="491" y="804"/>
                  </a:lnTo>
                  <a:lnTo>
                    <a:pt x="461" y="804"/>
                  </a:lnTo>
                  <a:lnTo>
                    <a:pt x="437" y="811"/>
                  </a:lnTo>
                  <a:lnTo>
                    <a:pt x="416" y="826"/>
                  </a:lnTo>
                  <a:lnTo>
                    <a:pt x="399" y="845"/>
                  </a:lnTo>
                  <a:lnTo>
                    <a:pt x="384" y="868"/>
                  </a:lnTo>
                  <a:lnTo>
                    <a:pt x="375" y="890"/>
                  </a:lnTo>
                  <a:lnTo>
                    <a:pt x="369" y="913"/>
                  </a:lnTo>
                  <a:lnTo>
                    <a:pt x="367" y="943"/>
                  </a:lnTo>
                  <a:lnTo>
                    <a:pt x="367" y="966"/>
                  </a:lnTo>
                  <a:lnTo>
                    <a:pt x="373" y="989"/>
                  </a:lnTo>
                  <a:lnTo>
                    <a:pt x="382" y="1004"/>
                  </a:lnTo>
                  <a:lnTo>
                    <a:pt x="394" y="1023"/>
                  </a:lnTo>
                  <a:lnTo>
                    <a:pt x="410" y="1038"/>
                  </a:lnTo>
                  <a:lnTo>
                    <a:pt x="435" y="1057"/>
                  </a:lnTo>
                  <a:lnTo>
                    <a:pt x="469" y="1076"/>
                  </a:lnTo>
                  <a:lnTo>
                    <a:pt x="512" y="1094"/>
                  </a:lnTo>
                  <a:lnTo>
                    <a:pt x="618" y="1128"/>
                  </a:lnTo>
                  <a:lnTo>
                    <a:pt x="708" y="1170"/>
                  </a:lnTo>
                  <a:lnTo>
                    <a:pt x="783" y="1212"/>
                  </a:lnTo>
                  <a:lnTo>
                    <a:pt x="843" y="1254"/>
                  </a:lnTo>
                  <a:lnTo>
                    <a:pt x="887" y="1296"/>
                  </a:lnTo>
                  <a:lnTo>
                    <a:pt x="926" y="1345"/>
                  </a:lnTo>
                  <a:lnTo>
                    <a:pt x="960" y="1398"/>
                  </a:lnTo>
                  <a:lnTo>
                    <a:pt x="986" y="1458"/>
                  </a:lnTo>
                  <a:lnTo>
                    <a:pt x="1005" y="1518"/>
                  </a:lnTo>
                  <a:lnTo>
                    <a:pt x="1020" y="1583"/>
                  </a:lnTo>
                  <a:lnTo>
                    <a:pt x="1028" y="1654"/>
                  </a:lnTo>
                  <a:lnTo>
                    <a:pt x="1031" y="1730"/>
                  </a:lnTo>
                  <a:lnTo>
                    <a:pt x="1026" y="1813"/>
                  </a:lnTo>
                  <a:lnTo>
                    <a:pt x="1014" y="1896"/>
                  </a:lnTo>
                  <a:lnTo>
                    <a:pt x="996" y="1975"/>
                  </a:lnTo>
                  <a:lnTo>
                    <a:pt x="971" y="2051"/>
                  </a:lnTo>
                  <a:lnTo>
                    <a:pt x="936" y="2123"/>
                  </a:lnTo>
                  <a:lnTo>
                    <a:pt x="896" y="2183"/>
                  </a:lnTo>
                  <a:lnTo>
                    <a:pt x="853" y="2232"/>
                  </a:lnTo>
                  <a:lnTo>
                    <a:pt x="802" y="2278"/>
                  </a:lnTo>
                  <a:lnTo>
                    <a:pt x="744" y="2307"/>
                  </a:lnTo>
                  <a:lnTo>
                    <a:pt x="678" y="2330"/>
                  </a:lnTo>
                  <a:lnTo>
                    <a:pt x="607" y="2345"/>
                  </a:lnTo>
                  <a:lnTo>
                    <a:pt x="528" y="2356"/>
                  </a:lnTo>
                  <a:lnTo>
                    <a:pt x="394" y="2341"/>
                  </a:lnTo>
                  <a:lnTo>
                    <a:pt x="283" y="2307"/>
                  </a:lnTo>
                  <a:lnTo>
                    <a:pt x="193" y="2251"/>
                  </a:lnTo>
                  <a:lnTo>
                    <a:pt x="128" y="2176"/>
                  </a:lnTo>
                  <a:lnTo>
                    <a:pt x="77" y="2077"/>
                  </a:lnTo>
                  <a:lnTo>
                    <a:pt x="38" y="1968"/>
                  </a:lnTo>
                  <a:lnTo>
                    <a:pt x="13" y="1847"/>
                  </a:lnTo>
                  <a:lnTo>
                    <a:pt x="0" y="1719"/>
                  </a:lnTo>
                  <a:lnTo>
                    <a:pt x="0" y="1719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70360" y="480960"/>
              <a:ext cx="401400" cy="662040"/>
            </a:xfrm>
            <a:custGeom>
              <a:avLst/>
              <a:gdLst/>
              <a:ahLst/>
              <a:rect l="l" t="t" r="r" b="b"/>
              <a:pathLst>
                <a:path w="1116" h="1837">
                  <a:moveTo>
                    <a:pt x="351" y="740"/>
                  </a:moveTo>
                  <a:lnTo>
                    <a:pt x="499" y="740"/>
                  </a:lnTo>
                  <a:lnTo>
                    <a:pt x="514" y="740"/>
                  </a:lnTo>
                  <a:lnTo>
                    <a:pt x="535" y="733"/>
                  </a:lnTo>
                  <a:lnTo>
                    <a:pt x="559" y="725"/>
                  </a:lnTo>
                  <a:lnTo>
                    <a:pt x="593" y="718"/>
                  </a:lnTo>
                  <a:lnTo>
                    <a:pt x="608" y="710"/>
                  </a:lnTo>
                  <a:lnTo>
                    <a:pt x="623" y="695"/>
                  </a:lnTo>
                  <a:lnTo>
                    <a:pt x="636" y="680"/>
                  </a:lnTo>
                  <a:lnTo>
                    <a:pt x="649" y="657"/>
                  </a:lnTo>
                  <a:lnTo>
                    <a:pt x="658" y="635"/>
                  </a:lnTo>
                  <a:lnTo>
                    <a:pt x="666" y="607"/>
                  </a:lnTo>
                  <a:lnTo>
                    <a:pt x="670" y="581"/>
                  </a:lnTo>
                  <a:lnTo>
                    <a:pt x="671" y="554"/>
                  </a:lnTo>
                  <a:lnTo>
                    <a:pt x="668" y="509"/>
                  </a:lnTo>
                  <a:lnTo>
                    <a:pt x="662" y="471"/>
                  </a:lnTo>
                  <a:lnTo>
                    <a:pt x="651" y="441"/>
                  </a:lnTo>
                  <a:lnTo>
                    <a:pt x="638" y="415"/>
                  </a:lnTo>
                  <a:lnTo>
                    <a:pt x="615" y="392"/>
                  </a:lnTo>
                  <a:lnTo>
                    <a:pt x="585" y="377"/>
                  </a:lnTo>
                  <a:lnTo>
                    <a:pt x="550" y="369"/>
                  </a:lnTo>
                  <a:lnTo>
                    <a:pt x="505" y="369"/>
                  </a:lnTo>
                  <a:lnTo>
                    <a:pt x="351" y="369"/>
                  </a:lnTo>
                  <a:lnTo>
                    <a:pt x="351" y="740"/>
                  </a:lnTo>
                  <a:lnTo>
                    <a:pt x="351" y="740"/>
                  </a:lnTo>
                  <a:close/>
                  <a:moveTo>
                    <a:pt x="0" y="1836"/>
                  </a:moveTo>
                  <a:lnTo>
                    <a:pt x="0" y="0"/>
                  </a:lnTo>
                  <a:lnTo>
                    <a:pt x="583" y="0"/>
                  </a:lnTo>
                  <a:lnTo>
                    <a:pt x="658" y="0"/>
                  </a:lnTo>
                  <a:lnTo>
                    <a:pt x="726" y="11"/>
                  </a:lnTo>
                  <a:lnTo>
                    <a:pt x="784" y="26"/>
                  </a:lnTo>
                  <a:lnTo>
                    <a:pt x="832" y="45"/>
                  </a:lnTo>
                  <a:lnTo>
                    <a:pt x="872" y="72"/>
                  </a:lnTo>
                  <a:lnTo>
                    <a:pt x="909" y="110"/>
                  </a:lnTo>
                  <a:lnTo>
                    <a:pt x="941" y="155"/>
                  </a:lnTo>
                  <a:lnTo>
                    <a:pt x="971" y="212"/>
                  </a:lnTo>
                  <a:lnTo>
                    <a:pt x="994" y="276"/>
                  </a:lnTo>
                  <a:lnTo>
                    <a:pt x="1010" y="347"/>
                  </a:lnTo>
                  <a:lnTo>
                    <a:pt x="1020" y="422"/>
                  </a:lnTo>
                  <a:lnTo>
                    <a:pt x="1024" y="509"/>
                  </a:lnTo>
                  <a:lnTo>
                    <a:pt x="1020" y="581"/>
                  </a:lnTo>
                  <a:lnTo>
                    <a:pt x="1012" y="650"/>
                  </a:lnTo>
                  <a:lnTo>
                    <a:pt x="1001" y="714"/>
                  </a:lnTo>
                  <a:lnTo>
                    <a:pt x="984" y="771"/>
                  </a:lnTo>
                  <a:lnTo>
                    <a:pt x="960" y="823"/>
                  </a:lnTo>
                  <a:lnTo>
                    <a:pt x="934" y="873"/>
                  </a:lnTo>
                  <a:lnTo>
                    <a:pt x="904" y="910"/>
                  </a:lnTo>
                  <a:lnTo>
                    <a:pt x="872" y="952"/>
                  </a:lnTo>
                  <a:lnTo>
                    <a:pt x="846" y="971"/>
                  </a:lnTo>
                  <a:lnTo>
                    <a:pt x="817" y="990"/>
                  </a:lnTo>
                  <a:lnTo>
                    <a:pt x="784" y="1009"/>
                  </a:lnTo>
                  <a:lnTo>
                    <a:pt x="748" y="1024"/>
                  </a:lnTo>
                  <a:lnTo>
                    <a:pt x="776" y="1039"/>
                  </a:lnTo>
                  <a:lnTo>
                    <a:pt x="801" y="1058"/>
                  </a:lnTo>
                  <a:lnTo>
                    <a:pt x="821" y="1077"/>
                  </a:lnTo>
                  <a:lnTo>
                    <a:pt x="840" y="1092"/>
                  </a:lnTo>
                  <a:lnTo>
                    <a:pt x="849" y="1107"/>
                  </a:lnTo>
                  <a:lnTo>
                    <a:pt x="862" y="1126"/>
                  </a:lnTo>
                  <a:lnTo>
                    <a:pt x="877" y="1152"/>
                  </a:lnTo>
                  <a:lnTo>
                    <a:pt x="896" y="1186"/>
                  </a:lnTo>
                  <a:lnTo>
                    <a:pt x="911" y="1224"/>
                  </a:lnTo>
                  <a:lnTo>
                    <a:pt x="926" y="1255"/>
                  </a:lnTo>
                  <a:lnTo>
                    <a:pt x="935" y="1282"/>
                  </a:lnTo>
                  <a:lnTo>
                    <a:pt x="945" y="1304"/>
                  </a:lnTo>
                  <a:lnTo>
                    <a:pt x="1115" y="1836"/>
                  </a:lnTo>
                  <a:lnTo>
                    <a:pt x="718" y="1836"/>
                  </a:lnTo>
                  <a:lnTo>
                    <a:pt x="531" y="1274"/>
                  </a:lnTo>
                  <a:lnTo>
                    <a:pt x="512" y="1224"/>
                  </a:lnTo>
                  <a:lnTo>
                    <a:pt x="495" y="1182"/>
                  </a:lnTo>
                  <a:lnTo>
                    <a:pt x="480" y="1152"/>
                  </a:lnTo>
                  <a:lnTo>
                    <a:pt x="467" y="1133"/>
                  </a:lnTo>
                  <a:lnTo>
                    <a:pt x="447" y="1114"/>
                  </a:lnTo>
                  <a:lnTo>
                    <a:pt x="428" y="1099"/>
                  </a:lnTo>
                  <a:lnTo>
                    <a:pt x="405" y="1092"/>
                  </a:lnTo>
                  <a:lnTo>
                    <a:pt x="383" y="1092"/>
                  </a:lnTo>
                  <a:lnTo>
                    <a:pt x="351" y="1092"/>
                  </a:lnTo>
                  <a:lnTo>
                    <a:pt x="351" y="1836"/>
                  </a:lnTo>
                  <a:lnTo>
                    <a:pt x="0" y="1836"/>
                  </a:lnTo>
                  <a:lnTo>
                    <a:pt x="0" y="1836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3160" y="480960"/>
              <a:ext cx="344520" cy="662040"/>
            </a:xfrm>
            <a:custGeom>
              <a:avLst/>
              <a:gdLst/>
              <a:ahLst/>
              <a:rect l="l" t="t" r="r" b="b"/>
              <a:pathLst>
                <a:path w="957" h="1837">
                  <a:moveTo>
                    <a:pt x="0" y="0"/>
                  </a:moveTo>
                  <a:lnTo>
                    <a:pt x="939" y="0"/>
                  </a:lnTo>
                  <a:lnTo>
                    <a:pt x="939" y="392"/>
                  </a:lnTo>
                  <a:lnTo>
                    <a:pt x="351" y="392"/>
                  </a:lnTo>
                  <a:lnTo>
                    <a:pt x="351" y="680"/>
                  </a:lnTo>
                  <a:lnTo>
                    <a:pt x="896" y="680"/>
                  </a:lnTo>
                  <a:lnTo>
                    <a:pt x="896" y="1058"/>
                  </a:lnTo>
                  <a:lnTo>
                    <a:pt x="351" y="1058"/>
                  </a:lnTo>
                  <a:lnTo>
                    <a:pt x="351" y="1421"/>
                  </a:lnTo>
                  <a:lnTo>
                    <a:pt x="956" y="1421"/>
                  </a:lnTo>
                  <a:lnTo>
                    <a:pt x="956" y="1836"/>
                  </a:lnTo>
                  <a:lnTo>
                    <a:pt x="0" y="1836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27520" y="480960"/>
              <a:ext cx="376200" cy="662040"/>
            </a:xfrm>
            <a:custGeom>
              <a:avLst/>
              <a:gdLst/>
              <a:ahLst/>
              <a:rect l="l" t="t" r="r" b="b"/>
              <a:pathLst>
                <a:path w="1045" h="1837">
                  <a:moveTo>
                    <a:pt x="350" y="415"/>
                  </a:moveTo>
                  <a:lnTo>
                    <a:pt x="350" y="1418"/>
                  </a:lnTo>
                  <a:lnTo>
                    <a:pt x="436" y="1418"/>
                  </a:lnTo>
                  <a:lnTo>
                    <a:pt x="486" y="1414"/>
                  </a:lnTo>
                  <a:lnTo>
                    <a:pt x="530" y="1406"/>
                  </a:lnTo>
                  <a:lnTo>
                    <a:pt x="565" y="1395"/>
                  </a:lnTo>
                  <a:lnTo>
                    <a:pt x="593" y="1380"/>
                  </a:lnTo>
                  <a:lnTo>
                    <a:pt x="616" y="1353"/>
                  </a:lnTo>
                  <a:lnTo>
                    <a:pt x="634" y="1319"/>
                  </a:lnTo>
                  <a:lnTo>
                    <a:pt x="651" y="1285"/>
                  </a:lnTo>
                  <a:lnTo>
                    <a:pt x="666" y="1240"/>
                  </a:lnTo>
                  <a:lnTo>
                    <a:pt x="676" y="1182"/>
                  </a:lnTo>
                  <a:lnTo>
                    <a:pt x="685" y="1111"/>
                  </a:lnTo>
                  <a:lnTo>
                    <a:pt x="691" y="1024"/>
                  </a:lnTo>
                  <a:lnTo>
                    <a:pt x="693" y="922"/>
                  </a:lnTo>
                  <a:lnTo>
                    <a:pt x="689" y="786"/>
                  </a:lnTo>
                  <a:lnTo>
                    <a:pt x="678" y="676"/>
                  </a:lnTo>
                  <a:lnTo>
                    <a:pt x="659" y="585"/>
                  </a:lnTo>
                  <a:lnTo>
                    <a:pt x="634" y="520"/>
                  </a:lnTo>
                  <a:lnTo>
                    <a:pt x="599" y="471"/>
                  </a:lnTo>
                  <a:lnTo>
                    <a:pt x="556" y="437"/>
                  </a:lnTo>
                  <a:lnTo>
                    <a:pt x="501" y="422"/>
                  </a:lnTo>
                  <a:lnTo>
                    <a:pt x="438" y="415"/>
                  </a:lnTo>
                  <a:lnTo>
                    <a:pt x="350" y="415"/>
                  </a:lnTo>
                  <a:lnTo>
                    <a:pt x="350" y="415"/>
                  </a:lnTo>
                  <a:close/>
                  <a:moveTo>
                    <a:pt x="0" y="0"/>
                  </a:moveTo>
                  <a:lnTo>
                    <a:pt x="520" y="0"/>
                  </a:lnTo>
                  <a:lnTo>
                    <a:pt x="593" y="4"/>
                  </a:lnTo>
                  <a:lnTo>
                    <a:pt x="659" y="15"/>
                  </a:lnTo>
                  <a:lnTo>
                    <a:pt x="719" y="38"/>
                  </a:lnTo>
                  <a:lnTo>
                    <a:pt x="771" y="68"/>
                  </a:lnTo>
                  <a:lnTo>
                    <a:pt x="814" y="102"/>
                  </a:lnTo>
                  <a:lnTo>
                    <a:pt x="855" y="151"/>
                  </a:lnTo>
                  <a:lnTo>
                    <a:pt x="893" y="200"/>
                  </a:lnTo>
                  <a:lnTo>
                    <a:pt x="927" y="261"/>
                  </a:lnTo>
                  <a:lnTo>
                    <a:pt x="955" y="324"/>
                  </a:lnTo>
                  <a:lnTo>
                    <a:pt x="979" y="396"/>
                  </a:lnTo>
                  <a:lnTo>
                    <a:pt x="999" y="471"/>
                  </a:lnTo>
                  <a:lnTo>
                    <a:pt x="1016" y="554"/>
                  </a:lnTo>
                  <a:lnTo>
                    <a:pt x="1027" y="638"/>
                  </a:lnTo>
                  <a:lnTo>
                    <a:pt x="1036" y="725"/>
                  </a:lnTo>
                  <a:lnTo>
                    <a:pt x="1042" y="816"/>
                  </a:lnTo>
                  <a:lnTo>
                    <a:pt x="1044" y="910"/>
                  </a:lnTo>
                  <a:lnTo>
                    <a:pt x="1040" y="1046"/>
                  </a:lnTo>
                  <a:lnTo>
                    <a:pt x="1032" y="1171"/>
                  </a:lnTo>
                  <a:lnTo>
                    <a:pt x="1019" y="1274"/>
                  </a:lnTo>
                  <a:lnTo>
                    <a:pt x="1002" y="1365"/>
                  </a:lnTo>
                  <a:lnTo>
                    <a:pt x="979" y="1440"/>
                  </a:lnTo>
                  <a:lnTo>
                    <a:pt x="953" y="1516"/>
                  </a:lnTo>
                  <a:lnTo>
                    <a:pt x="923" y="1576"/>
                  </a:lnTo>
                  <a:lnTo>
                    <a:pt x="889" y="1640"/>
                  </a:lnTo>
                  <a:lnTo>
                    <a:pt x="850" y="1686"/>
                  </a:lnTo>
                  <a:lnTo>
                    <a:pt x="811" y="1731"/>
                  </a:lnTo>
                  <a:lnTo>
                    <a:pt x="771" y="1761"/>
                  </a:lnTo>
                  <a:lnTo>
                    <a:pt x="730" y="1784"/>
                  </a:lnTo>
                  <a:lnTo>
                    <a:pt x="672" y="1807"/>
                  </a:lnTo>
                  <a:lnTo>
                    <a:pt x="619" y="1821"/>
                  </a:lnTo>
                  <a:lnTo>
                    <a:pt x="567" y="1828"/>
                  </a:lnTo>
                  <a:lnTo>
                    <a:pt x="520" y="1836"/>
                  </a:lnTo>
                  <a:lnTo>
                    <a:pt x="0" y="18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68880" y="480960"/>
              <a:ext cx="392040" cy="662040"/>
            </a:xfrm>
            <a:custGeom>
              <a:avLst/>
              <a:gdLst/>
              <a:ahLst/>
              <a:rect l="l" t="t" r="r" b="b"/>
              <a:pathLst>
                <a:path w="1089" h="1837">
                  <a:moveTo>
                    <a:pt x="0" y="0"/>
                  </a:moveTo>
                  <a:lnTo>
                    <a:pt x="328" y="0"/>
                  </a:lnTo>
                  <a:lnTo>
                    <a:pt x="757" y="1016"/>
                  </a:lnTo>
                  <a:lnTo>
                    <a:pt x="757" y="0"/>
                  </a:lnTo>
                  <a:lnTo>
                    <a:pt x="1088" y="0"/>
                  </a:lnTo>
                  <a:lnTo>
                    <a:pt x="1088" y="1836"/>
                  </a:lnTo>
                  <a:lnTo>
                    <a:pt x="757" y="1836"/>
                  </a:lnTo>
                  <a:lnTo>
                    <a:pt x="330" y="823"/>
                  </a:lnTo>
                  <a:lnTo>
                    <a:pt x="330" y="1836"/>
                  </a:lnTo>
                  <a:lnTo>
                    <a:pt x="0" y="1836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49840" y="480960"/>
              <a:ext cx="127080" cy="662040"/>
            </a:xfrm>
            <a:custGeom>
              <a:avLst/>
              <a:gdLst/>
              <a:ahLst/>
              <a:rect l="l" t="t" r="r" b="b"/>
              <a:pathLst>
                <a:path w="352" h="1837">
                  <a:moveTo>
                    <a:pt x="0" y="0"/>
                  </a:moveTo>
                  <a:lnTo>
                    <a:pt x="351" y="0"/>
                  </a:lnTo>
                  <a:lnTo>
                    <a:pt x="351" y="1836"/>
                  </a:lnTo>
                  <a:lnTo>
                    <a:pt x="0" y="1836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25880" y="480960"/>
              <a:ext cx="446400" cy="662040"/>
            </a:xfrm>
            <a:custGeom>
              <a:avLst/>
              <a:gdLst/>
              <a:ahLst/>
              <a:rect l="l" t="t" r="r" b="b"/>
              <a:pathLst>
                <a:path w="1239" h="1837">
                  <a:moveTo>
                    <a:pt x="739" y="1137"/>
                  </a:moveTo>
                  <a:lnTo>
                    <a:pt x="616" y="475"/>
                  </a:lnTo>
                  <a:lnTo>
                    <a:pt x="490" y="1137"/>
                  </a:lnTo>
                  <a:lnTo>
                    <a:pt x="739" y="1137"/>
                  </a:lnTo>
                  <a:lnTo>
                    <a:pt x="739" y="1137"/>
                  </a:lnTo>
                  <a:close/>
                  <a:moveTo>
                    <a:pt x="812" y="1531"/>
                  </a:moveTo>
                  <a:lnTo>
                    <a:pt x="417" y="1531"/>
                  </a:lnTo>
                  <a:lnTo>
                    <a:pt x="358" y="1836"/>
                  </a:lnTo>
                  <a:lnTo>
                    <a:pt x="0" y="1836"/>
                  </a:lnTo>
                  <a:lnTo>
                    <a:pt x="426" y="0"/>
                  </a:lnTo>
                  <a:lnTo>
                    <a:pt x="810" y="0"/>
                  </a:lnTo>
                  <a:lnTo>
                    <a:pt x="1238" y="1836"/>
                  </a:lnTo>
                  <a:lnTo>
                    <a:pt x="871" y="1836"/>
                  </a:lnTo>
                  <a:lnTo>
                    <a:pt x="812" y="1531"/>
                  </a:lnTo>
                  <a:lnTo>
                    <a:pt x="812" y="1531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4600" y="1841400"/>
              <a:ext cx="446040" cy="662040"/>
            </a:xfrm>
            <a:custGeom>
              <a:avLst/>
              <a:gdLst/>
              <a:ahLst/>
              <a:rect l="l" t="t" r="r" b="b"/>
              <a:pathLst>
                <a:path w="1238" h="1838">
                  <a:moveTo>
                    <a:pt x="739" y="1137"/>
                  </a:moveTo>
                  <a:lnTo>
                    <a:pt x="614" y="476"/>
                  </a:lnTo>
                  <a:lnTo>
                    <a:pt x="489" y="1137"/>
                  </a:lnTo>
                  <a:lnTo>
                    <a:pt x="739" y="1137"/>
                  </a:lnTo>
                  <a:lnTo>
                    <a:pt x="739" y="1137"/>
                  </a:lnTo>
                  <a:close/>
                  <a:moveTo>
                    <a:pt x="812" y="1535"/>
                  </a:moveTo>
                  <a:lnTo>
                    <a:pt x="416" y="1535"/>
                  </a:lnTo>
                  <a:lnTo>
                    <a:pt x="358" y="1837"/>
                  </a:lnTo>
                  <a:lnTo>
                    <a:pt x="0" y="1837"/>
                  </a:lnTo>
                  <a:lnTo>
                    <a:pt x="425" y="0"/>
                  </a:lnTo>
                  <a:lnTo>
                    <a:pt x="810" y="0"/>
                  </a:lnTo>
                  <a:lnTo>
                    <a:pt x="1237" y="1837"/>
                  </a:lnTo>
                  <a:lnTo>
                    <a:pt x="870" y="1837"/>
                  </a:lnTo>
                  <a:lnTo>
                    <a:pt x="812" y="1535"/>
                  </a:lnTo>
                  <a:lnTo>
                    <a:pt x="812" y="1535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02040" y="1841400"/>
              <a:ext cx="401400" cy="662040"/>
            </a:xfrm>
            <a:custGeom>
              <a:avLst/>
              <a:gdLst/>
              <a:ahLst/>
              <a:rect l="l" t="t" r="r" b="b"/>
              <a:pathLst>
                <a:path w="1116" h="1838">
                  <a:moveTo>
                    <a:pt x="351" y="741"/>
                  </a:moveTo>
                  <a:lnTo>
                    <a:pt x="499" y="741"/>
                  </a:lnTo>
                  <a:lnTo>
                    <a:pt x="514" y="741"/>
                  </a:lnTo>
                  <a:lnTo>
                    <a:pt x="535" y="734"/>
                  </a:lnTo>
                  <a:lnTo>
                    <a:pt x="559" y="726"/>
                  </a:lnTo>
                  <a:lnTo>
                    <a:pt x="593" y="719"/>
                  </a:lnTo>
                  <a:lnTo>
                    <a:pt x="608" y="711"/>
                  </a:lnTo>
                  <a:lnTo>
                    <a:pt x="623" y="696"/>
                  </a:lnTo>
                  <a:lnTo>
                    <a:pt x="636" y="681"/>
                  </a:lnTo>
                  <a:lnTo>
                    <a:pt x="649" y="658"/>
                  </a:lnTo>
                  <a:lnTo>
                    <a:pt x="658" y="636"/>
                  </a:lnTo>
                  <a:lnTo>
                    <a:pt x="666" y="608"/>
                  </a:lnTo>
                  <a:lnTo>
                    <a:pt x="670" y="582"/>
                  </a:lnTo>
                  <a:lnTo>
                    <a:pt x="671" y="555"/>
                  </a:lnTo>
                  <a:lnTo>
                    <a:pt x="668" y="510"/>
                  </a:lnTo>
                  <a:lnTo>
                    <a:pt x="662" y="472"/>
                  </a:lnTo>
                  <a:lnTo>
                    <a:pt x="651" y="442"/>
                  </a:lnTo>
                  <a:lnTo>
                    <a:pt x="638" y="416"/>
                  </a:lnTo>
                  <a:lnTo>
                    <a:pt x="615" y="393"/>
                  </a:lnTo>
                  <a:lnTo>
                    <a:pt x="585" y="378"/>
                  </a:lnTo>
                  <a:lnTo>
                    <a:pt x="550" y="370"/>
                  </a:lnTo>
                  <a:lnTo>
                    <a:pt x="505" y="370"/>
                  </a:lnTo>
                  <a:lnTo>
                    <a:pt x="351" y="370"/>
                  </a:lnTo>
                  <a:lnTo>
                    <a:pt x="351" y="741"/>
                  </a:lnTo>
                  <a:lnTo>
                    <a:pt x="351" y="741"/>
                  </a:lnTo>
                  <a:close/>
                  <a:moveTo>
                    <a:pt x="0" y="1837"/>
                  </a:moveTo>
                  <a:lnTo>
                    <a:pt x="0" y="0"/>
                  </a:lnTo>
                  <a:lnTo>
                    <a:pt x="583" y="0"/>
                  </a:lnTo>
                  <a:lnTo>
                    <a:pt x="658" y="0"/>
                  </a:lnTo>
                  <a:lnTo>
                    <a:pt x="726" y="11"/>
                  </a:lnTo>
                  <a:lnTo>
                    <a:pt x="784" y="26"/>
                  </a:lnTo>
                  <a:lnTo>
                    <a:pt x="832" y="45"/>
                  </a:lnTo>
                  <a:lnTo>
                    <a:pt x="872" y="76"/>
                  </a:lnTo>
                  <a:lnTo>
                    <a:pt x="909" y="110"/>
                  </a:lnTo>
                  <a:lnTo>
                    <a:pt x="941" y="155"/>
                  </a:lnTo>
                  <a:lnTo>
                    <a:pt x="971" y="212"/>
                  </a:lnTo>
                  <a:lnTo>
                    <a:pt x="994" y="276"/>
                  </a:lnTo>
                  <a:lnTo>
                    <a:pt x="1010" y="348"/>
                  </a:lnTo>
                  <a:lnTo>
                    <a:pt x="1020" y="423"/>
                  </a:lnTo>
                  <a:lnTo>
                    <a:pt x="1024" y="510"/>
                  </a:lnTo>
                  <a:lnTo>
                    <a:pt x="1020" y="582"/>
                  </a:lnTo>
                  <a:lnTo>
                    <a:pt x="1012" y="651"/>
                  </a:lnTo>
                  <a:lnTo>
                    <a:pt x="1001" y="715"/>
                  </a:lnTo>
                  <a:lnTo>
                    <a:pt x="984" y="772"/>
                  </a:lnTo>
                  <a:lnTo>
                    <a:pt x="960" y="824"/>
                  </a:lnTo>
                  <a:lnTo>
                    <a:pt x="934" y="874"/>
                  </a:lnTo>
                  <a:lnTo>
                    <a:pt x="904" y="911"/>
                  </a:lnTo>
                  <a:lnTo>
                    <a:pt x="872" y="953"/>
                  </a:lnTo>
                  <a:lnTo>
                    <a:pt x="846" y="972"/>
                  </a:lnTo>
                  <a:lnTo>
                    <a:pt x="818" y="991"/>
                  </a:lnTo>
                  <a:lnTo>
                    <a:pt x="784" y="1010"/>
                  </a:lnTo>
                  <a:lnTo>
                    <a:pt x="748" y="1025"/>
                  </a:lnTo>
                  <a:lnTo>
                    <a:pt x="776" y="1040"/>
                  </a:lnTo>
                  <a:lnTo>
                    <a:pt x="801" y="1059"/>
                  </a:lnTo>
                  <a:lnTo>
                    <a:pt x="821" y="1078"/>
                  </a:lnTo>
                  <a:lnTo>
                    <a:pt x="840" y="1093"/>
                  </a:lnTo>
                  <a:lnTo>
                    <a:pt x="849" y="1107"/>
                  </a:lnTo>
                  <a:lnTo>
                    <a:pt x="862" y="1126"/>
                  </a:lnTo>
                  <a:lnTo>
                    <a:pt x="877" y="1152"/>
                  </a:lnTo>
                  <a:lnTo>
                    <a:pt x="896" y="1186"/>
                  </a:lnTo>
                  <a:lnTo>
                    <a:pt x="911" y="1224"/>
                  </a:lnTo>
                  <a:lnTo>
                    <a:pt x="926" y="1255"/>
                  </a:lnTo>
                  <a:lnTo>
                    <a:pt x="936" y="1282"/>
                  </a:lnTo>
                  <a:lnTo>
                    <a:pt x="945" y="1304"/>
                  </a:lnTo>
                  <a:lnTo>
                    <a:pt x="1115" y="1837"/>
                  </a:lnTo>
                  <a:lnTo>
                    <a:pt x="718" y="1837"/>
                  </a:lnTo>
                  <a:lnTo>
                    <a:pt x="531" y="1274"/>
                  </a:lnTo>
                  <a:lnTo>
                    <a:pt x="512" y="1224"/>
                  </a:lnTo>
                  <a:lnTo>
                    <a:pt x="495" y="1182"/>
                  </a:lnTo>
                  <a:lnTo>
                    <a:pt x="480" y="1152"/>
                  </a:lnTo>
                  <a:lnTo>
                    <a:pt x="467" y="1133"/>
                  </a:lnTo>
                  <a:lnTo>
                    <a:pt x="447" y="1114"/>
                  </a:lnTo>
                  <a:lnTo>
                    <a:pt x="428" y="1099"/>
                  </a:lnTo>
                  <a:lnTo>
                    <a:pt x="405" y="1093"/>
                  </a:lnTo>
                  <a:lnTo>
                    <a:pt x="383" y="1093"/>
                  </a:lnTo>
                  <a:lnTo>
                    <a:pt x="351" y="1093"/>
                  </a:lnTo>
                  <a:lnTo>
                    <a:pt x="351" y="1837"/>
                  </a:lnTo>
                  <a:lnTo>
                    <a:pt x="0" y="1837"/>
                  </a:lnTo>
                  <a:lnTo>
                    <a:pt x="0" y="1837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03440" y="1841400"/>
              <a:ext cx="446400" cy="662040"/>
            </a:xfrm>
            <a:custGeom>
              <a:avLst/>
              <a:gdLst/>
              <a:ahLst/>
              <a:rect l="l" t="t" r="r" b="b"/>
              <a:pathLst>
                <a:path w="1239" h="1838">
                  <a:moveTo>
                    <a:pt x="0" y="0"/>
                  </a:moveTo>
                  <a:lnTo>
                    <a:pt x="389" y="0"/>
                  </a:lnTo>
                  <a:lnTo>
                    <a:pt x="620" y="621"/>
                  </a:lnTo>
                  <a:lnTo>
                    <a:pt x="849" y="0"/>
                  </a:lnTo>
                  <a:lnTo>
                    <a:pt x="1238" y="0"/>
                  </a:lnTo>
                  <a:lnTo>
                    <a:pt x="795" y="1066"/>
                  </a:lnTo>
                  <a:lnTo>
                    <a:pt x="795" y="1837"/>
                  </a:lnTo>
                  <a:lnTo>
                    <a:pt x="441" y="1837"/>
                  </a:lnTo>
                  <a:lnTo>
                    <a:pt x="441" y="1066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59200" y="1841400"/>
              <a:ext cx="384120" cy="662040"/>
            </a:xfrm>
            <a:custGeom>
              <a:avLst/>
              <a:gdLst/>
              <a:ahLst/>
              <a:rect l="l" t="t" r="r" b="b"/>
              <a:pathLst>
                <a:path w="1067" h="1838">
                  <a:moveTo>
                    <a:pt x="0" y="0"/>
                  </a:moveTo>
                  <a:lnTo>
                    <a:pt x="1066" y="0"/>
                  </a:lnTo>
                  <a:lnTo>
                    <a:pt x="1066" y="453"/>
                  </a:lnTo>
                  <a:lnTo>
                    <a:pt x="709" y="453"/>
                  </a:lnTo>
                  <a:lnTo>
                    <a:pt x="709" y="1837"/>
                  </a:lnTo>
                  <a:lnTo>
                    <a:pt x="358" y="1837"/>
                  </a:lnTo>
                  <a:lnTo>
                    <a:pt x="358" y="453"/>
                  </a:lnTo>
                  <a:lnTo>
                    <a:pt x="0" y="453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99120" y="1841400"/>
              <a:ext cx="460080" cy="662040"/>
            </a:xfrm>
            <a:custGeom>
              <a:avLst/>
              <a:gdLst/>
              <a:ahLst/>
              <a:rect l="l" t="t" r="r" b="b"/>
              <a:pathLst>
                <a:path w="1280" h="1838">
                  <a:moveTo>
                    <a:pt x="0" y="0"/>
                  </a:moveTo>
                  <a:lnTo>
                    <a:pt x="463" y="0"/>
                  </a:lnTo>
                  <a:lnTo>
                    <a:pt x="639" y="1118"/>
                  </a:lnTo>
                  <a:lnTo>
                    <a:pt x="817" y="0"/>
                  </a:lnTo>
                  <a:lnTo>
                    <a:pt x="1279" y="0"/>
                  </a:lnTo>
                  <a:lnTo>
                    <a:pt x="1279" y="1837"/>
                  </a:lnTo>
                  <a:lnTo>
                    <a:pt x="991" y="1837"/>
                  </a:lnTo>
                  <a:lnTo>
                    <a:pt x="991" y="438"/>
                  </a:lnTo>
                  <a:lnTo>
                    <a:pt x="768" y="1837"/>
                  </a:lnTo>
                  <a:lnTo>
                    <a:pt x="510" y="1837"/>
                  </a:lnTo>
                  <a:lnTo>
                    <a:pt x="287" y="438"/>
                  </a:lnTo>
                  <a:lnTo>
                    <a:pt x="287" y="1837"/>
                  </a:lnTo>
                  <a:lnTo>
                    <a:pt x="0" y="1837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40200" y="1841400"/>
              <a:ext cx="344520" cy="662040"/>
            </a:xfrm>
            <a:custGeom>
              <a:avLst/>
              <a:gdLst/>
              <a:ahLst/>
              <a:rect l="l" t="t" r="r" b="b"/>
              <a:pathLst>
                <a:path w="957" h="1838">
                  <a:moveTo>
                    <a:pt x="0" y="0"/>
                  </a:moveTo>
                  <a:lnTo>
                    <a:pt x="939" y="0"/>
                  </a:lnTo>
                  <a:lnTo>
                    <a:pt x="939" y="393"/>
                  </a:lnTo>
                  <a:lnTo>
                    <a:pt x="351" y="393"/>
                  </a:lnTo>
                  <a:lnTo>
                    <a:pt x="351" y="681"/>
                  </a:lnTo>
                  <a:lnTo>
                    <a:pt x="896" y="681"/>
                  </a:lnTo>
                  <a:lnTo>
                    <a:pt x="896" y="1059"/>
                  </a:lnTo>
                  <a:lnTo>
                    <a:pt x="351" y="1059"/>
                  </a:lnTo>
                  <a:lnTo>
                    <a:pt x="351" y="1421"/>
                  </a:lnTo>
                  <a:lnTo>
                    <a:pt x="956" y="1421"/>
                  </a:lnTo>
                  <a:lnTo>
                    <a:pt x="956" y="1837"/>
                  </a:lnTo>
                  <a:lnTo>
                    <a:pt x="0" y="1837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24320" y="1841400"/>
              <a:ext cx="384480" cy="662040"/>
            </a:xfrm>
            <a:custGeom>
              <a:avLst/>
              <a:gdLst/>
              <a:ahLst/>
              <a:rect l="l" t="t" r="r" b="b"/>
              <a:pathLst>
                <a:path w="1066" h="1838">
                  <a:moveTo>
                    <a:pt x="0" y="0"/>
                  </a:moveTo>
                  <a:lnTo>
                    <a:pt x="1065" y="0"/>
                  </a:lnTo>
                  <a:lnTo>
                    <a:pt x="1065" y="453"/>
                  </a:lnTo>
                  <a:lnTo>
                    <a:pt x="708" y="453"/>
                  </a:lnTo>
                  <a:lnTo>
                    <a:pt x="708" y="1837"/>
                  </a:lnTo>
                  <a:lnTo>
                    <a:pt x="358" y="1837"/>
                  </a:lnTo>
                  <a:lnTo>
                    <a:pt x="358" y="453"/>
                  </a:lnTo>
                  <a:lnTo>
                    <a:pt x="0" y="453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24640" y="1841400"/>
              <a:ext cx="446040" cy="662040"/>
            </a:xfrm>
            <a:custGeom>
              <a:avLst/>
              <a:gdLst/>
              <a:ahLst/>
              <a:rect l="l" t="t" r="r" b="b"/>
              <a:pathLst>
                <a:path w="1239" h="1838">
                  <a:moveTo>
                    <a:pt x="0" y="0"/>
                  </a:moveTo>
                  <a:lnTo>
                    <a:pt x="391" y="0"/>
                  </a:lnTo>
                  <a:lnTo>
                    <a:pt x="622" y="621"/>
                  </a:lnTo>
                  <a:lnTo>
                    <a:pt x="850" y="0"/>
                  </a:lnTo>
                  <a:lnTo>
                    <a:pt x="1238" y="0"/>
                  </a:lnTo>
                  <a:lnTo>
                    <a:pt x="796" y="1066"/>
                  </a:lnTo>
                  <a:lnTo>
                    <a:pt x="796" y="1837"/>
                  </a:lnTo>
                  <a:lnTo>
                    <a:pt x="443" y="1837"/>
                  </a:lnTo>
                  <a:lnTo>
                    <a:pt x="443" y="1066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94440" y="1830240"/>
              <a:ext cx="398520" cy="682920"/>
            </a:xfrm>
            <a:custGeom>
              <a:avLst/>
              <a:gdLst/>
              <a:ahLst/>
              <a:rect l="l" t="t" r="r" b="b"/>
              <a:pathLst>
                <a:path w="1106" h="1896">
                  <a:moveTo>
                    <a:pt x="798" y="1114"/>
                  </a:moveTo>
                  <a:lnTo>
                    <a:pt x="1105" y="1260"/>
                  </a:lnTo>
                  <a:lnTo>
                    <a:pt x="1087" y="1362"/>
                  </a:lnTo>
                  <a:lnTo>
                    <a:pt x="1064" y="1453"/>
                  </a:lnTo>
                  <a:lnTo>
                    <a:pt x="1038" y="1532"/>
                  </a:lnTo>
                  <a:lnTo>
                    <a:pt x="1008" y="1608"/>
                  </a:lnTo>
                  <a:lnTo>
                    <a:pt x="972" y="1672"/>
                  </a:lnTo>
                  <a:lnTo>
                    <a:pt x="933" y="1733"/>
                  </a:lnTo>
                  <a:lnTo>
                    <a:pt x="890" y="1782"/>
                  </a:lnTo>
                  <a:lnTo>
                    <a:pt x="843" y="1819"/>
                  </a:lnTo>
                  <a:lnTo>
                    <a:pt x="789" y="1850"/>
                  </a:lnTo>
                  <a:lnTo>
                    <a:pt x="731" y="1872"/>
                  </a:lnTo>
                  <a:lnTo>
                    <a:pt x="663" y="1884"/>
                  </a:lnTo>
                  <a:lnTo>
                    <a:pt x="590" y="1895"/>
                  </a:lnTo>
                  <a:lnTo>
                    <a:pt x="499" y="1884"/>
                  </a:lnTo>
                  <a:lnTo>
                    <a:pt x="421" y="1869"/>
                  </a:lnTo>
                  <a:lnTo>
                    <a:pt x="350" y="1842"/>
                  </a:lnTo>
                  <a:lnTo>
                    <a:pt x="288" y="1804"/>
                  </a:lnTo>
                  <a:lnTo>
                    <a:pt x="231" y="1755"/>
                  </a:lnTo>
                  <a:lnTo>
                    <a:pt x="178" y="1683"/>
                  </a:lnTo>
                  <a:lnTo>
                    <a:pt x="130" y="1600"/>
                  </a:lnTo>
                  <a:lnTo>
                    <a:pt x="86" y="1498"/>
                  </a:lnTo>
                  <a:lnTo>
                    <a:pt x="47" y="1381"/>
                  </a:lnTo>
                  <a:lnTo>
                    <a:pt x="21" y="1253"/>
                  </a:lnTo>
                  <a:lnTo>
                    <a:pt x="4" y="1107"/>
                  </a:lnTo>
                  <a:lnTo>
                    <a:pt x="0" y="944"/>
                  </a:lnTo>
                  <a:lnTo>
                    <a:pt x="10" y="725"/>
                  </a:lnTo>
                  <a:lnTo>
                    <a:pt x="38" y="540"/>
                  </a:lnTo>
                  <a:lnTo>
                    <a:pt x="85" y="378"/>
                  </a:lnTo>
                  <a:lnTo>
                    <a:pt x="150" y="242"/>
                  </a:lnTo>
                  <a:lnTo>
                    <a:pt x="233" y="136"/>
                  </a:lnTo>
                  <a:lnTo>
                    <a:pt x="329" y="60"/>
                  </a:lnTo>
                  <a:lnTo>
                    <a:pt x="443" y="15"/>
                  </a:lnTo>
                  <a:lnTo>
                    <a:pt x="573" y="0"/>
                  </a:lnTo>
                  <a:lnTo>
                    <a:pt x="675" y="7"/>
                  </a:lnTo>
                  <a:lnTo>
                    <a:pt x="764" y="34"/>
                  </a:lnTo>
                  <a:lnTo>
                    <a:pt x="843" y="75"/>
                  </a:lnTo>
                  <a:lnTo>
                    <a:pt x="912" y="140"/>
                  </a:lnTo>
                  <a:lnTo>
                    <a:pt x="969" y="219"/>
                  </a:lnTo>
                  <a:lnTo>
                    <a:pt x="1017" y="317"/>
                  </a:lnTo>
                  <a:lnTo>
                    <a:pt x="1060" y="434"/>
                  </a:lnTo>
                  <a:lnTo>
                    <a:pt x="1094" y="570"/>
                  </a:lnTo>
                  <a:lnTo>
                    <a:pt x="785" y="680"/>
                  </a:lnTo>
                  <a:lnTo>
                    <a:pt x="776" y="638"/>
                  </a:lnTo>
                  <a:lnTo>
                    <a:pt x="768" y="604"/>
                  </a:lnTo>
                  <a:lnTo>
                    <a:pt x="759" y="578"/>
                  </a:lnTo>
                  <a:lnTo>
                    <a:pt x="751" y="559"/>
                  </a:lnTo>
                  <a:lnTo>
                    <a:pt x="735" y="529"/>
                  </a:lnTo>
                  <a:lnTo>
                    <a:pt x="718" y="498"/>
                  </a:lnTo>
                  <a:lnTo>
                    <a:pt x="699" y="476"/>
                  </a:lnTo>
                  <a:lnTo>
                    <a:pt x="680" y="457"/>
                  </a:lnTo>
                  <a:lnTo>
                    <a:pt x="658" y="442"/>
                  </a:lnTo>
                  <a:lnTo>
                    <a:pt x="633" y="430"/>
                  </a:lnTo>
                  <a:lnTo>
                    <a:pt x="609" y="423"/>
                  </a:lnTo>
                  <a:lnTo>
                    <a:pt x="583" y="423"/>
                  </a:lnTo>
                  <a:lnTo>
                    <a:pt x="526" y="434"/>
                  </a:lnTo>
                  <a:lnTo>
                    <a:pt x="477" y="461"/>
                  </a:lnTo>
                  <a:lnTo>
                    <a:pt x="434" y="510"/>
                  </a:lnTo>
                  <a:lnTo>
                    <a:pt x="400" y="578"/>
                  </a:lnTo>
                  <a:lnTo>
                    <a:pt x="378" y="642"/>
                  </a:lnTo>
                  <a:lnTo>
                    <a:pt x="363" y="725"/>
                  </a:lnTo>
                  <a:lnTo>
                    <a:pt x="353" y="823"/>
                  </a:lnTo>
                  <a:lnTo>
                    <a:pt x="351" y="940"/>
                  </a:lnTo>
                  <a:lnTo>
                    <a:pt x="353" y="1076"/>
                  </a:lnTo>
                  <a:lnTo>
                    <a:pt x="365" y="1192"/>
                  </a:lnTo>
                  <a:lnTo>
                    <a:pt x="383" y="1283"/>
                  </a:lnTo>
                  <a:lnTo>
                    <a:pt x="409" y="1351"/>
                  </a:lnTo>
                  <a:lnTo>
                    <a:pt x="439" y="1400"/>
                  </a:lnTo>
                  <a:lnTo>
                    <a:pt x="477" y="1438"/>
                  </a:lnTo>
                  <a:lnTo>
                    <a:pt x="520" y="1457"/>
                  </a:lnTo>
                  <a:lnTo>
                    <a:pt x="572" y="1468"/>
                  </a:lnTo>
                  <a:lnTo>
                    <a:pt x="618" y="1461"/>
                  </a:lnTo>
                  <a:lnTo>
                    <a:pt x="660" y="1442"/>
                  </a:lnTo>
                  <a:lnTo>
                    <a:pt x="695" y="1415"/>
                  </a:lnTo>
                  <a:lnTo>
                    <a:pt x="725" y="1378"/>
                  </a:lnTo>
                  <a:lnTo>
                    <a:pt x="748" y="1325"/>
                  </a:lnTo>
                  <a:lnTo>
                    <a:pt x="768" y="1264"/>
                  </a:lnTo>
                  <a:lnTo>
                    <a:pt x="785" y="1192"/>
                  </a:lnTo>
                  <a:lnTo>
                    <a:pt x="798" y="1114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21400" y="1841400"/>
              <a:ext cx="389160" cy="662040"/>
            </a:xfrm>
            <a:custGeom>
              <a:avLst/>
              <a:gdLst/>
              <a:ahLst/>
              <a:rect l="l" t="t" r="r" b="b"/>
              <a:pathLst>
                <a:path w="1079" h="1838">
                  <a:moveTo>
                    <a:pt x="62" y="0"/>
                  </a:moveTo>
                  <a:lnTo>
                    <a:pt x="1055" y="0"/>
                  </a:lnTo>
                  <a:lnTo>
                    <a:pt x="1055" y="366"/>
                  </a:lnTo>
                  <a:lnTo>
                    <a:pt x="418" y="1440"/>
                  </a:lnTo>
                  <a:lnTo>
                    <a:pt x="1078" y="1440"/>
                  </a:lnTo>
                  <a:lnTo>
                    <a:pt x="1078" y="1837"/>
                  </a:lnTo>
                  <a:lnTo>
                    <a:pt x="0" y="1837"/>
                  </a:lnTo>
                  <a:lnTo>
                    <a:pt x="0" y="1455"/>
                  </a:lnTo>
                  <a:lnTo>
                    <a:pt x="633" y="393"/>
                  </a:lnTo>
                  <a:lnTo>
                    <a:pt x="62" y="393"/>
                  </a:lnTo>
                  <a:lnTo>
                    <a:pt x="62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66000" y="1841400"/>
              <a:ext cx="392040" cy="662040"/>
            </a:xfrm>
            <a:custGeom>
              <a:avLst/>
              <a:gdLst/>
              <a:ahLst/>
              <a:rect l="l" t="t" r="r" b="b"/>
              <a:pathLst>
                <a:path w="1089" h="1838">
                  <a:moveTo>
                    <a:pt x="0" y="0"/>
                  </a:moveTo>
                  <a:lnTo>
                    <a:pt x="328" y="0"/>
                  </a:lnTo>
                  <a:lnTo>
                    <a:pt x="757" y="1017"/>
                  </a:lnTo>
                  <a:lnTo>
                    <a:pt x="757" y="0"/>
                  </a:lnTo>
                  <a:lnTo>
                    <a:pt x="1088" y="0"/>
                  </a:lnTo>
                  <a:lnTo>
                    <a:pt x="1088" y="1837"/>
                  </a:lnTo>
                  <a:lnTo>
                    <a:pt x="757" y="1837"/>
                  </a:lnTo>
                  <a:lnTo>
                    <a:pt x="330" y="824"/>
                  </a:lnTo>
                  <a:lnTo>
                    <a:pt x="330" y="1837"/>
                  </a:lnTo>
                  <a:lnTo>
                    <a:pt x="0" y="1837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00880" y="1841400"/>
              <a:ext cx="446040" cy="662040"/>
            </a:xfrm>
            <a:custGeom>
              <a:avLst/>
              <a:gdLst/>
              <a:ahLst/>
              <a:rect l="l" t="t" r="r" b="b"/>
              <a:pathLst>
                <a:path w="1238" h="1838">
                  <a:moveTo>
                    <a:pt x="739" y="1137"/>
                  </a:moveTo>
                  <a:lnTo>
                    <a:pt x="614" y="476"/>
                  </a:lnTo>
                  <a:lnTo>
                    <a:pt x="489" y="1137"/>
                  </a:lnTo>
                  <a:lnTo>
                    <a:pt x="739" y="1137"/>
                  </a:lnTo>
                  <a:lnTo>
                    <a:pt x="739" y="1137"/>
                  </a:lnTo>
                  <a:close/>
                  <a:moveTo>
                    <a:pt x="812" y="1535"/>
                  </a:moveTo>
                  <a:lnTo>
                    <a:pt x="416" y="1535"/>
                  </a:lnTo>
                  <a:lnTo>
                    <a:pt x="358" y="1837"/>
                  </a:lnTo>
                  <a:lnTo>
                    <a:pt x="0" y="1837"/>
                  </a:lnTo>
                  <a:lnTo>
                    <a:pt x="425" y="0"/>
                  </a:lnTo>
                  <a:lnTo>
                    <a:pt x="810" y="0"/>
                  </a:lnTo>
                  <a:lnTo>
                    <a:pt x="1237" y="1837"/>
                  </a:lnTo>
                  <a:lnTo>
                    <a:pt x="870" y="1837"/>
                  </a:lnTo>
                  <a:lnTo>
                    <a:pt x="812" y="1535"/>
                  </a:lnTo>
                  <a:lnTo>
                    <a:pt x="812" y="1535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143000" y="3200400"/>
            <a:ext cx="716292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Średnią arytmetyczną dla n liczb liczymy ze wzor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905120" y="4038480"/>
                <a:ext cx="548640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ê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7222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7772400" y="5638680"/>
            <a:ext cx="836640" cy="838440"/>
            <a:chOff x="7772400" y="5638680"/>
            <a:chExt cx="836640" cy="838440"/>
          </a:xfrm>
        </p:grpSpPr>
        <p:sp>
          <p:nvSpPr>
            <p:cNvPr id="344" name=""/>
            <p:cNvSpPr/>
            <p:nvPr/>
          </p:nvSpPr>
          <p:spPr>
            <a:xfrm>
              <a:off x="7772400" y="5638680"/>
              <a:ext cx="836640" cy="838440"/>
            </a:xfrm>
            <a:custGeom>
              <a:avLst/>
              <a:gdLst/>
              <a:ahLst/>
              <a:rect l="l" t="t" r="r" b="b"/>
              <a:pathLst>
                <a:path w="2325" h="2330">
                  <a:moveTo>
                    <a:pt x="0" y="0"/>
                  </a:moveTo>
                  <a:lnTo>
                    <a:pt x="2324" y="0"/>
                  </a:lnTo>
                  <a:lnTo>
                    <a:pt x="2324" y="2329"/>
                  </a:lnTo>
                  <a:lnTo>
                    <a:pt x="0" y="2329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72400" y="5638680"/>
              <a:ext cx="836640" cy="54000"/>
            </a:xfrm>
            <a:custGeom>
              <a:avLst/>
              <a:gdLst/>
              <a:ahLst/>
              <a:rect l="l" t="t" r="r" b="b"/>
              <a:pathLst>
                <a:path w="2325" h="151">
                  <a:moveTo>
                    <a:pt x="0" y="0"/>
                  </a:moveTo>
                  <a:lnTo>
                    <a:pt x="2324" y="0"/>
                  </a:lnTo>
                  <a:lnTo>
                    <a:pt x="2173" y="150"/>
                  </a:lnTo>
                  <a:lnTo>
                    <a:pt x="149" y="150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55040" y="5638680"/>
              <a:ext cx="54000" cy="838440"/>
            </a:xfrm>
            <a:custGeom>
              <a:avLst/>
              <a:gdLst/>
              <a:ahLst/>
              <a:rect l="l" t="t" r="r" b="b"/>
              <a:pathLst>
                <a:path w="151" h="2330">
                  <a:moveTo>
                    <a:pt x="150" y="0"/>
                  </a:moveTo>
                  <a:lnTo>
                    <a:pt x="150" y="2329"/>
                  </a:lnTo>
                  <a:lnTo>
                    <a:pt x="0" y="2178"/>
                  </a:lnTo>
                  <a:lnTo>
                    <a:pt x="0" y="150"/>
                  </a:lnTo>
                  <a:lnTo>
                    <a:pt x="15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772400" y="6421320"/>
              <a:ext cx="836640" cy="54000"/>
            </a:xfrm>
            <a:custGeom>
              <a:avLst/>
              <a:gdLst/>
              <a:ahLst/>
              <a:rect l="l" t="t" r="r" b="b"/>
              <a:pathLst>
                <a:path w="2325" h="151">
                  <a:moveTo>
                    <a:pt x="2324" y="150"/>
                  </a:moveTo>
                  <a:lnTo>
                    <a:pt x="0" y="150"/>
                  </a:lnTo>
                  <a:lnTo>
                    <a:pt x="149" y="0"/>
                  </a:lnTo>
                  <a:lnTo>
                    <a:pt x="2173" y="0"/>
                  </a:lnTo>
                  <a:lnTo>
                    <a:pt x="2324" y="150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72400" y="5638680"/>
              <a:ext cx="54000" cy="838440"/>
            </a:xfrm>
            <a:custGeom>
              <a:avLst/>
              <a:gdLst/>
              <a:ahLst/>
              <a:rect l="l" t="t" r="r" b="b"/>
              <a:pathLst>
                <a:path w="151" h="2330">
                  <a:moveTo>
                    <a:pt x="0" y="2329"/>
                  </a:moveTo>
                  <a:lnTo>
                    <a:pt x="0" y="0"/>
                  </a:lnTo>
                  <a:lnTo>
                    <a:pt x="150" y="150"/>
                  </a:lnTo>
                  <a:lnTo>
                    <a:pt x="150" y="2178"/>
                  </a:lnTo>
                  <a:lnTo>
                    <a:pt x="0" y="2329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20000" y="5786280"/>
              <a:ext cx="544680" cy="544680"/>
            </a:xfrm>
            <a:custGeom>
              <a:avLst/>
              <a:gdLst/>
              <a:ahLst/>
              <a:rect l="l" t="t" r="r" b="b"/>
              <a:pathLst>
                <a:path w="1511" h="1512">
                  <a:moveTo>
                    <a:pt x="0" y="756"/>
                  </a:moveTo>
                  <a:lnTo>
                    <a:pt x="1510" y="0"/>
                  </a:lnTo>
                  <a:lnTo>
                    <a:pt x="1510" y="1511"/>
                  </a:lnTo>
                  <a:lnTo>
                    <a:pt x="0" y="756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2590920" y="914400"/>
            <a:ext cx="5332320" cy="1446120"/>
            <a:chOff x="2590920" y="914400"/>
            <a:chExt cx="5332320" cy="1446120"/>
          </a:xfrm>
        </p:grpSpPr>
        <p:sp>
          <p:nvSpPr>
            <p:cNvPr id="351" name=""/>
            <p:cNvSpPr/>
            <p:nvPr/>
          </p:nvSpPr>
          <p:spPr>
            <a:xfrm>
              <a:off x="2590920" y="932040"/>
              <a:ext cx="734760" cy="1093680"/>
            </a:xfrm>
            <a:custGeom>
              <a:avLst/>
              <a:gdLst/>
              <a:ahLst/>
              <a:rect l="l" t="t" r="r" b="b"/>
              <a:pathLst>
                <a:path w="2041" h="3040">
                  <a:moveTo>
                    <a:pt x="643" y="1228"/>
                  </a:moveTo>
                  <a:lnTo>
                    <a:pt x="914" y="1228"/>
                  </a:lnTo>
                  <a:lnTo>
                    <a:pt x="941" y="1222"/>
                  </a:lnTo>
                  <a:lnTo>
                    <a:pt x="979" y="1215"/>
                  </a:lnTo>
                  <a:lnTo>
                    <a:pt x="1023" y="1203"/>
                  </a:lnTo>
                  <a:lnTo>
                    <a:pt x="1085" y="1190"/>
                  </a:lnTo>
                  <a:lnTo>
                    <a:pt x="1113" y="1172"/>
                  </a:lnTo>
                  <a:lnTo>
                    <a:pt x="1140" y="1153"/>
                  </a:lnTo>
                  <a:lnTo>
                    <a:pt x="1164" y="1121"/>
                  </a:lnTo>
                  <a:lnTo>
                    <a:pt x="1188" y="1090"/>
                  </a:lnTo>
                  <a:lnTo>
                    <a:pt x="1205" y="1046"/>
                  </a:lnTo>
                  <a:lnTo>
                    <a:pt x="1219" y="1008"/>
                  </a:lnTo>
                  <a:lnTo>
                    <a:pt x="1225" y="958"/>
                  </a:lnTo>
                  <a:lnTo>
                    <a:pt x="1229" y="914"/>
                  </a:lnTo>
                  <a:lnTo>
                    <a:pt x="1222" y="839"/>
                  </a:lnTo>
                  <a:lnTo>
                    <a:pt x="1212" y="783"/>
                  </a:lnTo>
                  <a:lnTo>
                    <a:pt x="1192" y="732"/>
                  </a:lnTo>
                  <a:lnTo>
                    <a:pt x="1167" y="682"/>
                  </a:lnTo>
                  <a:lnTo>
                    <a:pt x="1126" y="651"/>
                  </a:lnTo>
                  <a:lnTo>
                    <a:pt x="1071" y="626"/>
                  </a:lnTo>
                  <a:lnTo>
                    <a:pt x="1007" y="607"/>
                  </a:lnTo>
                  <a:lnTo>
                    <a:pt x="924" y="607"/>
                  </a:lnTo>
                  <a:lnTo>
                    <a:pt x="643" y="607"/>
                  </a:lnTo>
                  <a:lnTo>
                    <a:pt x="643" y="1228"/>
                  </a:lnTo>
                  <a:lnTo>
                    <a:pt x="643" y="1228"/>
                  </a:lnTo>
                  <a:close/>
                  <a:moveTo>
                    <a:pt x="0" y="3039"/>
                  </a:moveTo>
                  <a:lnTo>
                    <a:pt x="0" y="0"/>
                  </a:lnTo>
                  <a:lnTo>
                    <a:pt x="1068" y="0"/>
                  </a:lnTo>
                  <a:lnTo>
                    <a:pt x="1205" y="0"/>
                  </a:lnTo>
                  <a:lnTo>
                    <a:pt x="1329" y="12"/>
                  </a:lnTo>
                  <a:lnTo>
                    <a:pt x="1435" y="37"/>
                  </a:lnTo>
                  <a:lnTo>
                    <a:pt x="1524" y="74"/>
                  </a:lnTo>
                  <a:lnTo>
                    <a:pt x="1595" y="118"/>
                  </a:lnTo>
                  <a:lnTo>
                    <a:pt x="1664" y="175"/>
                  </a:lnTo>
                  <a:lnTo>
                    <a:pt x="1722" y="250"/>
                  </a:lnTo>
                  <a:lnTo>
                    <a:pt x="1777" y="351"/>
                  </a:lnTo>
                  <a:lnTo>
                    <a:pt x="1818" y="451"/>
                  </a:lnTo>
                  <a:lnTo>
                    <a:pt x="1849" y="569"/>
                  </a:lnTo>
                  <a:lnTo>
                    <a:pt x="1865" y="701"/>
                  </a:lnTo>
                  <a:lnTo>
                    <a:pt x="1872" y="839"/>
                  </a:lnTo>
                  <a:lnTo>
                    <a:pt x="1865" y="958"/>
                  </a:lnTo>
                  <a:lnTo>
                    <a:pt x="1852" y="1077"/>
                  </a:lnTo>
                  <a:lnTo>
                    <a:pt x="1832" y="1184"/>
                  </a:lnTo>
                  <a:lnTo>
                    <a:pt x="1802" y="1278"/>
                  </a:lnTo>
                  <a:lnTo>
                    <a:pt x="1757" y="1366"/>
                  </a:lnTo>
                  <a:lnTo>
                    <a:pt x="1709" y="1441"/>
                  </a:lnTo>
                  <a:lnTo>
                    <a:pt x="1654" y="1509"/>
                  </a:lnTo>
                  <a:lnTo>
                    <a:pt x="1595" y="1572"/>
                  </a:lnTo>
                  <a:lnTo>
                    <a:pt x="1547" y="1610"/>
                  </a:lnTo>
                  <a:lnTo>
                    <a:pt x="1496" y="1641"/>
                  </a:lnTo>
                  <a:lnTo>
                    <a:pt x="1435" y="1666"/>
                  </a:lnTo>
                  <a:lnTo>
                    <a:pt x="1370" y="1698"/>
                  </a:lnTo>
                  <a:lnTo>
                    <a:pt x="1421" y="1723"/>
                  </a:lnTo>
                  <a:lnTo>
                    <a:pt x="1466" y="1748"/>
                  </a:lnTo>
                  <a:lnTo>
                    <a:pt x="1503" y="1779"/>
                  </a:lnTo>
                  <a:lnTo>
                    <a:pt x="1537" y="1811"/>
                  </a:lnTo>
                  <a:lnTo>
                    <a:pt x="1554" y="1829"/>
                  </a:lnTo>
                  <a:lnTo>
                    <a:pt x="1579" y="1867"/>
                  </a:lnTo>
                  <a:lnTo>
                    <a:pt x="1606" y="1911"/>
                  </a:lnTo>
                  <a:lnTo>
                    <a:pt x="1640" y="1967"/>
                  </a:lnTo>
                  <a:lnTo>
                    <a:pt x="1668" y="2024"/>
                  </a:lnTo>
                  <a:lnTo>
                    <a:pt x="1696" y="2074"/>
                  </a:lnTo>
                  <a:lnTo>
                    <a:pt x="1712" y="2124"/>
                  </a:lnTo>
                  <a:lnTo>
                    <a:pt x="1729" y="2162"/>
                  </a:lnTo>
                  <a:lnTo>
                    <a:pt x="2040" y="3039"/>
                  </a:lnTo>
                  <a:lnTo>
                    <a:pt x="1314" y="3039"/>
                  </a:lnTo>
                  <a:lnTo>
                    <a:pt x="972" y="2112"/>
                  </a:lnTo>
                  <a:lnTo>
                    <a:pt x="938" y="2024"/>
                  </a:lnTo>
                  <a:lnTo>
                    <a:pt x="907" y="1961"/>
                  </a:lnTo>
                  <a:lnTo>
                    <a:pt x="880" y="1905"/>
                  </a:lnTo>
                  <a:lnTo>
                    <a:pt x="855" y="1873"/>
                  </a:lnTo>
                  <a:lnTo>
                    <a:pt x="818" y="1848"/>
                  </a:lnTo>
                  <a:lnTo>
                    <a:pt x="784" y="1823"/>
                  </a:lnTo>
                  <a:lnTo>
                    <a:pt x="742" y="1804"/>
                  </a:lnTo>
                  <a:lnTo>
                    <a:pt x="701" y="1804"/>
                  </a:lnTo>
                  <a:lnTo>
                    <a:pt x="643" y="1804"/>
                  </a:lnTo>
                  <a:lnTo>
                    <a:pt x="643" y="3039"/>
                  </a:lnTo>
                  <a:lnTo>
                    <a:pt x="0" y="3039"/>
                  </a:lnTo>
                  <a:lnTo>
                    <a:pt x="0" y="3039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70320" y="914400"/>
              <a:ext cx="776160" cy="1131840"/>
            </a:xfrm>
            <a:custGeom>
              <a:avLst/>
              <a:gdLst/>
              <a:ahLst/>
              <a:rect l="l" t="t" r="r" b="b"/>
              <a:pathLst>
                <a:path w="2156" h="3142">
                  <a:moveTo>
                    <a:pt x="640" y="1573"/>
                  </a:moveTo>
                  <a:lnTo>
                    <a:pt x="648" y="1786"/>
                  </a:lnTo>
                  <a:lnTo>
                    <a:pt x="668" y="1968"/>
                  </a:lnTo>
                  <a:lnTo>
                    <a:pt x="706" y="2119"/>
                  </a:lnTo>
                  <a:lnTo>
                    <a:pt x="760" y="2238"/>
                  </a:lnTo>
                  <a:lnTo>
                    <a:pt x="822" y="2326"/>
                  </a:lnTo>
                  <a:lnTo>
                    <a:pt x="897" y="2389"/>
                  </a:lnTo>
                  <a:lnTo>
                    <a:pt x="983" y="2426"/>
                  </a:lnTo>
                  <a:lnTo>
                    <a:pt x="1079" y="2439"/>
                  </a:lnTo>
                  <a:lnTo>
                    <a:pt x="1175" y="2426"/>
                  </a:lnTo>
                  <a:lnTo>
                    <a:pt x="1261" y="2389"/>
                  </a:lnTo>
                  <a:lnTo>
                    <a:pt x="1335" y="2332"/>
                  </a:lnTo>
                  <a:lnTo>
                    <a:pt x="1401" y="2244"/>
                  </a:lnTo>
                  <a:lnTo>
                    <a:pt x="1449" y="2125"/>
                  </a:lnTo>
                  <a:lnTo>
                    <a:pt x="1484" y="1968"/>
                  </a:lnTo>
                  <a:lnTo>
                    <a:pt x="1504" y="1774"/>
                  </a:lnTo>
                  <a:lnTo>
                    <a:pt x="1514" y="1535"/>
                  </a:lnTo>
                  <a:lnTo>
                    <a:pt x="1504" y="1335"/>
                  </a:lnTo>
                  <a:lnTo>
                    <a:pt x="1484" y="1166"/>
                  </a:lnTo>
                  <a:lnTo>
                    <a:pt x="1449" y="1015"/>
                  </a:lnTo>
                  <a:lnTo>
                    <a:pt x="1398" y="909"/>
                  </a:lnTo>
                  <a:lnTo>
                    <a:pt x="1332" y="815"/>
                  </a:lnTo>
                  <a:lnTo>
                    <a:pt x="1254" y="758"/>
                  </a:lnTo>
                  <a:lnTo>
                    <a:pt x="1168" y="721"/>
                  </a:lnTo>
                  <a:lnTo>
                    <a:pt x="1072" y="708"/>
                  </a:lnTo>
                  <a:lnTo>
                    <a:pt x="976" y="721"/>
                  </a:lnTo>
                  <a:lnTo>
                    <a:pt x="894" y="758"/>
                  </a:lnTo>
                  <a:lnTo>
                    <a:pt x="822" y="821"/>
                  </a:lnTo>
                  <a:lnTo>
                    <a:pt x="760" y="909"/>
                  </a:lnTo>
                  <a:lnTo>
                    <a:pt x="706" y="1028"/>
                  </a:lnTo>
                  <a:lnTo>
                    <a:pt x="668" y="1179"/>
                  </a:lnTo>
                  <a:lnTo>
                    <a:pt x="648" y="1361"/>
                  </a:lnTo>
                  <a:lnTo>
                    <a:pt x="640" y="1573"/>
                  </a:lnTo>
                  <a:lnTo>
                    <a:pt x="640" y="1573"/>
                  </a:lnTo>
                  <a:close/>
                  <a:moveTo>
                    <a:pt x="0" y="1567"/>
                  </a:moveTo>
                  <a:lnTo>
                    <a:pt x="17" y="1216"/>
                  </a:lnTo>
                  <a:lnTo>
                    <a:pt x="68" y="909"/>
                  </a:lnTo>
                  <a:lnTo>
                    <a:pt x="157" y="633"/>
                  </a:lnTo>
                  <a:lnTo>
                    <a:pt x="284" y="408"/>
                  </a:lnTo>
                  <a:lnTo>
                    <a:pt x="438" y="226"/>
                  </a:lnTo>
                  <a:lnTo>
                    <a:pt x="620" y="100"/>
                  </a:lnTo>
                  <a:lnTo>
                    <a:pt x="833" y="25"/>
                  </a:lnTo>
                  <a:lnTo>
                    <a:pt x="1072" y="0"/>
                  </a:lnTo>
                  <a:lnTo>
                    <a:pt x="1315" y="25"/>
                  </a:lnTo>
                  <a:lnTo>
                    <a:pt x="1532" y="100"/>
                  </a:lnTo>
                  <a:lnTo>
                    <a:pt x="1717" y="226"/>
                  </a:lnTo>
                  <a:lnTo>
                    <a:pt x="1874" y="402"/>
                  </a:lnTo>
                  <a:lnTo>
                    <a:pt x="1998" y="626"/>
                  </a:lnTo>
                  <a:lnTo>
                    <a:pt x="2082" y="890"/>
                  </a:lnTo>
                  <a:lnTo>
                    <a:pt x="2135" y="1197"/>
                  </a:lnTo>
                  <a:lnTo>
                    <a:pt x="2155" y="1542"/>
                  </a:lnTo>
                  <a:lnTo>
                    <a:pt x="2145" y="1799"/>
                  </a:lnTo>
                  <a:lnTo>
                    <a:pt x="2124" y="2025"/>
                  </a:lnTo>
                  <a:lnTo>
                    <a:pt x="2082" y="2232"/>
                  </a:lnTo>
                  <a:lnTo>
                    <a:pt x="2031" y="2420"/>
                  </a:lnTo>
                  <a:lnTo>
                    <a:pt x="1963" y="2582"/>
                  </a:lnTo>
                  <a:lnTo>
                    <a:pt x="1881" y="2720"/>
                  </a:lnTo>
                  <a:lnTo>
                    <a:pt x="1785" y="2846"/>
                  </a:lnTo>
                  <a:lnTo>
                    <a:pt x="1679" y="2952"/>
                  </a:lnTo>
                  <a:lnTo>
                    <a:pt x="1555" y="3034"/>
                  </a:lnTo>
                  <a:lnTo>
                    <a:pt x="1415" y="3090"/>
                  </a:lnTo>
                  <a:lnTo>
                    <a:pt x="1264" y="3128"/>
                  </a:lnTo>
                  <a:lnTo>
                    <a:pt x="1099" y="3141"/>
                  </a:lnTo>
                  <a:lnTo>
                    <a:pt x="929" y="3128"/>
                  </a:lnTo>
                  <a:lnTo>
                    <a:pt x="777" y="3097"/>
                  </a:lnTo>
                  <a:lnTo>
                    <a:pt x="637" y="3046"/>
                  </a:lnTo>
                  <a:lnTo>
                    <a:pt x="517" y="2977"/>
                  </a:lnTo>
                  <a:lnTo>
                    <a:pt x="404" y="2883"/>
                  </a:lnTo>
                  <a:lnTo>
                    <a:pt x="308" y="2764"/>
                  </a:lnTo>
                  <a:lnTo>
                    <a:pt x="218" y="2620"/>
                  </a:lnTo>
                  <a:lnTo>
                    <a:pt x="144" y="2458"/>
                  </a:lnTo>
                  <a:lnTo>
                    <a:pt x="78" y="2269"/>
                  </a:lnTo>
                  <a:lnTo>
                    <a:pt x="33" y="2056"/>
                  </a:lnTo>
                  <a:lnTo>
                    <a:pt x="7" y="1824"/>
                  </a:lnTo>
                  <a:lnTo>
                    <a:pt x="0" y="1567"/>
                  </a:lnTo>
                  <a:lnTo>
                    <a:pt x="0" y="1567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11640" y="932040"/>
              <a:ext cx="711360" cy="1093680"/>
            </a:xfrm>
            <a:custGeom>
              <a:avLst/>
              <a:gdLst/>
              <a:ahLst/>
              <a:rect l="l" t="t" r="r" b="b"/>
              <a:pathLst>
                <a:path w="1975" h="3040">
                  <a:moveTo>
                    <a:pt x="112" y="0"/>
                  </a:moveTo>
                  <a:lnTo>
                    <a:pt x="1933" y="0"/>
                  </a:lnTo>
                  <a:lnTo>
                    <a:pt x="1933" y="607"/>
                  </a:lnTo>
                  <a:lnTo>
                    <a:pt x="764" y="2388"/>
                  </a:lnTo>
                  <a:lnTo>
                    <a:pt x="1974" y="2388"/>
                  </a:lnTo>
                  <a:lnTo>
                    <a:pt x="1974" y="3039"/>
                  </a:lnTo>
                  <a:lnTo>
                    <a:pt x="0" y="3039"/>
                  </a:lnTo>
                  <a:lnTo>
                    <a:pt x="0" y="2413"/>
                  </a:lnTo>
                  <a:lnTo>
                    <a:pt x="1158" y="644"/>
                  </a:lnTo>
                  <a:lnTo>
                    <a:pt x="112" y="644"/>
                  </a:lnTo>
                  <a:lnTo>
                    <a:pt x="112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84920" y="914400"/>
              <a:ext cx="679320" cy="1131840"/>
            </a:xfrm>
            <a:custGeom>
              <a:avLst/>
              <a:gdLst/>
              <a:ahLst/>
              <a:rect l="l" t="t" r="r" b="b"/>
              <a:pathLst>
                <a:path w="1888" h="3142">
                  <a:moveTo>
                    <a:pt x="0" y="2081"/>
                  </a:moveTo>
                  <a:lnTo>
                    <a:pt x="609" y="2025"/>
                  </a:lnTo>
                  <a:lnTo>
                    <a:pt x="620" y="2125"/>
                  </a:lnTo>
                  <a:lnTo>
                    <a:pt x="640" y="2219"/>
                  </a:lnTo>
                  <a:lnTo>
                    <a:pt x="660" y="2294"/>
                  </a:lnTo>
                  <a:lnTo>
                    <a:pt x="691" y="2357"/>
                  </a:lnTo>
                  <a:lnTo>
                    <a:pt x="742" y="2439"/>
                  </a:lnTo>
                  <a:lnTo>
                    <a:pt x="811" y="2495"/>
                  </a:lnTo>
                  <a:lnTo>
                    <a:pt x="886" y="2532"/>
                  </a:lnTo>
                  <a:lnTo>
                    <a:pt x="975" y="2544"/>
                  </a:lnTo>
                  <a:lnTo>
                    <a:pt x="1038" y="2532"/>
                  </a:lnTo>
                  <a:lnTo>
                    <a:pt x="1096" y="2519"/>
                  </a:lnTo>
                  <a:lnTo>
                    <a:pt x="1144" y="2489"/>
                  </a:lnTo>
                  <a:lnTo>
                    <a:pt x="1188" y="2451"/>
                  </a:lnTo>
                  <a:lnTo>
                    <a:pt x="1218" y="2401"/>
                  </a:lnTo>
                  <a:lnTo>
                    <a:pt x="1243" y="2345"/>
                  </a:lnTo>
                  <a:lnTo>
                    <a:pt x="1256" y="2288"/>
                  </a:lnTo>
                  <a:lnTo>
                    <a:pt x="1263" y="2232"/>
                  </a:lnTo>
                  <a:lnTo>
                    <a:pt x="1256" y="2175"/>
                  </a:lnTo>
                  <a:lnTo>
                    <a:pt x="1243" y="2119"/>
                  </a:lnTo>
                  <a:lnTo>
                    <a:pt x="1223" y="2069"/>
                  </a:lnTo>
                  <a:lnTo>
                    <a:pt x="1191" y="2025"/>
                  </a:lnTo>
                  <a:lnTo>
                    <a:pt x="1144" y="1974"/>
                  </a:lnTo>
                  <a:lnTo>
                    <a:pt x="1071" y="1924"/>
                  </a:lnTo>
                  <a:lnTo>
                    <a:pt x="979" y="1887"/>
                  </a:lnTo>
                  <a:lnTo>
                    <a:pt x="863" y="1849"/>
                  </a:lnTo>
                  <a:lnTo>
                    <a:pt x="664" y="1767"/>
                  </a:lnTo>
                  <a:lnTo>
                    <a:pt x="499" y="1680"/>
                  </a:lnTo>
                  <a:lnTo>
                    <a:pt x="362" y="1579"/>
                  </a:lnTo>
                  <a:lnTo>
                    <a:pt x="260" y="1474"/>
                  </a:lnTo>
                  <a:lnTo>
                    <a:pt x="177" y="1348"/>
                  </a:lnTo>
                  <a:lnTo>
                    <a:pt x="122" y="1210"/>
                  </a:lnTo>
                  <a:lnTo>
                    <a:pt x="88" y="1053"/>
                  </a:lnTo>
                  <a:lnTo>
                    <a:pt x="78" y="884"/>
                  </a:lnTo>
                  <a:lnTo>
                    <a:pt x="81" y="771"/>
                  </a:lnTo>
                  <a:lnTo>
                    <a:pt x="98" y="658"/>
                  </a:lnTo>
                  <a:lnTo>
                    <a:pt x="129" y="551"/>
                  </a:lnTo>
                  <a:lnTo>
                    <a:pt x="170" y="445"/>
                  </a:lnTo>
                  <a:lnTo>
                    <a:pt x="222" y="345"/>
                  </a:lnTo>
                  <a:lnTo>
                    <a:pt x="283" y="251"/>
                  </a:lnTo>
                  <a:lnTo>
                    <a:pt x="362" y="176"/>
                  </a:lnTo>
                  <a:lnTo>
                    <a:pt x="451" y="113"/>
                  </a:lnTo>
                  <a:lnTo>
                    <a:pt x="551" y="63"/>
                  </a:lnTo>
                  <a:lnTo>
                    <a:pt x="671" y="25"/>
                  </a:lnTo>
                  <a:lnTo>
                    <a:pt x="808" y="0"/>
                  </a:lnTo>
                  <a:lnTo>
                    <a:pt x="962" y="0"/>
                  </a:lnTo>
                  <a:lnTo>
                    <a:pt x="1147" y="6"/>
                  </a:lnTo>
                  <a:lnTo>
                    <a:pt x="1311" y="50"/>
                  </a:lnTo>
                  <a:lnTo>
                    <a:pt x="1448" y="119"/>
                  </a:lnTo>
                  <a:lnTo>
                    <a:pt x="1568" y="213"/>
                  </a:lnTo>
                  <a:lnTo>
                    <a:pt x="1661" y="333"/>
                  </a:lnTo>
                  <a:lnTo>
                    <a:pt x="1733" y="496"/>
                  </a:lnTo>
                  <a:lnTo>
                    <a:pt x="1785" y="683"/>
                  </a:lnTo>
                  <a:lnTo>
                    <a:pt x="1818" y="909"/>
                  </a:lnTo>
                  <a:lnTo>
                    <a:pt x="1212" y="959"/>
                  </a:lnTo>
                  <a:lnTo>
                    <a:pt x="1195" y="859"/>
                  </a:lnTo>
                  <a:lnTo>
                    <a:pt x="1175" y="777"/>
                  </a:lnTo>
                  <a:lnTo>
                    <a:pt x="1147" y="708"/>
                  </a:lnTo>
                  <a:lnTo>
                    <a:pt x="1112" y="658"/>
                  </a:lnTo>
                  <a:lnTo>
                    <a:pt x="1068" y="614"/>
                  </a:lnTo>
                  <a:lnTo>
                    <a:pt x="1020" y="583"/>
                  </a:lnTo>
                  <a:lnTo>
                    <a:pt x="962" y="570"/>
                  </a:lnTo>
                  <a:lnTo>
                    <a:pt x="897" y="564"/>
                  </a:lnTo>
                  <a:lnTo>
                    <a:pt x="841" y="564"/>
                  </a:lnTo>
                  <a:lnTo>
                    <a:pt x="797" y="583"/>
                  </a:lnTo>
                  <a:lnTo>
                    <a:pt x="760" y="608"/>
                  </a:lnTo>
                  <a:lnTo>
                    <a:pt x="729" y="633"/>
                  </a:lnTo>
                  <a:lnTo>
                    <a:pt x="701" y="670"/>
                  </a:lnTo>
                  <a:lnTo>
                    <a:pt x="684" y="708"/>
                  </a:lnTo>
                  <a:lnTo>
                    <a:pt x="674" y="752"/>
                  </a:lnTo>
                  <a:lnTo>
                    <a:pt x="671" y="802"/>
                  </a:lnTo>
                  <a:lnTo>
                    <a:pt x="671" y="834"/>
                  </a:lnTo>
                  <a:lnTo>
                    <a:pt x="681" y="871"/>
                  </a:lnTo>
                  <a:lnTo>
                    <a:pt x="698" y="903"/>
                  </a:lnTo>
                  <a:lnTo>
                    <a:pt x="719" y="934"/>
                  </a:lnTo>
                  <a:lnTo>
                    <a:pt x="749" y="959"/>
                  </a:lnTo>
                  <a:lnTo>
                    <a:pt x="794" y="984"/>
                  </a:lnTo>
                  <a:lnTo>
                    <a:pt x="856" y="1015"/>
                  </a:lnTo>
                  <a:lnTo>
                    <a:pt x="934" y="1047"/>
                  </a:lnTo>
                  <a:lnTo>
                    <a:pt x="1130" y="1110"/>
                  </a:lnTo>
                  <a:lnTo>
                    <a:pt x="1294" y="1179"/>
                  </a:lnTo>
                  <a:lnTo>
                    <a:pt x="1431" y="1241"/>
                  </a:lnTo>
                  <a:lnTo>
                    <a:pt x="1540" y="1317"/>
                  </a:lnTo>
                  <a:lnTo>
                    <a:pt x="1623" y="1386"/>
                  </a:lnTo>
                  <a:lnTo>
                    <a:pt x="1695" y="1467"/>
                  </a:lnTo>
                  <a:lnTo>
                    <a:pt x="1757" y="1548"/>
                  </a:lnTo>
                  <a:lnTo>
                    <a:pt x="1805" y="1648"/>
                  </a:lnTo>
                  <a:lnTo>
                    <a:pt x="1839" y="1749"/>
                  </a:lnTo>
                  <a:lnTo>
                    <a:pt x="1866" y="1862"/>
                  </a:lnTo>
                  <a:lnTo>
                    <a:pt x="1880" y="1974"/>
                  </a:lnTo>
                  <a:lnTo>
                    <a:pt x="1887" y="2100"/>
                  </a:lnTo>
                  <a:lnTo>
                    <a:pt x="1877" y="2244"/>
                  </a:lnTo>
                  <a:lnTo>
                    <a:pt x="1856" y="2382"/>
                  </a:lnTo>
                  <a:lnTo>
                    <a:pt x="1821" y="2508"/>
                  </a:lnTo>
                  <a:lnTo>
                    <a:pt x="1777" y="2639"/>
                  </a:lnTo>
                  <a:lnTo>
                    <a:pt x="1712" y="2758"/>
                  </a:lnTo>
                  <a:lnTo>
                    <a:pt x="1641" y="2858"/>
                  </a:lnTo>
                  <a:lnTo>
                    <a:pt x="1558" y="2940"/>
                  </a:lnTo>
                  <a:lnTo>
                    <a:pt x="1466" y="3015"/>
                  </a:lnTo>
                  <a:lnTo>
                    <a:pt x="1359" y="3065"/>
                  </a:lnTo>
                  <a:lnTo>
                    <a:pt x="1239" y="3103"/>
                  </a:lnTo>
                  <a:lnTo>
                    <a:pt x="1109" y="3128"/>
                  </a:lnTo>
                  <a:lnTo>
                    <a:pt x="965" y="3141"/>
                  </a:lnTo>
                  <a:lnTo>
                    <a:pt x="719" y="3115"/>
                  </a:lnTo>
                  <a:lnTo>
                    <a:pt x="516" y="3065"/>
                  </a:lnTo>
                  <a:lnTo>
                    <a:pt x="352" y="2971"/>
                  </a:lnTo>
                  <a:lnTo>
                    <a:pt x="232" y="2839"/>
                  </a:lnTo>
                  <a:lnTo>
                    <a:pt x="139" y="2683"/>
                  </a:lnTo>
                  <a:lnTo>
                    <a:pt x="68" y="2502"/>
                  </a:lnTo>
                  <a:lnTo>
                    <a:pt x="23" y="2301"/>
                  </a:lnTo>
                  <a:lnTo>
                    <a:pt x="0" y="2081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29400" y="932040"/>
              <a:ext cx="701640" cy="1093680"/>
            </a:xfrm>
            <a:custGeom>
              <a:avLst/>
              <a:gdLst/>
              <a:ahLst/>
              <a:rect l="l" t="t" r="r" b="b"/>
              <a:pathLst>
                <a:path w="1949" h="3040">
                  <a:moveTo>
                    <a:pt x="0" y="0"/>
                  </a:moveTo>
                  <a:lnTo>
                    <a:pt x="1948" y="0"/>
                  </a:lnTo>
                  <a:lnTo>
                    <a:pt x="1948" y="751"/>
                  </a:lnTo>
                  <a:lnTo>
                    <a:pt x="1294" y="751"/>
                  </a:lnTo>
                  <a:lnTo>
                    <a:pt x="1294" y="3039"/>
                  </a:lnTo>
                  <a:lnTo>
                    <a:pt x="653" y="3039"/>
                  </a:lnTo>
                  <a:lnTo>
                    <a:pt x="653" y="751"/>
                  </a:lnTo>
                  <a:lnTo>
                    <a:pt x="0" y="751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34000" y="932040"/>
              <a:ext cx="630360" cy="1428480"/>
            </a:xfrm>
            <a:custGeom>
              <a:avLst/>
              <a:gdLst/>
              <a:ahLst/>
              <a:rect l="l" t="t" r="r" b="b"/>
              <a:pathLst>
                <a:path w="1751" h="3969">
                  <a:moveTo>
                    <a:pt x="1099" y="2990"/>
                  </a:moveTo>
                  <a:lnTo>
                    <a:pt x="1336" y="2990"/>
                  </a:lnTo>
                  <a:lnTo>
                    <a:pt x="1321" y="3065"/>
                  </a:lnTo>
                  <a:lnTo>
                    <a:pt x="1315" y="3147"/>
                  </a:lnTo>
                  <a:lnTo>
                    <a:pt x="1308" y="3216"/>
                  </a:lnTo>
                  <a:lnTo>
                    <a:pt x="1308" y="3285"/>
                  </a:lnTo>
                  <a:lnTo>
                    <a:pt x="1308" y="3354"/>
                  </a:lnTo>
                  <a:lnTo>
                    <a:pt x="1318" y="3417"/>
                  </a:lnTo>
                  <a:lnTo>
                    <a:pt x="1336" y="3466"/>
                  </a:lnTo>
                  <a:lnTo>
                    <a:pt x="1363" y="3523"/>
                  </a:lnTo>
                  <a:lnTo>
                    <a:pt x="1390" y="3548"/>
                  </a:lnTo>
                  <a:lnTo>
                    <a:pt x="1425" y="3573"/>
                  </a:lnTo>
                  <a:lnTo>
                    <a:pt x="1462" y="3598"/>
                  </a:lnTo>
                  <a:lnTo>
                    <a:pt x="1506" y="3604"/>
                  </a:lnTo>
                  <a:lnTo>
                    <a:pt x="1541" y="3598"/>
                  </a:lnTo>
                  <a:lnTo>
                    <a:pt x="1582" y="3585"/>
                  </a:lnTo>
                  <a:lnTo>
                    <a:pt x="1630" y="3573"/>
                  </a:lnTo>
                  <a:lnTo>
                    <a:pt x="1688" y="3548"/>
                  </a:lnTo>
                  <a:lnTo>
                    <a:pt x="1688" y="3874"/>
                  </a:lnTo>
                  <a:lnTo>
                    <a:pt x="1602" y="3905"/>
                  </a:lnTo>
                  <a:lnTo>
                    <a:pt x="1524" y="3937"/>
                  </a:lnTo>
                  <a:lnTo>
                    <a:pt x="1452" y="3955"/>
                  </a:lnTo>
                  <a:lnTo>
                    <a:pt x="1387" y="3968"/>
                  </a:lnTo>
                  <a:lnTo>
                    <a:pt x="1305" y="3949"/>
                  </a:lnTo>
                  <a:lnTo>
                    <a:pt x="1237" y="3924"/>
                  </a:lnTo>
                  <a:lnTo>
                    <a:pt x="1174" y="3886"/>
                  </a:lnTo>
                  <a:lnTo>
                    <a:pt x="1126" y="3830"/>
                  </a:lnTo>
                  <a:lnTo>
                    <a:pt x="1082" y="3755"/>
                  </a:lnTo>
                  <a:lnTo>
                    <a:pt x="1051" y="3673"/>
                  </a:lnTo>
                  <a:lnTo>
                    <a:pt x="1034" y="3585"/>
                  </a:lnTo>
                  <a:lnTo>
                    <a:pt x="1030" y="3485"/>
                  </a:lnTo>
                  <a:lnTo>
                    <a:pt x="1034" y="3379"/>
                  </a:lnTo>
                  <a:lnTo>
                    <a:pt x="1048" y="3260"/>
                  </a:lnTo>
                  <a:lnTo>
                    <a:pt x="1068" y="3128"/>
                  </a:lnTo>
                  <a:lnTo>
                    <a:pt x="1099" y="2990"/>
                  </a:lnTo>
                  <a:lnTo>
                    <a:pt x="1099" y="2990"/>
                  </a:lnTo>
                  <a:close/>
                  <a:moveTo>
                    <a:pt x="0" y="0"/>
                  </a:moveTo>
                  <a:lnTo>
                    <a:pt x="1719" y="0"/>
                  </a:lnTo>
                  <a:lnTo>
                    <a:pt x="1719" y="645"/>
                  </a:lnTo>
                  <a:lnTo>
                    <a:pt x="643" y="645"/>
                  </a:lnTo>
                  <a:lnTo>
                    <a:pt x="643" y="1129"/>
                  </a:lnTo>
                  <a:lnTo>
                    <a:pt x="1640" y="1129"/>
                  </a:lnTo>
                  <a:lnTo>
                    <a:pt x="1640" y="1749"/>
                  </a:lnTo>
                  <a:lnTo>
                    <a:pt x="643" y="1749"/>
                  </a:lnTo>
                  <a:lnTo>
                    <a:pt x="643" y="2357"/>
                  </a:lnTo>
                  <a:lnTo>
                    <a:pt x="1750" y="2357"/>
                  </a:lnTo>
                  <a:lnTo>
                    <a:pt x="1750" y="3040"/>
                  </a:lnTo>
                  <a:lnTo>
                    <a:pt x="0" y="30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88200" y="932040"/>
              <a:ext cx="635040" cy="1093680"/>
            </a:xfrm>
            <a:custGeom>
              <a:avLst/>
              <a:gdLst/>
              <a:ahLst/>
              <a:rect l="l" t="t" r="r" b="b"/>
              <a:pathLst>
                <a:path w="1765" h="3040">
                  <a:moveTo>
                    <a:pt x="644" y="1291"/>
                  </a:moveTo>
                  <a:lnTo>
                    <a:pt x="801" y="1291"/>
                  </a:lnTo>
                  <a:lnTo>
                    <a:pt x="887" y="1284"/>
                  </a:lnTo>
                  <a:lnTo>
                    <a:pt x="960" y="1266"/>
                  </a:lnTo>
                  <a:lnTo>
                    <a:pt x="1018" y="1241"/>
                  </a:lnTo>
                  <a:lnTo>
                    <a:pt x="1065" y="1197"/>
                  </a:lnTo>
                  <a:lnTo>
                    <a:pt x="1097" y="1140"/>
                  </a:lnTo>
                  <a:lnTo>
                    <a:pt x="1120" y="1090"/>
                  </a:lnTo>
                  <a:lnTo>
                    <a:pt x="1134" y="1021"/>
                  </a:lnTo>
                  <a:lnTo>
                    <a:pt x="1141" y="958"/>
                  </a:lnTo>
                  <a:lnTo>
                    <a:pt x="1134" y="883"/>
                  </a:lnTo>
                  <a:lnTo>
                    <a:pt x="1123" y="820"/>
                  </a:lnTo>
                  <a:lnTo>
                    <a:pt x="1103" y="764"/>
                  </a:lnTo>
                  <a:lnTo>
                    <a:pt x="1076" y="713"/>
                  </a:lnTo>
                  <a:lnTo>
                    <a:pt x="1034" y="670"/>
                  </a:lnTo>
                  <a:lnTo>
                    <a:pt x="980" y="638"/>
                  </a:lnTo>
                  <a:lnTo>
                    <a:pt x="912" y="619"/>
                  </a:lnTo>
                  <a:lnTo>
                    <a:pt x="829" y="613"/>
                  </a:lnTo>
                  <a:lnTo>
                    <a:pt x="644" y="613"/>
                  </a:lnTo>
                  <a:lnTo>
                    <a:pt x="644" y="1291"/>
                  </a:lnTo>
                  <a:lnTo>
                    <a:pt x="644" y="1291"/>
                  </a:lnTo>
                  <a:close/>
                  <a:moveTo>
                    <a:pt x="0" y="0"/>
                  </a:moveTo>
                  <a:lnTo>
                    <a:pt x="1069" y="0"/>
                  </a:lnTo>
                  <a:lnTo>
                    <a:pt x="1229" y="12"/>
                  </a:lnTo>
                  <a:lnTo>
                    <a:pt x="1374" y="56"/>
                  </a:lnTo>
                  <a:lnTo>
                    <a:pt x="1494" y="131"/>
                  </a:lnTo>
                  <a:lnTo>
                    <a:pt x="1593" y="238"/>
                  </a:lnTo>
                  <a:lnTo>
                    <a:pt x="1665" y="376"/>
                  </a:lnTo>
                  <a:lnTo>
                    <a:pt x="1720" y="532"/>
                  </a:lnTo>
                  <a:lnTo>
                    <a:pt x="1751" y="720"/>
                  </a:lnTo>
                  <a:lnTo>
                    <a:pt x="1764" y="933"/>
                  </a:lnTo>
                  <a:lnTo>
                    <a:pt x="1751" y="1146"/>
                  </a:lnTo>
                  <a:lnTo>
                    <a:pt x="1716" y="1341"/>
                  </a:lnTo>
                  <a:lnTo>
                    <a:pt x="1658" y="1503"/>
                  </a:lnTo>
                  <a:lnTo>
                    <a:pt x="1576" y="1647"/>
                  </a:lnTo>
                  <a:lnTo>
                    <a:pt x="1467" y="1760"/>
                  </a:lnTo>
                  <a:lnTo>
                    <a:pt x="1333" y="1848"/>
                  </a:lnTo>
                  <a:lnTo>
                    <a:pt x="1175" y="1892"/>
                  </a:lnTo>
                  <a:lnTo>
                    <a:pt x="996" y="1911"/>
                  </a:lnTo>
                  <a:lnTo>
                    <a:pt x="644" y="1911"/>
                  </a:lnTo>
                  <a:lnTo>
                    <a:pt x="644" y="3039"/>
                  </a:lnTo>
                  <a:lnTo>
                    <a:pt x="0" y="30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914400" y="3124080"/>
            <a:ext cx="70866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imes New Roman"/>
              </a:rPr>
              <a:t>Różnica między najmniejszą i największą wartością podanych licz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952880" y="4724280"/>
            <a:ext cx="18208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60" name=""/>
          <p:cNvGrpSpPr/>
          <p:nvPr/>
        </p:nvGrpSpPr>
        <p:grpSpPr>
          <a:xfrm>
            <a:off x="7772400" y="5638680"/>
            <a:ext cx="836640" cy="838440"/>
            <a:chOff x="7772400" y="5638680"/>
            <a:chExt cx="836640" cy="838440"/>
          </a:xfrm>
        </p:grpSpPr>
        <p:sp>
          <p:nvSpPr>
            <p:cNvPr id="361" name=""/>
            <p:cNvSpPr/>
            <p:nvPr/>
          </p:nvSpPr>
          <p:spPr>
            <a:xfrm>
              <a:off x="7772400" y="5638680"/>
              <a:ext cx="836640" cy="838440"/>
            </a:xfrm>
            <a:custGeom>
              <a:avLst/>
              <a:gdLst/>
              <a:ahLst/>
              <a:rect l="l" t="t" r="r" b="b"/>
              <a:pathLst>
                <a:path w="2325" h="2330">
                  <a:moveTo>
                    <a:pt x="0" y="0"/>
                  </a:moveTo>
                  <a:lnTo>
                    <a:pt x="2324" y="0"/>
                  </a:lnTo>
                  <a:lnTo>
                    <a:pt x="2324" y="2329"/>
                  </a:lnTo>
                  <a:lnTo>
                    <a:pt x="0" y="2329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72400" y="5638680"/>
              <a:ext cx="836640" cy="54000"/>
            </a:xfrm>
            <a:custGeom>
              <a:avLst/>
              <a:gdLst/>
              <a:ahLst/>
              <a:rect l="l" t="t" r="r" b="b"/>
              <a:pathLst>
                <a:path w="2325" h="151">
                  <a:moveTo>
                    <a:pt x="0" y="0"/>
                  </a:moveTo>
                  <a:lnTo>
                    <a:pt x="2324" y="0"/>
                  </a:lnTo>
                  <a:lnTo>
                    <a:pt x="2173" y="150"/>
                  </a:lnTo>
                  <a:lnTo>
                    <a:pt x="149" y="150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555040" y="5638680"/>
              <a:ext cx="54000" cy="838440"/>
            </a:xfrm>
            <a:custGeom>
              <a:avLst/>
              <a:gdLst/>
              <a:ahLst/>
              <a:rect l="l" t="t" r="r" b="b"/>
              <a:pathLst>
                <a:path w="151" h="2330">
                  <a:moveTo>
                    <a:pt x="150" y="0"/>
                  </a:moveTo>
                  <a:lnTo>
                    <a:pt x="150" y="2329"/>
                  </a:lnTo>
                  <a:lnTo>
                    <a:pt x="0" y="2178"/>
                  </a:lnTo>
                  <a:lnTo>
                    <a:pt x="0" y="150"/>
                  </a:lnTo>
                  <a:lnTo>
                    <a:pt x="15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72400" y="6421320"/>
              <a:ext cx="836640" cy="54000"/>
            </a:xfrm>
            <a:custGeom>
              <a:avLst/>
              <a:gdLst/>
              <a:ahLst/>
              <a:rect l="l" t="t" r="r" b="b"/>
              <a:pathLst>
                <a:path w="2325" h="151">
                  <a:moveTo>
                    <a:pt x="2324" y="150"/>
                  </a:moveTo>
                  <a:lnTo>
                    <a:pt x="0" y="150"/>
                  </a:lnTo>
                  <a:lnTo>
                    <a:pt x="149" y="0"/>
                  </a:lnTo>
                  <a:lnTo>
                    <a:pt x="2173" y="0"/>
                  </a:lnTo>
                  <a:lnTo>
                    <a:pt x="2324" y="150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72400" y="5638680"/>
              <a:ext cx="54000" cy="838440"/>
            </a:xfrm>
            <a:custGeom>
              <a:avLst/>
              <a:gdLst/>
              <a:ahLst/>
              <a:rect l="l" t="t" r="r" b="b"/>
              <a:pathLst>
                <a:path w="151" h="2330">
                  <a:moveTo>
                    <a:pt x="0" y="2329"/>
                  </a:moveTo>
                  <a:lnTo>
                    <a:pt x="0" y="0"/>
                  </a:lnTo>
                  <a:lnTo>
                    <a:pt x="150" y="150"/>
                  </a:lnTo>
                  <a:lnTo>
                    <a:pt x="150" y="2178"/>
                  </a:lnTo>
                  <a:lnTo>
                    <a:pt x="0" y="2329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20000" y="5786280"/>
              <a:ext cx="544680" cy="544680"/>
            </a:xfrm>
            <a:custGeom>
              <a:avLst/>
              <a:gdLst/>
              <a:ahLst/>
              <a:rect l="l" t="t" r="r" b="b"/>
              <a:pathLst>
                <a:path w="1511" h="1512">
                  <a:moveTo>
                    <a:pt x="0" y="756"/>
                  </a:moveTo>
                  <a:lnTo>
                    <a:pt x="1510" y="0"/>
                  </a:lnTo>
                  <a:lnTo>
                    <a:pt x="1510" y="1511"/>
                  </a:lnTo>
                  <a:lnTo>
                    <a:pt x="0" y="756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2590920" y="914400"/>
            <a:ext cx="5332320" cy="1752480"/>
            <a:chOff x="2590920" y="914400"/>
            <a:chExt cx="5332320" cy="1752480"/>
          </a:xfrm>
        </p:grpSpPr>
        <p:sp>
          <p:nvSpPr>
            <p:cNvPr id="368" name=""/>
            <p:cNvSpPr/>
            <p:nvPr/>
          </p:nvSpPr>
          <p:spPr>
            <a:xfrm>
              <a:off x="2630520" y="923760"/>
              <a:ext cx="457200" cy="565200"/>
            </a:xfrm>
            <a:custGeom>
              <a:avLst/>
              <a:gdLst/>
              <a:ahLst/>
              <a:rect l="l" t="t" r="r" b="b"/>
              <a:pathLst>
                <a:path w="1269" h="1572">
                  <a:moveTo>
                    <a:pt x="0" y="0"/>
                  </a:moveTo>
                  <a:lnTo>
                    <a:pt x="459" y="0"/>
                  </a:lnTo>
                  <a:lnTo>
                    <a:pt x="633" y="957"/>
                  </a:lnTo>
                  <a:lnTo>
                    <a:pt x="811" y="0"/>
                  </a:lnTo>
                  <a:lnTo>
                    <a:pt x="1268" y="0"/>
                  </a:lnTo>
                  <a:lnTo>
                    <a:pt x="1268" y="1571"/>
                  </a:lnTo>
                  <a:lnTo>
                    <a:pt x="983" y="1571"/>
                  </a:lnTo>
                  <a:lnTo>
                    <a:pt x="983" y="375"/>
                  </a:lnTo>
                  <a:lnTo>
                    <a:pt x="763" y="1571"/>
                  </a:lnTo>
                  <a:lnTo>
                    <a:pt x="506" y="1571"/>
                  </a:lnTo>
                  <a:lnTo>
                    <a:pt x="284" y="375"/>
                  </a:lnTo>
                  <a:lnTo>
                    <a:pt x="284" y="1571"/>
                  </a:lnTo>
                  <a:lnTo>
                    <a:pt x="0" y="1571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49640" y="914400"/>
              <a:ext cx="420480" cy="584280"/>
            </a:xfrm>
            <a:custGeom>
              <a:avLst/>
              <a:gdLst/>
              <a:ahLst/>
              <a:rect l="l" t="t" r="r" b="b"/>
              <a:pathLst>
                <a:path w="1169" h="1624">
                  <a:moveTo>
                    <a:pt x="347" y="815"/>
                  </a:moveTo>
                  <a:lnTo>
                    <a:pt x="351" y="921"/>
                  </a:lnTo>
                  <a:lnTo>
                    <a:pt x="361" y="1015"/>
                  </a:lnTo>
                  <a:lnTo>
                    <a:pt x="382" y="1093"/>
                  </a:lnTo>
                  <a:lnTo>
                    <a:pt x="412" y="1154"/>
                  </a:lnTo>
                  <a:lnTo>
                    <a:pt x="445" y="1200"/>
                  </a:lnTo>
                  <a:lnTo>
                    <a:pt x="486" y="1232"/>
                  </a:lnTo>
                  <a:lnTo>
                    <a:pt x="533" y="1251"/>
                  </a:lnTo>
                  <a:lnTo>
                    <a:pt x="585" y="1258"/>
                  </a:lnTo>
                  <a:lnTo>
                    <a:pt x="636" y="1251"/>
                  </a:lnTo>
                  <a:lnTo>
                    <a:pt x="683" y="1232"/>
                  </a:lnTo>
                  <a:lnTo>
                    <a:pt x="724" y="1203"/>
                  </a:lnTo>
                  <a:lnTo>
                    <a:pt x="760" y="1158"/>
                  </a:lnTo>
                  <a:lnTo>
                    <a:pt x="786" y="1096"/>
                  </a:lnTo>
                  <a:lnTo>
                    <a:pt x="804" y="1015"/>
                  </a:lnTo>
                  <a:lnTo>
                    <a:pt x="816" y="915"/>
                  </a:lnTo>
                  <a:lnTo>
                    <a:pt x="821" y="793"/>
                  </a:lnTo>
                  <a:lnTo>
                    <a:pt x="816" y="689"/>
                  </a:lnTo>
                  <a:lnTo>
                    <a:pt x="804" y="601"/>
                  </a:lnTo>
                  <a:lnTo>
                    <a:pt x="786" y="527"/>
                  </a:lnTo>
                  <a:lnTo>
                    <a:pt x="758" y="469"/>
                  </a:lnTo>
                  <a:lnTo>
                    <a:pt x="722" y="423"/>
                  </a:lnTo>
                  <a:lnTo>
                    <a:pt x="679" y="391"/>
                  </a:lnTo>
                  <a:lnTo>
                    <a:pt x="633" y="375"/>
                  </a:lnTo>
                  <a:lnTo>
                    <a:pt x="581" y="368"/>
                  </a:lnTo>
                  <a:lnTo>
                    <a:pt x="529" y="375"/>
                  </a:lnTo>
                  <a:lnTo>
                    <a:pt x="484" y="391"/>
                  </a:lnTo>
                  <a:lnTo>
                    <a:pt x="445" y="427"/>
                  </a:lnTo>
                  <a:lnTo>
                    <a:pt x="412" y="472"/>
                  </a:lnTo>
                  <a:lnTo>
                    <a:pt x="382" y="530"/>
                  </a:lnTo>
                  <a:lnTo>
                    <a:pt x="361" y="608"/>
                  </a:lnTo>
                  <a:lnTo>
                    <a:pt x="351" y="702"/>
                  </a:lnTo>
                  <a:lnTo>
                    <a:pt x="347" y="815"/>
                  </a:lnTo>
                  <a:lnTo>
                    <a:pt x="347" y="815"/>
                  </a:lnTo>
                  <a:close/>
                  <a:moveTo>
                    <a:pt x="0" y="812"/>
                  </a:moveTo>
                  <a:lnTo>
                    <a:pt x="9" y="627"/>
                  </a:lnTo>
                  <a:lnTo>
                    <a:pt x="37" y="469"/>
                  </a:lnTo>
                  <a:lnTo>
                    <a:pt x="85" y="329"/>
                  </a:lnTo>
                  <a:lnTo>
                    <a:pt x="153" y="214"/>
                  </a:lnTo>
                  <a:lnTo>
                    <a:pt x="237" y="117"/>
                  </a:lnTo>
                  <a:lnTo>
                    <a:pt x="336" y="52"/>
                  </a:lnTo>
                  <a:lnTo>
                    <a:pt x="451" y="13"/>
                  </a:lnTo>
                  <a:lnTo>
                    <a:pt x="581" y="0"/>
                  </a:lnTo>
                  <a:lnTo>
                    <a:pt x="713" y="13"/>
                  </a:lnTo>
                  <a:lnTo>
                    <a:pt x="831" y="52"/>
                  </a:lnTo>
                  <a:lnTo>
                    <a:pt x="930" y="117"/>
                  </a:lnTo>
                  <a:lnTo>
                    <a:pt x="1016" y="211"/>
                  </a:lnTo>
                  <a:lnTo>
                    <a:pt x="1083" y="323"/>
                  </a:lnTo>
                  <a:lnTo>
                    <a:pt x="1129" y="462"/>
                  </a:lnTo>
                  <a:lnTo>
                    <a:pt x="1157" y="621"/>
                  </a:lnTo>
                  <a:lnTo>
                    <a:pt x="1168" y="799"/>
                  </a:lnTo>
                  <a:lnTo>
                    <a:pt x="1163" y="928"/>
                  </a:lnTo>
                  <a:lnTo>
                    <a:pt x="1151" y="1047"/>
                  </a:lnTo>
                  <a:lnTo>
                    <a:pt x="1129" y="1154"/>
                  </a:lnTo>
                  <a:lnTo>
                    <a:pt x="1102" y="1248"/>
                  </a:lnTo>
                  <a:lnTo>
                    <a:pt x="1065" y="1332"/>
                  </a:lnTo>
                  <a:lnTo>
                    <a:pt x="1020" y="1404"/>
                  </a:lnTo>
                  <a:lnTo>
                    <a:pt x="968" y="1468"/>
                  </a:lnTo>
                  <a:lnTo>
                    <a:pt x="910" y="1523"/>
                  </a:lnTo>
                  <a:lnTo>
                    <a:pt x="844" y="1565"/>
                  </a:lnTo>
                  <a:lnTo>
                    <a:pt x="767" y="1597"/>
                  </a:lnTo>
                  <a:lnTo>
                    <a:pt x="685" y="1613"/>
                  </a:lnTo>
                  <a:lnTo>
                    <a:pt x="596" y="1623"/>
                  </a:lnTo>
                  <a:lnTo>
                    <a:pt x="503" y="1613"/>
                  </a:lnTo>
                  <a:lnTo>
                    <a:pt x="421" y="1597"/>
                  </a:lnTo>
                  <a:lnTo>
                    <a:pt x="345" y="1571"/>
                  </a:lnTo>
                  <a:lnTo>
                    <a:pt x="280" y="1535"/>
                  </a:lnTo>
                  <a:lnTo>
                    <a:pt x="218" y="1488"/>
                  </a:lnTo>
                  <a:lnTo>
                    <a:pt x="166" y="1430"/>
                  </a:lnTo>
                  <a:lnTo>
                    <a:pt x="118" y="1352"/>
                  </a:lnTo>
                  <a:lnTo>
                    <a:pt x="78" y="1271"/>
                  </a:lnTo>
                  <a:lnTo>
                    <a:pt x="42" y="1170"/>
                  </a:lnTo>
                  <a:lnTo>
                    <a:pt x="18" y="1064"/>
                  </a:lnTo>
                  <a:lnTo>
                    <a:pt x="3" y="944"/>
                  </a:lnTo>
                  <a:lnTo>
                    <a:pt x="0" y="812"/>
                  </a:lnTo>
                  <a:lnTo>
                    <a:pt x="0" y="812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41760" y="923760"/>
              <a:ext cx="374760" cy="565200"/>
            </a:xfrm>
            <a:custGeom>
              <a:avLst/>
              <a:gdLst/>
              <a:ahLst/>
              <a:rect l="l" t="t" r="r" b="b"/>
              <a:pathLst>
                <a:path w="1041" h="1572">
                  <a:moveTo>
                    <a:pt x="348" y="355"/>
                  </a:moveTo>
                  <a:lnTo>
                    <a:pt x="348" y="1212"/>
                  </a:lnTo>
                  <a:lnTo>
                    <a:pt x="434" y="1212"/>
                  </a:lnTo>
                  <a:lnTo>
                    <a:pt x="485" y="1209"/>
                  </a:lnTo>
                  <a:lnTo>
                    <a:pt x="528" y="1203"/>
                  </a:lnTo>
                  <a:lnTo>
                    <a:pt x="562" y="1193"/>
                  </a:lnTo>
                  <a:lnTo>
                    <a:pt x="590" y="1180"/>
                  </a:lnTo>
                  <a:lnTo>
                    <a:pt x="612" y="1157"/>
                  </a:lnTo>
                  <a:lnTo>
                    <a:pt x="631" y="1128"/>
                  </a:lnTo>
                  <a:lnTo>
                    <a:pt x="648" y="1099"/>
                  </a:lnTo>
                  <a:lnTo>
                    <a:pt x="663" y="1060"/>
                  </a:lnTo>
                  <a:lnTo>
                    <a:pt x="672" y="1012"/>
                  </a:lnTo>
                  <a:lnTo>
                    <a:pt x="681" y="950"/>
                  </a:lnTo>
                  <a:lnTo>
                    <a:pt x="687" y="877"/>
                  </a:lnTo>
                  <a:lnTo>
                    <a:pt x="689" y="789"/>
                  </a:lnTo>
                  <a:lnTo>
                    <a:pt x="685" y="673"/>
                  </a:lnTo>
                  <a:lnTo>
                    <a:pt x="674" y="579"/>
                  </a:lnTo>
                  <a:lnTo>
                    <a:pt x="655" y="501"/>
                  </a:lnTo>
                  <a:lnTo>
                    <a:pt x="631" y="446"/>
                  </a:lnTo>
                  <a:lnTo>
                    <a:pt x="596" y="404"/>
                  </a:lnTo>
                  <a:lnTo>
                    <a:pt x="553" y="375"/>
                  </a:lnTo>
                  <a:lnTo>
                    <a:pt x="500" y="362"/>
                  </a:lnTo>
                  <a:lnTo>
                    <a:pt x="436" y="355"/>
                  </a:lnTo>
                  <a:lnTo>
                    <a:pt x="348" y="355"/>
                  </a:lnTo>
                  <a:lnTo>
                    <a:pt x="348" y="355"/>
                  </a:lnTo>
                  <a:close/>
                  <a:moveTo>
                    <a:pt x="0" y="0"/>
                  </a:moveTo>
                  <a:lnTo>
                    <a:pt x="518" y="0"/>
                  </a:lnTo>
                  <a:lnTo>
                    <a:pt x="590" y="3"/>
                  </a:lnTo>
                  <a:lnTo>
                    <a:pt x="655" y="13"/>
                  </a:lnTo>
                  <a:lnTo>
                    <a:pt x="716" y="32"/>
                  </a:lnTo>
                  <a:lnTo>
                    <a:pt x="768" y="58"/>
                  </a:lnTo>
                  <a:lnTo>
                    <a:pt x="810" y="87"/>
                  </a:lnTo>
                  <a:lnTo>
                    <a:pt x="851" y="129"/>
                  </a:lnTo>
                  <a:lnTo>
                    <a:pt x="889" y="172"/>
                  </a:lnTo>
                  <a:lnTo>
                    <a:pt x="922" y="223"/>
                  </a:lnTo>
                  <a:lnTo>
                    <a:pt x="950" y="278"/>
                  </a:lnTo>
                  <a:lnTo>
                    <a:pt x="975" y="339"/>
                  </a:lnTo>
                  <a:lnTo>
                    <a:pt x="995" y="404"/>
                  </a:lnTo>
                  <a:lnTo>
                    <a:pt x="1012" y="475"/>
                  </a:lnTo>
                  <a:lnTo>
                    <a:pt x="1023" y="546"/>
                  </a:lnTo>
                  <a:lnTo>
                    <a:pt x="1032" y="621"/>
                  </a:lnTo>
                  <a:lnTo>
                    <a:pt x="1038" y="699"/>
                  </a:lnTo>
                  <a:lnTo>
                    <a:pt x="1040" y="779"/>
                  </a:lnTo>
                  <a:lnTo>
                    <a:pt x="1036" y="895"/>
                  </a:lnTo>
                  <a:lnTo>
                    <a:pt x="1029" y="1002"/>
                  </a:lnTo>
                  <a:lnTo>
                    <a:pt x="1016" y="1089"/>
                  </a:lnTo>
                  <a:lnTo>
                    <a:pt x="999" y="1167"/>
                  </a:lnTo>
                  <a:lnTo>
                    <a:pt x="975" y="1232"/>
                  </a:lnTo>
                  <a:lnTo>
                    <a:pt x="948" y="1297"/>
                  </a:lnTo>
                  <a:lnTo>
                    <a:pt x="919" y="1349"/>
                  </a:lnTo>
                  <a:lnTo>
                    <a:pt x="885" y="1404"/>
                  </a:lnTo>
                  <a:lnTo>
                    <a:pt x="846" y="1442"/>
                  </a:lnTo>
                  <a:lnTo>
                    <a:pt x="807" y="1481"/>
                  </a:lnTo>
                  <a:lnTo>
                    <a:pt x="768" y="1506"/>
                  </a:lnTo>
                  <a:lnTo>
                    <a:pt x="727" y="1526"/>
                  </a:lnTo>
                  <a:lnTo>
                    <a:pt x="668" y="1545"/>
                  </a:lnTo>
                  <a:lnTo>
                    <a:pt x="616" y="1558"/>
                  </a:lnTo>
                  <a:lnTo>
                    <a:pt x="564" y="1565"/>
                  </a:lnTo>
                  <a:lnTo>
                    <a:pt x="518" y="1571"/>
                  </a:lnTo>
                  <a:lnTo>
                    <a:pt x="0" y="15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37040" y="923760"/>
              <a:ext cx="441360" cy="565200"/>
            </a:xfrm>
            <a:custGeom>
              <a:avLst/>
              <a:gdLst/>
              <a:ahLst/>
              <a:rect l="l" t="t" r="r" b="b"/>
              <a:pathLst>
                <a:path w="1226" h="1572">
                  <a:moveTo>
                    <a:pt x="730" y="973"/>
                  </a:moveTo>
                  <a:lnTo>
                    <a:pt x="609" y="407"/>
                  </a:lnTo>
                  <a:lnTo>
                    <a:pt x="484" y="973"/>
                  </a:lnTo>
                  <a:lnTo>
                    <a:pt x="730" y="973"/>
                  </a:lnTo>
                  <a:lnTo>
                    <a:pt x="730" y="973"/>
                  </a:lnTo>
                  <a:close/>
                  <a:moveTo>
                    <a:pt x="803" y="1310"/>
                  </a:moveTo>
                  <a:lnTo>
                    <a:pt x="412" y="1310"/>
                  </a:lnTo>
                  <a:lnTo>
                    <a:pt x="354" y="1571"/>
                  </a:lnTo>
                  <a:lnTo>
                    <a:pt x="0" y="1571"/>
                  </a:lnTo>
                  <a:lnTo>
                    <a:pt x="422" y="0"/>
                  </a:lnTo>
                  <a:lnTo>
                    <a:pt x="801" y="0"/>
                  </a:lnTo>
                  <a:lnTo>
                    <a:pt x="1225" y="1571"/>
                  </a:lnTo>
                  <a:lnTo>
                    <a:pt x="861" y="1571"/>
                  </a:lnTo>
                  <a:lnTo>
                    <a:pt x="803" y="1310"/>
                  </a:lnTo>
                  <a:lnTo>
                    <a:pt x="803" y="131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90920" y="2246400"/>
              <a:ext cx="534960" cy="411120"/>
            </a:xfrm>
            <a:custGeom>
              <a:avLst/>
              <a:gdLst/>
              <a:ahLst/>
              <a:rect l="l" t="t" r="r" b="b"/>
              <a:pathLst>
                <a:path w="1486" h="1140">
                  <a:moveTo>
                    <a:pt x="0" y="0"/>
                  </a:moveTo>
                  <a:lnTo>
                    <a:pt x="302" y="0"/>
                  </a:lnTo>
                  <a:lnTo>
                    <a:pt x="432" y="716"/>
                  </a:lnTo>
                  <a:lnTo>
                    <a:pt x="600" y="0"/>
                  </a:lnTo>
                  <a:lnTo>
                    <a:pt x="881" y="0"/>
                  </a:lnTo>
                  <a:lnTo>
                    <a:pt x="1052" y="716"/>
                  </a:lnTo>
                  <a:lnTo>
                    <a:pt x="1184" y="0"/>
                  </a:lnTo>
                  <a:lnTo>
                    <a:pt x="1485" y="0"/>
                  </a:lnTo>
                  <a:lnTo>
                    <a:pt x="1184" y="1139"/>
                  </a:lnTo>
                  <a:lnTo>
                    <a:pt x="906" y="1139"/>
                  </a:lnTo>
                  <a:lnTo>
                    <a:pt x="742" y="452"/>
                  </a:lnTo>
                  <a:lnTo>
                    <a:pt x="581" y="1139"/>
                  </a:lnTo>
                  <a:lnTo>
                    <a:pt x="302" y="1139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44960" y="2236680"/>
              <a:ext cx="339480" cy="430200"/>
            </a:xfrm>
            <a:custGeom>
              <a:avLst/>
              <a:gdLst/>
              <a:ahLst/>
              <a:rect l="l" t="t" r="r" b="b"/>
              <a:pathLst>
                <a:path w="943" h="1193">
                  <a:moveTo>
                    <a:pt x="597" y="625"/>
                  </a:moveTo>
                  <a:lnTo>
                    <a:pt x="563" y="638"/>
                  </a:lnTo>
                  <a:lnTo>
                    <a:pt x="529" y="654"/>
                  </a:lnTo>
                  <a:lnTo>
                    <a:pt x="496" y="667"/>
                  </a:lnTo>
                  <a:lnTo>
                    <a:pt x="461" y="683"/>
                  </a:lnTo>
                  <a:lnTo>
                    <a:pt x="416" y="696"/>
                  </a:lnTo>
                  <a:lnTo>
                    <a:pt x="383" y="716"/>
                  </a:lnTo>
                  <a:lnTo>
                    <a:pt x="358" y="735"/>
                  </a:lnTo>
                  <a:lnTo>
                    <a:pt x="341" y="752"/>
                  </a:lnTo>
                  <a:lnTo>
                    <a:pt x="330" y="768"/>
                  </a:lnTo>
                  <a:lnTo>
                    <a:pt x="320" y="787"/>
                  </a:lnTo>
                  <a:lnTo>
                    <a:pt x="315" y="811"/>
                  </a:lnTo>
                  <a:lnTo>
                    <a:pt x="315" y="833"/>
                  </a:lnTo>
                  <a:lnTo>
                    <a:pt x="315" y="856"/>
                  </a:lnTo>
                  <a:lnTo>
                    <a:pt x="320" y="879"/>
                  </a:lnTo>
                  <a:lnTo>
                    <a:pt x="330" y="897"/>
                  </a:lnTo>
                  <a:lnTo>
                    <a:pt x="341" y="917"/>
                  </a:lnTo>
                  <a:lnTo>
                    <a:pt x="354" y="930"/>
                  </a:lnTo>
                  <a:lnTo>
                    <a:pt x="373" y="939"/>
                  </a:lnTo>
                  <a:lnTo>
                    <a:pt x="390" y="946"/>
                  </a:lnTo>
                  <a:lnTo>
                    <a:pt x="415" y="949"/>
                  </a:lnTo>
                  <a:lnTo>
                    <a:pt x="441" y="946"/>
                  </a:lnTo>
                  <a:lnTo>
                    <a:pt x="465" y="939"/>
                  </a:lnTo>
                  <a:lnTo>
                    <a:pt x="490" y="926"/>
                  </a:lnTo>
                  <a:lnTo>
                    <a:pt x="514" y="913"/>
                  </a:lnTo>
                  <a:lnTo>
                    <a:pt x="535" y="891"/>
                  </a:lnTo>
                  <a:lnTo>
                    <a:pt x="552" y="876"/>
                  </a:lnTo>
                  <a:lnTo>
                    <a:pt x="565" y="853"/>
                  </a:lnTo>
                  <a:lnTo>
                    <a:pt x="578" y="827"/>
                  </a:lnTo>
                  <a:lnTo>
                    <a:pt x="585" y="801"/>
                  </a:lnTo>
                  <a:lnTo>
                    <a:pt x="591" y="768"/>
                  </a:lnTo>
                  <a:lnTo>
                    <a:pt x="595" y="735"/>
                  </a:lnTo>
                  <a:lnTo>
                    <a:pt x="597" y="696"/>
                  </a:lnTo>
                  <a:lnTo>
                    <a:pt x="597" y="625"/>
                  </a:lnTo>
                  <a:lnTo>
                    <a:pt x="597" y="625"/>
                  </a:lnTo>
                  <a:close/>
                  <a:moveTo>
                    <a:pt x="324" y="394"/>
                  </a:moveTo>
                  <a:lnTo>
                    <a:pt x="25" y="349"/>
                  </a:lnTo>
                  <a:lnTo>
                    <a:pt x="34" y="297"/>
                  </a:lnTo>
                  <a:lnTo>
                    <a:pt x="45" y="253"/>
                  </a:lnTo>
                  <a:lnTo>
                    <a:pt x="58" y="214"/>
                  </a:lnTo>
                  <a:lnTo>
                    <a:pt x="73" y="178"/>
                  </a:lnTo>
                  <a:lnTo>
                    <a:pt x="90" y="149"/>
                  </a:lnTo>
                  <a:lnTo>
                    <a:pt x="110" y="120"/>
                  </a:lnTo>
                  <a:lnTo>
                    <a:pt x="136" y="94"/>
                  </a:lnTo>
                  <a:lnTo>
                    <a:pt x="165" y="71"/>
                  </a:lnTo>
                  <a:lnTo>
                    <a:pt x="188" y="52"/>
                  </a:lnTo>
                  <a:lnTo>
                    <a:pt x="216" y="39"/>
                  </a:lnTo>
                  <a:lnTo>
                    <a:pt x="248" y="26"/>
                  </a:lnTo>
                  <a:lnTo>
                    <a:pt x="285" y="20"/>
                  </a:lnTo>
                  <a:lnTo>
                    <a:pt x="322" y="7"/>
                  </a:lnTo>
                  <a:lnTo>
                    <a:pt x="363" y="3"/>
                  </a:lnTo>
                  <a:lnTo>
                    <a:pt x="403" y="0"/>
                  </a:lnTo>
                  <a:lnTo>
                    <a:pt x="446" y="0"/>
                  </a:lnTo>
                  <a:lnTo>
                    <a:pt x="514" y="0"/>
                  </a:lnTo>
                  <a:lnTo>
                    <a:pt x="574" y="7"/>
                  </a:lnTo>
                  <a:lnTo>
                    <a:pt x="628" y="10"/>
                  </a:lnTo>
                  <a:lnTo>
                    <a:pt x="674" y="20"/>
                  </a:lnTo>
                  <a:lnTo>
                    <a:pt x="715" y="32"/>
                  </a:lnTo>
                  <a:lnTo>
                    <a:pt x="752" y="55"/>
                  </a:lnTo>
                  <a:lnTo>
                    <a:pt x="786" y="81"/>
                  </a:lnTo>
                  <a:lnTo>
                    <a:pt x="818" y="113"/>
                  </a:lnTo>
                  <a:lnTo>
                    <a:pt x="834" y="136"/>
                  </a:lnTo>
                  <a:lnTo>
                    <a:pt x="851" y="169"/>
                  </a:lnTo>
                  <a:lnTo>
                    <a:pt x="866" y="204"/>
                  </a:lnTo>
                  <a:lnTo>
                    <a:pt x="881" y="249"/>
                  </a:lnTo>
                  <a:lnTo>
                    <a:pt x="889" y="294"/>
                  </a:lnTo>
                  <a:lnTo>
                    <a:pt x="897" y="333"/>
                  </a:lnTo>
                  <a:lnTo>
                    <a:pt x="901" y="378"/>
                  </a:lnTo>
                  <a:lnTo>
                    <a:pt x="903" y="421"/>
                  </a:lnTo>
                  <a:lnTo>
                    <a:pt x="903" y="923"/>
                  </a:lnTo>
                  <a:lnTo>
                    <a:pt x="903" y="959"/>
                  </a:lnTo>
                  <a:lnTo>
                    <a:pt x="903" y="994"/>
                  </a:lnTo>
                  <a:lnTo>
                    <a:pt x="906" y="1024"/>
                  </a:lnTo>
                  <a:lnTo>
                    <a:pt x="910" y="1049"/>
                  </a:lnTo>
                  <a:lnTo>
                    <a:pt x="914" y="1072"/>
                  </a:lnTo>
                  <a:lnTo>
                    <a:pt x="921" y="1101"/>
                  </a:lnTo>
                  <a:lnTo>
                    <a:pt x="929" y="1130"/>
                  </a:lnTo>
                  <a:lnTo>
                    <a:pt x="942" y="1166"/>
                  </a:lnTo>
                  <a:lnTo>
                    <a:pt x="648" y="1166"/>
                  </a:lnTo>
                  <a:lnTo>
                    <a:pt x="638" y="1143"/>
                  </a:lnTo>
                  <a:lnTo>
                    <a:pt x="632" y="1127"/>
                  </a:lnTo>
                  <a:lnTo>
                    <a:pt x="626" y="1111"/>
                  </a:lnTo>
                  <a:lnTo>
                    <a:pt x="625" y="1098"/>
                  </a:lnTo>
                  <a:lnTo>
                    <a:pt x="621" y="1082"/>
                  </a:lnTo>
                  <a:lnTo>
                    <a:pt x="619" y="1066"/>
                  </a:lnTo>
                  <a:lnTo>
                    <a:pt x="615" y="1049"/>
                  </a:lnTo>
                  <a:lnTo>
                    <a:pt x="615" y="1027"/>
                  </a:lnTo>
                  <a:lnTo>
                    <a:pt x="582" y="1062"/>
                  </a:lnTo>
                  <a:lnTo>
                    <a:pt x="552" y="1098"/>
                  </a:lnTo>
                  <a:lnTo>
                    <a:pt x="520" y="1124"/>
                  </a:lnTo>
                  <a:lnTo>
                    <a:pt x="492" y="1143"/>
                  </a:lnTo>
                  <a:lnTo>
                    <a:pt x="446" y="1163"/>
                  </a:lnTo>
                  <a:lnTo>
                    <a:pt x="400" y="1176"/>
                  </a:lnTo>
                  <a:lnTo>
                    <a:pt x="350" y="1186"/>
                  </a:lnTo>
                  <a:lnTo>
                    <a:pt x="298" y="1192"/>
                  </a:lnTo>
                  <a:lnTo>
                    <a:pt x="227" y="1182"/>
                  </a:lnTo>
                  <a:lnTo>
                    <a:pt x="167" y="1166"/>
                  </a:lnTo>
                  <a:lnTo>
                    <a:pt x="118" y="1137"/>
                  </a:lnTo>
                  <a:lnTo>
                    <a:pt x="77" y="1095"/>
                  </a:lnTo>
                  <a:lnTo>
                    <a:pt x="43" y="1043"/>
                  </a:lnTo>
                  <a:lnTo>
                    <a:pt x="19" y="988"/>
                  </a:lnTo>
                  <a:lnTo>
                    <a:pt x="4" y="930"/>
                  </a:lnTo>
                  <a:lnTo>
                    <a:pt x="0" y="866"/>
                  </a:lnTo>
                  <a:lnTo>
                    <a:pt x="2" y="801"/>
                  </a:lnTo>
                  <a:lnTo>
                    <a:pt x="13" y="745"/>
                  </a:lnTo>
                  <a:lnTo>
                    <a:pt x="30" y="696"/>
                  </a:lnTo>
                  <a:lnTo>
                    <a:pt x="54" y="651"/>
                  </a:lnTo>
                  <a:lnTo>
                    <a:pt x="88" y="609"/>
                  </a:lnTo>
                  <a:lnTo>
                    <a:pt x="132" y="577"/>
                  </a:lnTo>
                  <a:lnTo>
                    <a:pt x="188" y="547"/>
                  </a:lnTo>
                  <a:lnTo>
                    <a:pt x="257" y="528"/>
                  </a:lnTo>
                  <a:lnTo>
                    <a:pt x="337" y="502"/>
                  </a:lnTo>
                  <a:lnTo>
                    <a:pt x="401" y="483"/>
                  </a:lnTo>
                  <a:lnTo>
                    <a:pt x="450" y="466"/>
                  </a:lnTo>
                  <a:lnTo>
                    <a:pt x="486" y="457"/>
                  </a:lnTo>
                  <a:lnTo>
                    <a:pt x="513" y="444"/>
                  </a:lnTo>
                  <a:lnTo>
                    <a:pt x="539" y="434"/>
                  </a:lnTo>
                  <a:lnTo>
                    <a:pt x="567" y="418"/>
                  </a:lnTo>
                  <a:lnTo>
                    <a:pt x="597" y="405"/>
                  </a:lnTo>
                  <a:lnTo>
                    <a:pt x="595" y="365"/>
                  </a:lnTo>
                  <a:lnTo>
                    <a:pt x="589" y="333"/>
                  </a:lnTo>
                  <a:lnTo>
                    <a:pt x="582" y="307"/>
                  </a:lnTo>
                  <a:lnTo>
                    <a:pt x="572" y="291"/>
                  </a:lnTo>
                  <a:lnTo>
                    <a:pt x="557" y="275"/>
                  </a:lnTo>
                  <a:lnTo>
                    <a:pt x="539" y="269"/>
                  </a:lnTo>
                  <a:lnTo>
                    <a:pt x="514" y="259"/>
                  </a:lnTo>
                  <a:lnTo>
                    <a:pt x="488" y="259"/>
                  </a:lnTo>
                  <a:lnTo>
                    <a:pt x="450" y="259"/>
                  </a:lnTo>
                  <a:lnTo>
                    <a:pt x="420" y="269"/>
                  </a:lnTo>
                  <a:lnTo>
                    <a:pt x="392" y="279"/>
                  </a:lnTo>
                  <a:lnTo>
                    <a:pt x="373" y="294"/>
                  </a:lnTo>
                  <a:lnTo>
                    <a:pt x="358" y="307"/>
                  </a:lnTo>
                  <a:lnTo>
                    <a:pt x="345" y="333"/>
                  </a:lnTo>
                  <a:lnTo>
                    <a:pt x="333" y="359"/>
                  </a:lnTo>
                  <a:lnTo>
                    <a:pt x="324" y="394"/>
                  </a:lnTo>
                  <a:lnTo>
                    <a:pt x="324" y="394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8440" y="2236680"/>
              <a:ext cx="231840" cy="419040"/>
            </a:xfrm>
            <a:custGeom>
              <a:avLst/>
              <a:gdLst/>
              <a:ahLst/>
              <a:rect l="l" t="t" r="r" b="b"/>
              <a:pathLst>
                <a:path w="643" h="1166">
                  <a:moveTo>
                    <a:pt x="0" y="26"/>
                  </a:moveTo>
                  <a:lnTo>
                    <a:pt x="291" y="26"/>
                  </a:lnTo>
                  <a:lnTo>
                    <a:pt x="291" y="214"/>
                  </a:lnTo>
                  <a:lnTo>
                    <a:pt x="310" y="156"/>
                  </a:lnTo>
                  <a:lnTo>
                    <a:pt x="333" y="110"/>
                  </a:lnTo>
                  <a:lnTo>
                    <a:pt x="355" y="71"/>
                  </a:lnTo>
                  <a:lnTo>
                    <a:pt x="379" y="45"/>
                  </a:lnTo>
                  <a:lnTo>
                    <a:pt x="402" y="23"/>
                  </a:lnTo>
                  <a:lnTo>
                    <a:pt x="428" y="10"/>
                  </a:lnTo>
                  <a:lnTo>
                    <a:pt x="458" y="3"/>
                  </a:lnTo>
                  <a:lnTo>
                    <a:pt x="490" y="0"/>
                  </a:lnTo>
                  <a:lnTo>
                    <a:pt x="525" y="3"/>
                  </a:lnTo>
                  <a:lnTo>
                    <a:pt x="561" y="13"/>
                  </a:lnTo>
                  <a:lnTo>
                    <a:pt x="601" y="32"/>
                  </a:lnTo>
                  <a:lnTo>
                    <a:pt x="642" y="58"/>
                  </a:lnTo>
                  <a:lnTo>
                    <a:pt x="546" y="372"/>
                  </a:lnTo>
                  <a:lnTo>
                    <a:pt x="518" y="355"/>
                  </a:lnTo>
                  <a:lnTo>
                    <a:pt x="495" y="346"/>
                  </a:lnTo>
                  <a:lnTo>
                    <a:pt x="475" y="339"/>
                  </a:lnTo>
                  <a:lnTo>
                    <a:pt x="458" y="339"/>
                  </a:lnTo>
                  <a:lnTo>
                    <a:pt x="426" y="342"/>
                  </a:lnTo>
                  <a:lnTo>
                    <a:pt x="400" y="355"/>
                  </a:lnTo>
                  <a:lnTo>
                    <a:pt x="378" y="378"/>
                  </a:lnTo>
                  <a:lnTo>
                    <a:pt x="361" y="410"/>
                  </a:lnTo>
                  <a:lnTo>
                    <a:pt x="338" y="469"/>
                  </a:lnTo>
                  <a:lnTo>
                    <a:pt x="323" y="553"/>
                  </a:lnTo>
                  <a:lnTo>
                    <a:pt x="314" y="658"/>
                  </a:lnTo>
                  <a:lnTo>
                    <a:pt x="312" y="784"/>
                  </a:lnTo>
                  <a:lnTo>
                    <a:pt x="312" y="1165"/>
                  </a:lnTo>
                  <a:lnTo>
                    <a:pt x="0" y="1165"/>
                  </a:lnTo>
                  <a:lnTo>
                    <a:pt x="0" y="26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70280" y="2089080"/>
              <a:ext cx="220680" cy="574920"/>
            </a:xfrm>
            <a:custGeom>
              <a:avLst/>
              <a:gdLst/>
              <a:ahLst/>
              <a:rect l="l" t="t" r="r" b="b"/>
              <a:pathLst>
                <a:path w="614" h="1598">
                  <a:moveTo>
                    <a:pt x="428" y="0"/>
                  </a:moveTo>
                  <a:lnTo>
                    <a:pt x="428" y="433"/>
                  </a:lnTo>
                  <a:lnTo>
                    <a:pt x="601" y="433"/>
                  </a:lnTo>
                  <a:lnTo>
                    <a:pt x="601" y="753"/>
                  </a:lnTo>
                  <a:lnTo>
                    <a:pt x="428" y="753"/>
                  </a:lnTo>
                  <a:lnTo>
                    <a:pt x="428" y="1154"/>
                  </a:lnTo>
                  <a:lnTo>
                    <a:pt x="428" y="1187"/>
                  </a:lnTo>
                  <a:lnTo>
                    <a:pt x="430" y="1216"/>
                  </a:lnTo>
                  <a:lnTo>
                    <a:pt x="431" y="1235"/>
                  </a:lnTo>
                  <a:lnTo>
                    <a:pt x="437" y="1251"/>
                  </a:lnTo>
                  <a:lnTo>
                    <a:pt x="446" y="1264"/>
                  </a:lnTo>
                  <a:lnTo>
                    <a:pt x="458" y="1277"/>
                  </a:lnTo>
                  <a:lnTo>
                    <a:pt x="473" y="1284"/>
                  </a:lnTo>
                  <a:lnTo>
                    <a:pt x="491" y="1287"/>
                  </a:lnTo>
                  <a:lnTo>
                    <a:pt x="510" y="1284"/>
                  </a:lnTo>
                  <a:lnTo>
                    <a:pt x="532" y="1281"/>
                  </a:lnTo>
                  <a:lnTo>
                    <a:pt x="558" y="1271"/>
                  </a:lnTo>
                  <a:lnTo>
                    <a:pt x="590" y="1258"/>
                  </a:lnTo>
                  <a:lnTo>
                    <a:pt x="613" y="1558"/>
                  </a:lnTo>
                  <a:lnTo>
                    <a:pt x="555" y="1571"/>
                  </a:lnTo>
                  <a:lnTo>
                    <a:pt x="499" y="1584"/>
                  </a:lnTo>
                  <a:lnTo>
                    <a:pt x="445" y="1591"/>
                  </a:lnTo>
                  <a:lnTo>
                    <a:pt x="395" y="1597"/>
                  </a:lnTo>
                  <a:lnTo>
                    <a:pt x="339" y="1591"/>
                  </a:lnTo>
                  <a:lnTo>
                    <a:pt x="292" y="1584"/>
                  </a:lnTo>
                  <a:lnTo>
                    <a:pt x="253" y="1571"/>
                  </a:lnTo>
                  <a:lnTo>
                    <a:pt x="223" y="1555"/>
                  </a:lnTo>
                  <a:lnTo>
                    <a:pt x="195" y="1529"/>
                  </a:lnTo>
                  <a:lnTo>
                    <a:pt x="173" y="1500"/>
                  </a:lnTo>
                  <a:lnTo>
                    <a:pt x="155" y="1467"/>
                  </a:lnTo>
                  <a:lnTo>
                    <a:pt x="142" y="1429"/>
                  </a:lnTo>
                  <a:lnTo>
                    <a:pt x="129" y="1377"/>
                  </a:lnTo>
                  <a:lnTo>
                    <a:pt x="120" y="1315"/>
                  </a:lnTo>
                  <a:lnTo>
                    <a:pt x="114" y="1242"/>
                  </a:lnTo>
                  <a:lnTo>
                    <a:pt x="114" y="1154"/>
                  </a:lnTo>
                  <a:lnTo>
                    <a:pt x="114" y="753"/>
                  </a:lnTo>
                  <a:lnTo>
                    <a:pt x="0" y="753"/>
                  </a:lnTo>
                  <a:lnTo>
                    <a:pt x="0" y="433"/>
                  </a:lnTo>
                  <a:lnTo>
                    <a:pt x="114" y="433"/>
                  </a:lnTo>
                  <a:lnTo>
                    <a:pt x="114" y="222"/>
                  </a:lnTo>
                  <a:lnTo>
                    <a:pt x="428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25880" y="2236680"/>
              <a:ext cx="338040" cy="430200"/>
            </a:xfrm>
            <a:custGeom>
              <a:avLst/>
              <a:gdLst/>
              <a:ahLst/>
              <a:rect l="l" t="t" r="r" b="b"/>
              <a:pathLst>
                <a:path w="939" h="1193">
                  <a:moveTo>
                    <a:pt x="314" y="596"/>
                  </a:moveTo>
                  <a:lnTo>
                    <a:pt x="316" y="667"/>
                  </a:lnTo>
                  <a:lnTo>
                    <a:pt x="325" y="729"/>
                  </a:lnTo>
                  <a:lnTo>
                    <a:pt x="338" y="777"/>
                  </a:lnTo>
                  <a:lnTo>
                    <a:pt x="359" y="824"/>
                  </a:lnTo>
                  <a:lnTo>
                    <a:pt x="381" y="853"/>
                  </a:lnTo>
                  <a:lnTo>
                    <a:pt x="409" y="879"/>
                  </a:lnTo>
                  <a:lnTo>
                    <a:pt x="437" y="891"/>
                  </a:lnTo>
                  <a:lnTo>
                    <a:pt x="471" y="894"/>
                  </a:lnTo>
                  <a:lnTo>
                    <a:pt x="501" y="891"/>
                  </a:lnTo>
                  <a:lnTo>
                    <a:pt x="531" y="879"/>
                  </a:lnTo>
                  <a:lnTo>
                    <a:pt x="557" y="853"/>
                  </a:lnTo>
                  <a:lnTo>
                    <a:pt x="582" y="824"/>
                  </a:lnTo>
                  <a:lnTo>
                    <a:pt x="598" y="781"/>
                  </a:lnTo>
                  <a:lnTo>
                    <a:pt x="613" y="729"/>
                  </a:lnTo>
                  <a:lnTo>
                    <a:pt x="621" y="667"/>
                  </a:lnTo>
                  <a:lnTo>
                    <a:pt x="625" y="593"/>
                  </a:lnTo>
                  <a:lnTo>
                    <a:pt x="621" y="525"/>
                  </a:lnTo>
                  <a:lnTo>
                    <a:pt x="613" y="463"/>
                  </a:lnTo>
                  <a:lnTo>
                    <a:pt x="598" y="411"/>
                  </a:lnTo>
                  <a:lnTo>
                    <a:pt x="582" y="372"/>
                  </a:lnTo>
                  <a:lnTo>
                    <a:pt x="557" y="339"/>
                  </a:lnTo>
                  <a:lnTo>
                    <a:pt x="531" y="317"/>
                  </a:lnTo>
                  <a:lnTo>
                    <a:pt x="501" y="304"/>
                  </a:lnTo>
                  <a:lnTo>
                    <a:pt x="473" y="300"/>
                  </a:lnTo>
                  <a:lnTo>
                    <a:pt x="439" y="304"/>
                  </a:lnTo>
                  <a:lnTo>
                    <a:pt x="409" y="317"/>
                  </a:lnTo>
                  <a:lnTo>
                    <a:pt x="381" y="339"/>
                  </a:lnTo>
                  <a:lnTo>
                    <a:pt x="359" y="372"/>
                  </a:lnTo>
                  <a:lnTo>
                    <a:pt x="338" y="415"/>
                  </a:lnTo>
                  <a:lnTo>
                    <a:pt x="325" y="463"/>
                  </a:lnTo>
                  <a:lnTo>
                    <a:pt x="316" y="528"/>
                  </a:lnTo>
                  <a:lnTo>
                    <a:pt x="314" y="596"/>
                  </a:lnTo>
                  <a:lnTo>
                    <a:pt x="314" y="596"/>
                  </a:lnTo>
                  <a:close/>
                  <a:moveTo>
                    <a:pt x="0" y="599"/>
                  </a:moveTo>
                  <a:lnTo>
                    <a:pt x="7" y="473"/>
                  </a:lnTo>
                  <a:lnTo>
                    <a:pt x="31" y="359"/>
                  </a:lnTo>
                  <a:lnTo>
                    <a:pt x="70" y="256"/>
                  </a:lnTo>
                  <a:lnTo>
                    <a:pt x="126" y="169"/>
                  </a:lnTo>
                  <a:lnTo>
                    <a:pt x="194" y="94"/>
                  </a:lnTo>
                  <a:lnTo>
                    <a:pt x="273" y="42"/>
                  </a:lnTo>
                  <a:lnTo>
                    <a:pt x="364" y="10"/>
                  </a:lnTo>
                  <a:lnTo>
                    <a:pt x="467" y="0"/>
                  </a:lnTo>
                  <a:lnTo>
                    <a:pt x="582" y="10"/>
                  </a:lnTo>
                  <a:lnTo>
                    <a:pt x="681" y="45"/>
                  </a:lnTo>
                  <a:lnTo>
                    <a:pt x="766" y="110"/>
                  </a:lnTo>
                  <a:lnTo>
                    <a:pt x="837" y="198"/>
                  </a:lnTo>
                  <a:lnTo>
                    <a:pt x="880" y="281"/>
                  </a:lnTo>
                  <a:lnTo>
                    <a:pt x="912" y="372"/>
                  </a:lnTo>
                  <a:lnTo>
                    <a:pt x="931" y="476"/>
                  </a:lnTo>
                  <a:lnTo>
                    <a:pt x="938" y="593"/>
                  </a:lnTo>
                  <a:lnTo>
                    <a:pt x="929" y="716"/>
                  </a:lnTo>
                  <a:lnTo>
                    <a:pt x="906" y="830"/>
                  </a:lnTo>
                  <a:lnTo>
                    <a:pt x="867" y="933"/>
                  </a:lnTo>
                  <a:lnTo>
                    <a:pt x="813" y="1024"/>
                  </a:lnTo>
                  <a:lnTo>
                    <a:pt x="744" y="1095"/>
                  </a:lnTo>
                  <a:lnTo>
                    <a:pt x="663" y="1147"/>
                  </a:lnTo>
                  <a:lnTo>
                    <a:pt x="572" y="1179"/>
                  </a:lnTo>
                  <a:lnTo>
                    <a:pt x="469" y="1192"/>
                  </a:lnTo>
                  <a:lnTo>
                    <a:pt x="374" y="1179"/>
                  </a:lnTo>
                  <a:lnTo>
                    <a:pt x="288" y="1153"/>
                  </a:lnTo>
                  <a:lnTo>
                    <a:pt x="214" y="1111"/>
                  </a:lnTo>
                  <a:lnTo>
                    <a:pt x="149" y="1049"/>
                  </a:lnTo>
                  <a:lnTo>
                    <a:pt x="83" y="959"/>
                  </a:lnTo>
                  <a:lnTo>
                    <a:pt x="37" y="853"/>
                  </a:lnTo>
                  <a:lnTo>
                    <a:pt x="9" y="732"/>
                  </a:lnTo>
                  <a:lnTo>
                    <a:pt x="0" y="5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97400" y="2079720"/>
              <a:ext cx="312840" cy="585720"/>
            </a:xfrm>
            <a:custGeom>
              <a:avLst/>
              <a:gdLst/>
              <a:ahLst/>
              <a:rect l="l" t="t" r="r" b="b"/>
              <a:pathLst>
                <a:path w="870" h="1629">
                  <a:moveTo>
                    <a:pt x="419" y="0"/>
                  </a:moveTo>
                  <a:lnTo>
                    <a:pt x="689" y="0"/>
                  </a:lnTo>
                  <a:lnTo>
                    <a:pt x="442" y="323"/>
                  </a:lnTo>
                  <a:lnTo>
                    <a:pt x="290" y="323"/>
                  </a:lnTo>
                  <a:lnTo>
                    <a:pt x="419" y="0"/>
                  </a:lnTo>
                  <a:lnTo>
                    <a:pt x="419" y="0"/>
                  </a:lnTo>
                  <a:close/>
                  <a:moveTo>
                    <a:pt x="0" y="1286"/>
                  </a:moveTo>
                  <a:lnTo>
                    <a:pt x="311" y="1244"/>
                  </a:lnTo>
                  <a:lnTo>
                    <a:pt x="320" y="1276"/>
                  </a:lnTo>
                  <a:lnTo>
                    <a:pt x="333" y="1308"/>
                  </a:lnTo>
                  <a:lnTo>
                    <a:pt x="346" y="1333"/>
                  </a:lnTo>
                  <a:lnTo>
                    <a:pt x="365" y="1356"/>
                  </a:lnTo>
                  <a:lnTo>
                    <a:pt x="384" y="1369"/>
                  </a:lnTo>
                  <a:lnTo>
                    <a:pt x="406" y="1379"/>
                  </a:lnTo>
                  <a:lnTo>
                    <a:pt x="430" y="1385"/>
                  </a:lnTo>
                  <a:lnTo>
                    <a:pt x="458" y="1388"/>
                  </a:lnTo>
                  <a:lnTo>
                    <a:pt x="487" y="1385"/>
                  </a:lnTo>
                  <a:lnTo>
                    <a:pt x="513" y="1379"/>
                  </a:lnTo>
                  <a:lnTo>
                    <a:pt x="536" y="1366"/>
                  </a:lnTo>
                  <a:lnTo>
                    <a:pt x="554" y="1353"/>
                  </a:lnTo>
                  <a:lnTo>
                    <a:pt x="566" y="1337"/>
                  </a:lnTo>
                  <a:lnTo>
                    <a:pt x="575" y="1321"/>
                  </a:lnTo>
                  <a:lnTo>
                    <a:pt x="581" y="1302"/>
                  </a:lnTo>
                  <a:lnTo>
                    <a:pt x="582" y="1282"/>
                  </a:lnTo>
                  <a:lnTo>
                    <a:pt x="579" y="1260"/>
                  </a:lnTo>
                  <a:lnTo>
                    <a:pt x="573" y="1240"/>
                  </a:lnTo>
                  <a:lnTo>
                    <a:pt x="562" y="1224"/>
                  </a:lnTo>
                  <a:lnTo>
                    <a:pt x="547" y="1211"/>
                  </a:lnTo>
                  <a:lnTo>
                    <a:pt x="528" y="1198"/>
                  </a:lnTo>
                  <a:lnTo>
                    <a:pt x="500" y="1185"/>
                  </a:lnTo>
                  <a:lnTo>
                    <a:pt x="462" y="1176"/>
                  </a:lnTo>
                  <a:lnTo>
                    <a:pt x="414" y="1163"/>
                  </a:lnTo>
                  <a:lnTo>
                    <a:pt x="337" y="1143"/>
                  </a:lnTo>
                  <a:lnTo>
                    <a:pt x="274" y="1124"/>
                  </a:lnTo>
                  <a:lnTo>
                    <a:pt x="223" y="1108"/>
                  </a:lnTo>
                  <a:lnTo>
                    <a:pt x="187" y="1091"/>
                  </a:lnTo>
                  <a:lnTo>
                    <a:pt x="155" y="1068"/>
                  </a:lnTo>
                  <a:lnTo>
                    <a:pt x="127" y="1042"/>
                  </a:lnTo>
                  <a:lnTo>
                    <a:pt x="103" y="1013"/>
                  </a:lnTo>
                  <a:lnTo>
                    <a:pt x="80" y="977"/>
                  </a:lnTo>
                  <a:lnTo>
                    <a:pt x="60" y="932"/>
                  </a:lnTo>
                  <a:lnTo>
                    <a:pt x="47" y="886"/>
                  </a:lnTo>
                  <a:lnTo>
                    <a:pt x="38" y="841"/>
                  </a:lnTo>
                  <a:lnTo>
                    <a:pt x="36" y="792"/>
                  </a:lnTo>
                  <a:lnTo>
                    <a:pt x="38" y="737"/>
                  </a:lnTo>
                  <a:lnTo>
                    <a:pt x="47" y="686"/>
                  </a:lnTo>
                  <a:lnTo>
                    <a:pt x="60" y="638"/>
                  </a:lnTo>
                  <a:lnTo>
                    <a:pt x="82" y="599"/>
                  </a:lnTo>
                  <a:lnTo>
                    <a:pt x="107" y="560"/>
                  </a:lnTo>
                  <a:lnTo>
                    <a:pt x="138" y="524"/>
                  </a:lnTo>
                  <a:lnTo>
                    <a:pt x="172" y="498"/>
                  </a:lnTo>
                  <a:lnTo>
                    <a:pt x="213" y="475"/>
                  </a:lnTo>
                  <a:lnTo>
                    <a:pt x="255" y="456"/>
                  </a:lnTo>
                  <a:lnTo>
                    <a:pt x="307" y="443"/>
                  </a:lnTo>
                  <a:lnTo>
                    <a:pt x="365" y="436"/>
                  </a:lnTo>
                  <a:lnTo>
                    <a:pt x="432" y="436"/>
                  </a:lnTo>
                  <a:lnTo>
                    <a:pt x="498" y="436"/>
                  </a:lnTo>
                  <a:lnTo>
                    <a:pt x="558" y="443"/>
                  </a:lnTo>
                  <a:lnTo>
                    <a:pt x="607" y="452"/>
                  </a:lnTo>
                  <a:lnTo>
                    <a:pt x="648" y="468"/>
                  </a:lnTo>
                  <a:lnTo>
                    <a:pt x="679" y="481"/>
                  </a:lnTo>
                  <a:lnTo>
                    <a:pt x="711" y="507"/>
                  </a:lnTo>
                  <a:lnTo>
                    <a:pt x="736" y="533"/>
                  </a:lnTo>
                  <a:lnTo>
                    <a:pt x="762" y="563"/>
                  </a:lnTo>
                  <a:lnTo>
                    <a:pt x="785" y="599"/>
                  </a:lnTo>
                  <a:lnTo>
                    <a:pt x="805" y="638"/>
                  </a:lnTo>
                  <a:lnTo>
                    <a:pt x="824" y="686"/>
                  </a:lnTo>
                  <a:lnTo>
                    <a:pt x="841" y="741"/>
                  </a:lnTo>
                  <a:lnTo>
                    <a:pt x="543" y="783"/>
                  </a:lnTo>
                  <a:lnTo>
                    <a:pt x="536" y="757"/>
                  </a:lnTo>
                  <a:lnTo>
                    <a:pt x="526" y="731"/>
                  </a:lnTo>
                  <a:lnTo>
                    <a:pt x="517" y="716"/>
                  </a:lnTo>
                  <a:lnTo>
                    <a:pt x="506" y="703"/>
                  </a:lnTo>
                  <a:lnTo>
                    <a:pt x="485" y="686"/>
                  </a:lnTo>
                  <a:lnTo>
                    <a:pt x="466" y="677"/>
                  </a:lnTo>
                  <a:lnTo>
                    <a:pt x="442" y="667"/>
                  </a:lnTo>
                  <a:lnTo>
                    <a:pt x="417" y="667"/>
                  </a:lnTo>
                  <a:lnTo>
                    <a:pt x="391" y="667"/>
                  </a:lnTo>
                  <a:lnTo>
                    <a:pt x="371" y="674"/>
                  </a:lnTo>
                  <a:lnTo>
                    <a:pt x="354" y="680"/>
                  </a:lnTo>
                  <a:lnTo>
                    <a:pt x="341" y="693"/>
                  </a:lnTo>
                  <a:lnTo>
                    <a:pt x="330" y="706"/>
                  </a:lnTo>
                  <a:lnTo>
                    <a:pt x="322" y="721"/>
                  </a:lnTo>
                  <a:lnTo>
                    <a:pt x="316" y="737"/>
                  </a:lnTo>
                  <a:lnTo>
                    <a:pt x="316" y="757"/>
                  </a:lnTo>
                  <a:lnTo>
                    <a:pt x="316" y="776"/>
                  </a:lnTo>
                  <a:lnTo>
                    <a:pt x="322" y="796"/>
                  </a:lnTo>
                  <a:lnTo>
                    <a:pt x="331" y="809"/>
                  </a:lnTo>
                  <a:lnTo>
                    <a:pt x="346" y="822"/>
                  </a:lnTo>
                  <a:lnTo>
                    <a:pt x="365" y="828"/>
                  </a:lnTo>
                  <a:lnTo>
                    <a:pt x="395" y="838"/>
                  </a:lnTo>
                  <a:lnTo>
                    <a:pt x="432" y="847"/>
                  </a:lnTo>
                  <a:lnTo>
                    <a:pt x="480" y="860"/>
                  </a:lnTo>
                  <a:lnTo>
                    <a:pt x="553" y="873"/>
                  </a:lnTo>
                  <a:lnTo>
                    <a:pt x="616" y="886"/>
                  </a:lnTo>
                  <a:lnTo>
                    <a:pt x="668" y="906"/>
                  </a:lnTo>
                  <a:lnTo>
                    <a:pt x="713" y="925"/>
                  </a:lnTo>
                  <a:lnTo>
                    <a:pt x="748" y="951"/>
                  </a:lnTo>
                  <a:lnTo>
                    <a:pt x="779" y="977"/>
                  </a:lnTo>
                  <a:lnTo>
                    <a:pt x="805" y="1013"/>
                  </a:lnTo>
                  <a:lnTo>
                    <a:pt x="830" y="1051"/>
                  </a:lnTo>
                  <a:lnTo>
                    <a:pt x="846" y="1095"/>
                  </a:lnTo>
                  <a:lnTo>
                    <a:pt x="858" y="1137"/>
                  </a:lnTo>
                  <a:lnTo>
                    <a:pt x="865" y="1185"/>
                  </a:lnTo>
                  <a:lnTo>
                    <a:pt x="869" y="1234"/>
                  </a:lnTo>
                  <a:lnTo>
                    <a:pt x="865" y="1279"/>
                  </a:lnTo>
                  <a:lnTo>
                    <a:pt x="858" y="1327"/>
                  </a:lnTo>
                  <a:lnTo>
                    <a:pt x="843" y="1375"/>
                  </a:lnTo>
                  <a:lnTo>
                    <a:pt x="826" y="1421"/>
                  </a:lnTo>
                  <a:lnTo>
                    <a:pt x="802" y="1466"/>
                  </a:lnTo>
                  <a:lnTo>
                    <a:pt x="770" y="1505"/>
                  </a:lnTo>
                  <a:lnTo>
                    <a:pt x="734" y="1537"/>
                  </a:lnTo>
                  <a:lnTo>
                    <a:pt x="693" y="1570"/>
                  </a:lnTo>
                  <a:lnTo>
                    <a:pt x="642" y="1592"/>
                  </a:lnTo>
                  <a:lnTo>
                    <a:pt x="582" y="1609"/>
                  </a:lnTo>
                  <a:lnTo>
                    <a:pt x="515" y="1622"/>
                  </a:lnTo>
                  <a:lnTo>
                    <a:pt x="442" y="1628"/>
                  </a:lnTo>
                  <a:lnTo>
                    <a:pt x="337" y="1618"/>
                  </a:lnTo>
                  <a:lnTo>
                    <a:pt x="249" y="1602"/>
                  </a:lnTo>
                  <a:lnTo>
                    <a:pt x="178" y="1576"/>
                  </a:lnTo>
                  <a:lnTo>
                    <a:pt x="123" y="1537"/>
                  </a:lnTo>
                  <a:lnTo>
                    <a:pt x="79" y="1485"/>
                  </a:lnTo>
                  <a:lnTo>
                    <a:pt x="43" y="1427"/>
                  </a:lnTo>
                  <a:lnTo>
                    <a:pt x="17" y="1359"/>
                  </a:lnTo>
                  <a:lnTo>
                    <a:pt x="0" y="1286"/>
                  </a:lnTo>
                  <a:lnTo>
                    <a:pt x="0" y="1286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49840" y="2079720"/>
              <a:ext cx="339840" cy="585720"/>
            </a:xfrm>
            <a:custGeom>
              <a:avLst/>
              <a:gdLst/>
              <a:ahLst/>
              <a:rect l="l" t="t" r="r" b="b"/>
              <a:pathLst>
                <a:path w="944" h="1629">
                  <a:moveTo>
                    <a:pt x="531" y="0"/>
                  </a:moveTo>
                  <a:lnTo>
                    <a:pt x="801" y="0"/>
                  </a:lnTo>
                  <a:lnTo>
                    <a:pt x="554" y="323"/>
                  </a:lnTo>
                  <a:lnTo>
                    <a:pt x="405" y="323"/>
                  </a:lnTo>
                  <a:lnTo>
                    <a:pt x="531" y="0"/>
                  </a:lnTo>
                  <a:lnTo>
                    <a:pt x="531" y="0"/>
                  </a:lnTo>
                  <a:close/>
                  <a:moveTo>
                    <a:pt x="645" y="1156"/>
                  </a:moveTo>
                  <a:lnTo>
                    <a:pt x="943" y="1201"/>
                  </a:lnTo>
                  <a:lnTo>
                    <a:pt x="928" y="1263"/>
                  </a:lnTo>
                  <a:lnTo>
                    <a:pt x="909" y="1321"/>
                  </a:lnTo>
                  <a:lnTo>
                    <a:pt x="887" y="1375"/>
                  </a:lnTo>
                  <a:lnTo>
                    <a:pt x="863" y="1424"/>
                  </a:lnTo>
                  <a:lnTo>
                    <a:pt x="831" y="1469"/>
                  </a:lnTo>
                  <a:lnTo>
                    <a:pt x="796" y="1511"/>
                  </a:lnTo>
                  <a:lnTo>
                    <a:pt x="759" y="1544"/>
                  </a:lnTo>
                  <a:lnTo>
                    <a:pt x="718" y="1573"/>
                  </a:lnTo>
                  <a:lnTo>
                    <a:pt x="671" y="1592"/>
                  </a:lnTo>
                  <a:lnTo>
                    <a:pt x="617" y="1612"/>
                  </a:lnTo>
                  <a:lnTo>
                    <a:pt x="559" y="1622"/>
                  </a:lnTo>
                  <a:lnTo>
                    <a:pt x="497" y="1628"/>
                  </a:lnTo>
                  <a:lnTo>
                    <a:pt x="435" y="1622"/>
                  </a:lnTo>
                  <a:lnTo>
                    <a:pt x="379" y="1615"/>
                  </a:lnTo>
                  <a:lnTo>
                    <a:pt x="326" y="1605"/>
                  </a:lnTo>
                  <a:lnTo>
                    <a:pt x="282" y="1592"/>
                  </a:lnTo>
                  <a:lnTo>
                    <a:pt x="240" y="1573"/>
                  </a:lnTo>
                  <a:lnTo>
                    <a:pt x="200" y="1547"/>
                  </a:lnTo>
                  <a:lnTo>
                    <a:pt x="165" y="1518"/>
                  </a:lnTo>
                  <a:lnTo>
                    <a:pt x="133" y="1485"/>
                  </a:lnTo>
                  <a:lnTo>
                    <a:pt x="101" y="1447"/>
                  </a:lnTo>
                  <a:lnTo>
                    <a:pt x="75" y="1401"/>
                  </a:lnTo>
                  <a:lnTo>
                    <a:pt x="53" y="1356"/>
                  </a:lnTo>
                  <a:lnTo>
                    <a:pt x="34" y="1305"/>
                  </a:lnTo>
                  <a:lnTo>
                    <a:pt x="17" y="1250"/>
                  </a:lnTo>
                  <a:lnTo>
                    <a:pt x="6" y="1185"/>
                  </a:lnTo>
                  <a:lnTo>
                    <a:pt x="1" y="1114"/>
                  </a:lnTo>
                  <a:lnTo>
                    <a:pt x="0" y="1035"/>
                  </a:lnTo>
                  <a:lnTo>
                    <a:pt x="1" y="951"/>
                  </a:lnTo>
                  <a:lnTo>
                    <a:pt x="8" y="873"/>
                  </a:lnTo>
                  <a:lnTo>
                    <a:pt x="23" y="805"/>
                  </a:lnTo>
                  <a:lnTo>
                    <a:pt x="42" y="744"/>
                  </a:lnTo>
                  <a:lnTo>
                    <a:pt x="59" y="703"/>
                  </a:lnTo>
                  <a:lnTo>
                    <a:pt x="79" y="664"/>
                  </a:lnTo>
                  <a:lnTo>
                    <a:pt x="101" y="625"/>
                  </a:lnTo>
                  <a:lnTo>
                    <a:pt x="129" y="589"/>
                  </a:lnTo>
                  <a:lnTo>
                    <a:pt x="156" y="560"/>
                  </a:lnTo>
                  <a:lnTo>
                    <a:pt x="184" y="530"/>
                  </a:lnTo>
                  <a:lnTo>
                    <a:pt x="212" y="507"/>
                  </a:lnTo>
                  <a:lnTo>
                    <a:pt x="241" y="488"/>
                  </a:lnTo>
                  <a:lnTo>
                    <a:pt x="289" y="465"/>
                  </a:lnTo>
                  <a:lnTo>
                    <a:pt x="345" y="449"/>
                  </a:lnTo>
                  <a:lnTo>
                    <a:pt x="407" y="439"/>
                  </a:lnTo>
                  <a:lnTo>
                    <a:pt x="476" y="436"/>
                  </a:lnTo>
                  <a:lnTo>
                    <a:pt x="567" y="443"/>
                  </a:lnTo>
                  <a:lnTo>
                    <a:pt x="649" y="459"/>
                  </a:lnTo>
                  <a:lnTo>
                    <a:pt x="720" y="491"/>
                  </a:lnTo>
                  <a:lnTo>
                    <a:pt x="779" y="533"/>
                  </a:lnTo>
                  <a:lnTo>
                    <a:pt x="825" y="589"/>
                  </a:lnTo>
                  <a:lnTo>
                    <a:pt x="866" y="657"/>
                  </a:lnTo>
                  <a:lnTo>
                    <a:pt x="900" y="737"/>
                  </a:lnTo>
                  <a:lnTo>
                    <a:pt x="926" y="828"/>
                  </a:lnTo>
                  <a:lnTo>
                    <a:pt x="632" y="883"/>
                  </a:lnTo>
                  <a:lnTo>
                    <a:pt x="623" y="847"/>
                  </a:lnTo>
                  <a:lnTo>
                    <a:pt x="612" y="818"/>
                  </a:lnTo>
                  <a:lnTo>
                    <a:pt x="599" y="792"/>
                  </a:lnTo>
                  <a:lnTo>
                    <a:pt x="582" y="770"/>
                  </a:lnTo>
                  <a:lnTo>
                    <a:pt x="561" y="757"/>
                  </a:lnTo>
                  <a:lnTo>
                    <a:pt x="537" y="744"/>
                  </a:lnTo>
                  <a:lnTo>
                    <a:pt x="511" y="734"/>
                  </a:lnTo>
                  <a:lnTo>
                    <a:pt x="484" y="734"/>
                  </a:lnTo>
                  <a:lnTo>
                    <a:pt x="448" y="737"/>
                  </a:lnTo>
                  <a:lnTo>
                    <a:pt x="414" y="754"/>
                  </a:lnTo>
                  <a:lnTo>
                    <a:pt x="384" y="776"/>
                  </a:lnTo>
                  <a:lnTo>
                    <a:pt x="360" y="812"/>
                  </a:lnTo>
                  <a:lnTo>
                    <a:pt x="338" y="854"/>
                  </a:lnTo>
                  <a:lnTo>
                    <a:pt x="323" y="909"/>
                  </a:lnTo>
                  <a:lnTo>
                    <a:pt x="313" y="971"/>
                  </a:lnTo>
                  <a:lnTo>
                    <a:pt x="311" y="1045"/>
                  </a:lnTo>
                  <a:lnTo>
                    <a:pt x="313" y="1111"/>
                  </a:lnTo>
                  <a:lnTo>
                    <a:pt x="323" y="1169"/>
                  </a:lnTo>
                  <a:lnTo>
                    <a:pt x="338" y="1218"/>
                  </a:lnTo>
                  <a:lnTo>
                    <a:pt x="360" y="1260"/>
                  </a:lnTo>
                  <a:lnTo>
                    <a:pt x="384" y="1289"/>
                  </a:lnTo>
                  <a:lnTo>
                    <a:pt x="412" y="1315"/>
                  </a:lnTo>
                  <a:lnTo>
                    <a:pt x="444" y="1327"/>
                  </a:lnTo>
                  <a:lnTo>
                    <a:pt x="481" y="1330"/>
                  </a:lnTo>
                  <a:lnTo>
                    <a:pt x="508" y="1327"/>
                  </a:lnTo>
                  <a:lnTo>
                    <a:pt x="535" y="1318"/>
                  </a:lnTo>
                  <a:lnTo>
                    <a:pt x="561" y="1305"/>
                  </a:lnTo>
                  <a:lnTo>
                    <a:pt x="584" y="1289"/>
                  </a:lnTo>
                  <a:lnTo>
                    <a:pt x="602" y="1263"/>
                  </a:lnTo>
                  <a:lnTo>
                    <a:pt x="619" y="1234"/>
                  </a:lnTo>
                  <a:lnTo>
                    <a:pt x="634" y="1198"/>
                  </a:lnTo>
                  <a:lnTo>
                    <a:pt x="645" y="1156"/>
                  </a:lnTo>
                  <a:lnTo>
                    <a:pt x="645" y="1156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0880" y="2236680"/>
              <a:ext cx="498600" cy="419040"/>
            </a:xfrm>
            <a:custGeom>
              <a:avLst/>
              <a:gdLst/>
              <a:ahLst/>
              <a:rect l="l" t="t" r="r" b="b"/>
              <a:pathLst>
                <a:path w="1385" h="1166">
                  <a:moveTo>
                    <a:pt x="0" y="26"/>
                  </a:moveTo>
                  <a:lnTo>
                    <a:pt x="292" y="26"/>
                  </a:lnTo>
                  <a:lnTo>
                    <a:pt x="292" y="191"/>
                  </a:lnTo>
                  <a:lnTo>
                    <a:pt x="324" y="143"/>
                  </a:lnTo>
                  <a:lnTo>
                    <a:pt x="355" y="101"/>
                  </a:lnTo>
                  <a:lnTo>
                    <a:pt x="387" y="68"/>
                  </a:lnTo>
                  <a:lnTo>
                    <a:pt x="421" y="45"/>
                  </a:lnTo>
                  <a:lnTo>
                    <a:pt x="453" y="23"/>
                  </a:lnTo>
                  <a:lnTo>
                    <a:pt x="489" y="10"/>
                  </a:lnTo>
                  <a:lnTo>
                    <a:pt x="530" y="3"/>
                  </a:lnTo>
                  <a:lnTo>
                    <a:pt x="575" y="0"/>
                  </a:lnTo>
                  <a:lnTo>
                    <a:pt x="619" y="3"/>
                  </a:lnTo>
                  <a:lnTo>
                    <a:pt x="662" y="10"/>
                  </a:lnTo>
                  <a:lnTo>
                    <a:pt x="697" y="26"/>
                  </a:lnTo>
                  <a:lnTo>
                    <a:pt x="729" y="45"/>
                  </a:lnTo>
                  <a:lnTo>
                    <a:pt x="756" y="71"/>
                  </a:lnTo>
                  <a:lnTo>
                    <a:pt x="780" y="107"/>
                  </a:lnTo>
                  <a:lnTo>
                    <a:pt x="802" y="146"/>
                  </a:lnTo>
                  <a:lnTo>
                    <a:pt x="823" y="191"/>
                  </a:lnTo>
                  <a:lnTo>
                    <a:pt x="858" y="139"/>
                  </a:lnTo>
                  <a:lnTo>
                    <a:pt x="892" y="97"/>
                  </a:lnTo>
                  <a:lnTo>
                    <a:pt x="925" y="62"/>
                  </a:lnTo>
                  <a:lnTo>
                    <a:pt x="956" y="39"/>
                  </a:lnTo>
                  <a:lnTo>
                    <a:pt x="986" y="20"/>
                  </a:lnTo>
                  <a:lnTo>
                    <a:pt x="1021" y="7"/>
                  </a:lnTo>
                  <a:lnTo>
                    <a:pt x="1061" y="0"/>
                  </a:lnTo>
                  <a:lnTo>
                    <a:pt x="1105" y="0"/>
                  </a:lnTo>
                  <a:lnTo>
                    <a:pt x="1167" y="7"/>
                  </a:lnTo>
                  <a:lnTo>
                    <a:pt x="1222" y="26"/>
                  </a:lnTo>
                  <a:lnTo>
                    <a:pt x="1269" y="58"/>
                  </a:lnTo>
                  <a:lnTo>
                    <a:pt x="1312" y="110"/>
                  </a:lnTo>
                  <a:lnTo>
                    <a:pt x="1343" y="169"/>
                  </a:lnTo>
                  <a:lnTo>
                    <a:pt x="1366" y="246"/>
                  </a:lnTo>
                  <a:lnTo>
                    <a:pt x="1379" y="339"/>
                  </a:lnTo>
                  <a:lnTo>
                    <a:pt x="1384" y="449"/>
                  </a:lnTo>
                  <a:lnTo>
                    <a:pt x="1384" y="1165"/>
                  </a:lnTo>
                  <a:lnTo>
                    <a:pt x="1070" y="1165"/>
                  </a:lnTo>
                  <a:lnTo>
                    <a:pt x="1070" y="514"/>
                  </a:lnTo>
                  <a:lnTo>
                    <a:pt x="1068" y="475"/>
                  </a:lnTo>
                  <a:lnTo>
                    <a:pt x="1064" y="443"/>
                  </a:lnTo>
                  <a:lnTo>
                    <a:pt x="1057" y="417"/>
                  </a:lnTo>
                  <a:lnTo>
                    <a:pt x="1049" y="397"/>
                  </a:lnTo>
                  <a:lnTo>
                    <a:pt x="1033" y="372"/>
                  </a:lnTo>
                  <a:lnTo>
                    <a:pt x="1014" y="352"/>
                  </a:lnTo>
                  <a:lnTo>
                    <a:pt x="993" y="342"/>
                  </a:lnTo>
                  <a:lnTo>
                    <a:pt x="971" y="339"/>
                  </a:lnTo>
                  <a:lnTo>
                    <a:pt x="943" y="342"/>
                  </a:lnTo>
                  <a:lnTo>
                    <a:pt x="922" y="352"/>
                  </a:lnTo>
                  <a:lnTo>
                    <a:pt x="899" y="368"/>
                  </a:lnTo>
                  <a:lnTo>
                    <a:pt x="882" y="394"/>
                  </a:lnTo>
                  <a:lnTo>
                    <a:pt x="868" y="423"/>
                  </a:lnTo>
                  <a:lnTo>
                    <a:pt x="856" y="465"/>
                  </a:lnTo>
                  <a:lnTo>
                    <a:pt x="851" y="514"/>
                  </a:lnTo>
                  <a:lnTo>
                    <a:pt x="849" y="576"/>
                  </a:lnTo>
                  <a:lnTo>
                    <a:pt x="849" y="1165"/>
                  </a:lnTo>
                  <a:lnTo>
                    <a:pt x="535" y="1165"/>
                  </a:lnTo>
                  <a:lnTo>
                    <a:pt x="535" y="537"/>
                  </a:lnTo>
                  <a:lnTo>
                    <a:pt x="534" y="501"/>
                  </a:lnTo>
                  <a:lnTo>
                    <a:pt x="534" y="475"/>
                  </a:lnTo>
                  <a:lnTo>
                    <a:pt x="532" y="449"/>
                  </a:lnTo>
                  <a:lnTo>
                    <a:pt x="530" y="436"/>
                  </a:lnTo>
                  <a:lnTo>
                    <a:pt x="522" y="414"/>
                  </a:lnTo>
                  <a:lnTo>
                    <a:pt x="515" y="397"/>
                  </a:lnTo>
                  <a:lnTo>
                    <a:pt x="506" y="378"/>
                  </a:lnTo>
                  <a:lnTo>
                    <a:pt x="494" y="365"/>
                  </a:lnTo>
                  <a:lnTo>
                    <a:pt x="481" y="352"/>
                  </a:lnTo>
                  <a:lnTo>
                    <a:pt x="466" y="346"/>
                  </a:lnTo>
                  <a:lnTo>
                    <a:pt x="451" y="339"/>
                  </a:lnTo>
                  <a:lnTo>
                    <a:pt x="437" y="339"/>
                  </a:lnTo>
                  <a:lnTo>
                    <a:pt x="411" y="342"/>
                  </a:lnTo>
                  <a:lnTo>
                    <a:pt x="387" y="352"/>
                  </a:lnTo>
                  <a:lnTo>
                    <a:pt x="367" y="372"/>
                  </a:lnTo>
                  <a:lnTo>
                    <a:pt x="350" y="397"/>
                  </a:lnTo>
                  <a:lnTo>
                    <a:pt x="333" y="427"/>
                  </a:lnTo>
                  <a:lnTo>
                    <a:pt x="322" y="472"/>
                  </a:lnTo>
                  <a:lnTo>
                    <a:pt x="316" y="521"/>
                  </a:lnTo>
                  <a:lnTo>
                    <a:pt x="314" y="582"/>
                  </a:lnTo>
                  <a:lnTo>
                    <a:pt x="314" y="1165"/>
                  </a:lnTo>
                  <a:lnTo>
                    <a:pt x="0" y="1165"/>
                  </a:lnTo>
                  <a:lnTo>
                    <a:pt x="0" y="26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83120" y="2236680"/>
              <a:ext cx="338400" cy="430200"/>
            </a:xfrm>
            <a:custGeom>
              <a:avLst/>
              <a:gdLst/>
              <a:ahLst/>
              <a:rect l="l" t="t" r="r" b="b"/>
              <a:pathLst>
                <a:path w="940" h="1193">
                  <a:moveTo>
                    <a:pt x="314" y="596"/>
                  </a:moveTo>
                  <a:lnTo>
                    <a:pt x="316" y="667"/>
                  </a:lnTo>
                  <a:lnTo>
                    <a:pt x="325" y="729"/>
                  </a:lnTo>
                  <a:lnTo>
                    <a:pt x="338" y="777"/>
                  </a:lnTo>
                  <a:lnTo>
                    <a:pt x="359" y="824"/>
                  </a:lnTo>
                  <a:lnTo>
                    <a:pt x="381" y="853"/>
                  </a:lnTo>
                  <a:lnTo>
                    <a:pt x="409" y="879"/>
                  </a:lnTo>
                  <a:lnTo>
                    <a:pt x="436" y="891"/>
                  </a:lnTo>
                  <a:lnTo>
                    <a:pt x="470" y="894"/>
                  </a:lnTo>
                  <a:lnTo>
                    <a:pt x="502" y="891"/>
                  </a:lnTo>
                  <a:lnTo>
                    <a:pt x="532" y="879"/>
                  </a:lnTo>
                  <a:lnTo>
                    <a:pt x="558" y="853"/>
                  </a:lnTo>
                  <a:lnTo>
                    <a:pt x="582" y="824"/>
                  </a:lnTo>
                  <a:lnTo>
                    <a:pt x="599" y="781"/>
                  </a:lnTo>
                  <a:lnTo>
                    <a:pt x="614" y="729"/>
                  </a:lnTo>
                  <a:lnTo>
                    <a:pt x="621" y="667"/>
                  </a:lnTo>
                  <a:lnTo>
                    <a:pt x="625" y="593"/>
                  </a:lnTo>
                  <a:lnTo>
                    <a:pt x="621" y="525"/>
                  </a:lnTo>
                  <a:lnTo>
                    <a:pt x="614" y="463"/>
                  </a:lnTo>
                  <a:lnTo>
                    <a:pt x="599" y="411"/>
                  </a:lnTo>
                  <a:lnTo>
                    <a:pt x="582" y="372"/>
                  </a:lnTo>
                  <a:lnTo>
                    <a:pt x="558" y="339"/>
                  </a:lnTo>
                  <a:lnTo>
                    <a:pt x="532" y="317"/>
                  </a:lnTo>
                  <a:lnTo>
                    <a:pt x="502" y="304"/>
                  </a:lnTo>
                  <a:lnTo>
                    <a:pt x="472" y="300"/>
                  </a:lnTo>
                  <a:lnTo>
                    <a:pt x="438" y="304"/>
                  </a:lnTo>
                  <a:lnTo>
                    <a:pt x="409" y="317"/>
                  </a:lnTo>
                  <a:lnTo>
                    <a:pt x="381" y="339"/>
                  </a:lnTo>
                  <a:lnTo>
                    <a:pt x="359" y="372"/>
                  </a:lnTo>
                  <a:lnTo>
                    <a:pt x="338" y="415"/>
                  </a:lnTo>
                  <a:lnTo>
                    <a:pt x="325" y="463"/>
                  </a:lnTo>
                  <a:lnTo>
                    <a:pt x="316" y="528"/>
                  </a:lnTo>
                  <a:lnTo>
                    <a:pt x="314" y="596"/>
                  </a:lnTo>
                  <a:lnTo>
                    <a:pt x="314" y="596"/>
                  </a:lnTo>
                  <a:close/>
                  <a:moveTo>
                    <a:pt x="0" y="599"/>
                  </a:moveTo>
                  <a:lnTo>
                    <a:pt x="7" y="473"/>
                  </a:lnTo>
                  <a:lnTo>
                    <a:pt x="31" y="359"/>
                  </a:lnTo>
                  <a:lnTo>
                    <a:pt x="71" y="256"/>
                  </a:lnTo>
                  <a:lnTo>
                    <a:pt x="127" y="169"/>
                  </a:lnTo>
                  <a:lnTo>
                    <a:pt x="193" y="94"/>
                  </a:lnTo>
                  <a:lnTo>
                    <a:pt x="273" y="42"/>
                  </a:lnTo>
                  <a:lnTo>
                    <a:pt x="365" y="10"/>
                  </a:lnTo>
                  <a:lnTo>
                    <a:pt x="466" y="0"/>
                  </a:lnTo>
                  <a:lnTo>
                    <a:pt x="582" y="10"/>
                  </a:lnTo>
                  <a:lnTo>
                    <a:pt x="683" y="45"/>
                  </a:lnTo>
                  <a:lnTo>
                    <a:pt x="768" y="110"/>
                  </a:lnTo>
                  <a:lnTo>
                    <a:pt x="839" y="198"/>
                  </a:lnTo>
                  <a:lnTo>
                    <a:pt x="881" y="281"/>
                  </a:lnTo>
                  <a:lnTo>
                    <a:pt x="913" y="372"/>
                  </a:lnTo>
                  <a:lnTo>
                    <a:pt x="932" y="476"/>
                  </a:lnTo>
                  <a:lnTo>
                    <a:pt x="939" y="593"/>
                  </a:lnTo>
                  <a:lnTo>
                    <a:pt x="930" y="716"/>
                  </a:lnTo>
                  <a:lnTo>
                    <a:pt x="908" y="830"/>
                  </a:lnTo>
                  <a:lnTo>
                    <a:pt x="868" y="933"/>
                  </a:lnTo>
                  <a:lnTo>
                    <a:pt x="814" y="1024"/>
                  </a:lnTo>
                  <a:lnTo>
                    <a:pt x="745" y="1095"/>
                  </a:lnTo>
                  <a:lnTo>
                    <a:pt x="664" y="1147"/>
                  </a:lnTo>
                  <a:lnTo>
                    <a:pt x="573" y="1179"/>
                  </a:lnTo>
                  <a:lnTo>
                    <a:pt x="468" y="1192"/>
                  </a:lnTo>
                  <a:lnTo>
                    <a:pt x="374" y="1179"/>
                  </a:lnTo>
                  <a:lnTo>
                    <a:pt x="288" y="1153"/>
                  </a:lnTo>
                  <a:lnTo>
                    <a:pt x="213" y="1111"/>
                  </a:lnTo>
                  <a:lnTo>
                    <a:pt x="149" y="1049"/>
                  </a:lnTo>
                  <a:lnTo>
                    <a:pt x="84" y="959"/>
                  </a:lnTo>
                  <a:lnTo>
                    <a:pt x="37" y="853"/>
                  </a:lnTo>
                  <a:lnTo>
                    <a:pt x="9" y="732"/>
                  </a:lnTo>
                  <a:lnTo>
                    <a:pt x="0" y="5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61120" y="2089080"/>
              <a:ext cx="324000" cy="574920"/>
            </a:xfrm>
            <a:custGeom>
              <a:avLst/>
              <a:gdLst/>
              <a:ahLst/>
              <a:rect l="l" t="t" r="r" b="b"/>
              <a:pathLst>
                <a:path w="900" h="1598">
                  <a:moveTo>
                    <a:pt x="584" y="999"/>
                  </a:moveTo>
                  <a:lnTo>
                    <a:pt x="581" y="934"/>
                  </a:lnTo>
                  <a:lnTo>
                    <a:pt x="573" y="882"/>
                  </a:lnTo>
                  <a:lnTo>
                    <a:pt x="560" y="834"/>
                  </a:lnTo>
                  <a:lnTo>
                    <a:pt x="543" y="798"/>
                  </a:lnTo>
                  <a:lnTo>
                    <a:pt x="521" y="766"/>
                  </a:lnTo>
                  <a:lnTo>
                    <a:pt x="497" y="749"/>
                  </a:lnTo>
                  <a:lnTo>
                    <a:pt x="469" y="736"/>
                  </a:lnTo>
                  <a:lnTo>
                    <a:pt x="441" y="733"/>
                  </a:lnTo>
                  <a:lnTo>
                    <a:pt x="415" y="736"/>
                  </a:lnTo>
                  <a:lnTo>
                    <a:pt x="391" y="749"/>
                  </a:lnTo>
                  <a:lnTo>
                    <a:pt x="369" y="766"/>
                  </a:lnTo>
                  <a:lnTo>
                    <a:pt x="350" y="795"/>
                  </a:lnTo>
                  <a:lnTo>
                    <a:pt x="333" y="830"/>
                  </a:lnTo>
                  <a:lnTo>
                    <a:pt x="322" y="882"/>
                  </a:lnTo>
                  <a:lnTo>
                    <a:pt x="315" y="937"/>
                  </a:lnTo>
                  <a:lnTo>
                    <a:pt x="313" y="1009"/>
                  </a:lnTo>
                  <a:lnTo>
                    <a:pt x="315" y="1073"/>
                  </a:lnTo>
                  <a:lnTo>
                    <a:pt x="322" y="1128"/>
                  </a:lnTo>
                  <a:lnTo>
                    <a:pt x="333" y="1174"/>
                  </a:lnTo>
                  <a:lnTo>
                    <a:pt x="352" y="1213"/>
                  </a:lnTo>
                  <a:lnTo>
                    <a:pt x="371" y="1242"/>
                  </a:lnTo>
                  <a:lnTo>
                    <a:pt x="393" y="1258"/>
                  </a:lnTo>
                  <a:lnTo>
                    <a:pt x="416" y="1271"/>
                  </a:lnTo>
                  <a:lnTo>
                    <a:pt x="444" y="1277"/>
                  </a:lnTo>
                  <a:lnTo>
                    <a:pt x="472" y="1271"/>
                  </a:lnTo>
                  <a:lnTo>
                    <a:pt x="499" y="1258"/>
                  </a:lnTo>
                  <a:lnTo>
                    <a:pt x="523" y="1242"/>
                  </a:lnTo>
                  <a:lnTo>
                    <a:pt x="545" y="1213"/>
                  </a:lnTo>
                  <a:lnTo>
                    <a:pt x="562" y="1174"/>
                  </a:lnTo>
                  <a:lnTo>
                    <a:pt x="573" y="1125"/>
                  </a:lnTo>
                  <a:lnTo>
                    <a:pt x="581" y="1067"/>
                  </a:lnTo>
                  <a:lnTo>
                    <a:pt x="584" y="999"/>
                  </a:lnTo>
                  <a:lnTo>
                    <a:pt x="584" y="999"/>
                  </a:lnTo>
                  <a:close/>
                  <a:moveTo>
                    <a:pt x="899" y="0"/>
                  </a:moveTo>
                  <a:lnTo>
                    <a:pt x="899" y="1571"/>
                  </a:lnTo>
                  <a:lnTo>
                    <a:pt x="605" y="1571"/>
                  </a:lnTo>
                  <a:lnTo>
                    <a:pt x="605" y="1403"/>
                  </a:lnTo>
                  <a:lnTo>
                    <a:pt x="573" y="1451"/>
                  </a:lnTo>
                  <a:lnTo>
                    <a:pt x="545" y="1493"/>
                  </a:lnTo>
                  <a:lnTo>
                    <a:pt x="517" y="1523"/>
                  </a:lnTo>
                  <a:lnTo>
                    <a:pt x="493" y="1545"/>
                  </a:lnTo>
                  <a:lnTo>
                    <a:pt x="457" y="1565"/>
                  </a:lnTo>
                  <a:lnTo>
                    <a:pt x="420" y="1581"/>
                  </a:lnTo>
                  <a:lnTo>
                    <a:pt x="382" y="1591"/>
                  </a:lnTo>
                  <a:lnTo>
                    <a:pt x="343" y="1597"/>
                  </a:lnTo>
                  <a:lnTo>
                    <a:pt x="264" y="1584"/>
                  </a:lnTo>
                  <a:lnTo>
                    <a:pt x="195" y="1548"/>
                  </a:lnTo>
                  <a:lnTo>
                    <a:pt x="138" y="1493"/>
                  </a:lnTo>
                  <a:lnTo>
                    <a:pt x="90" y="1419"/>
                  </a:lnTo>
                  <a:lnTo>
                    <a:pt x="51" y="1325"/>
                  </a:lnTo>
                  <a:lnTo>
                    <a:pt x="23" y="1222"/>
                  </a:lnTo>
                  <a:lnTo>
                    <a:pt x="6" y="1112"/>
                  </a:lnTo>
                  <a:lnTo>
                    <a:pt x="0" y="989"/>
                  </a:lnTo>
                  <a:lnTo>
                    <a:pt x="6" y="856"/>
                  </a:lnTo>
                  <a:lnTo>
                    <a:pt x="23" y="740"/>
                  </a:lnTo>
                  <a:lnTo>
                    <a:pt x="54" y="640"/>
                  </a:lnTo>
                  <a:lnTo>
                    <a:pt x="97" y="556"/>
                  </a:lnTo>
                  <a:lnTo>
                    <a:pt x="147" y="491"/>
                  </a:lnTo>
                  <a:lnTo>
                    <a:pt x="206" y="443"/>
                  </a:lnTo>
                  <a:lnTo>
                    <a:pt x="272" y="414"/>
                  </a:lnTo>
                  <a:lnTo>
                    <a:pt x="345" y="407"/>
                  </a:lnTo>
                  <a:lnTo>
                    <a:pt x="380" y="407"/>
                  </a:lnTo>
                  <a:lnTo>
                    <a:pt x="413" y="414"/>
                  </a:lnTo>
                  <a:lnTo>
                    <a:pt x="444" y="427"/>
                  </a:lnTo>
                  <a:lnTo>
                    <a:pt x="476" y="439"/>
                  </a:lnTo>
                  <a:lnTo>
                    <a:pt x="504" y="459"/>
                  </a:lnTo>
                  <a:lnTo>
                    <a:pt x="532" y="485"/>
                  </a:lnTo>
                  <a:lnTo>
                    <a:pt x="556" y="511"/>
                  </a:lnTo>
                  <a:lnTo>
                    <a:pt x="582" y="543"/>
                  </a:lnTo>
                  <a:lnTo>
                    <a:pt x="582" y="0"/>
                  </a:lnTo>
                  <a:lnTo>
                    <a:pt x="899" y="0"/>
                  </a:lnTo>
                  <a:lnTo>
                    <a:pt x="899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38760" y="2236680"/>
              <a:ext cx="338400" cy="430200"/>
            </a:xfrm>
            <a:custGeom>
              <a:avLst/>
              <a:gdLst/>
              <a:ahLst/>
              <a:rect l="l" t="t" r="r" b="b"/>
              <a:pathLst>
                <a:path w="939" h="1193">
                  <a:moveTo>
                    <a:pt x="594" y="625"/>
                  </a:moveTo>
                  <a:lnTo>
                    <a:pt x="561" y="638"/>
                  </a:lnTo>
                  <a:lnTo>
                    <a:pt x="527" y="654"/>
                  </a:lnTo>
                  <a:lnTo>
                    <a:pt x="493" y="667"/>
                  </a:lnTo>
                  <a:lnTo>
                    <a:pt x="460" y="683"/>
                  </a:lnTo>
                  <a:lnTo>
                    <a:pt x="415" y="696"/>
                  </a:lnTo>
                  <a:lnTo>
                    <a:pt x="381" y="716"/>
                  </a:lnTo>
                  <a:lnTo>
                    <a:pt x="356" y="735"/>
                  </a:lnTo>
                  <a:lnTo>
                    <a:pt x="339" y="752"/>
                  </a:lnTo>
                  <a:lnTo>
                    <a:pt x="328" y="768"/>
                  </a:lnTo>
                  <a:lnTo>
                    <a:pt x="319" y="787"/>
                  </a:lnTo>
                  <a:lnTo>
                    <a:pt x="313" y="811"/>
                  </a:lnTo>
                  <a:lnTo>
                    <a:pt x="313" y="833"/>
                  </a:lnTo>
                  <a:lnTo>
                    <a:pt x="313" y="856"/>
                  </a:lnTo>
                  <a:lnTo>
                    <a:pt x="319" y="879"/>
                  </a:lnTo>
                  <a:lnTo>
                    <a:pt x="328" y="897"/>
                  </a:lnTo>
                  <a:lnTo>
                    <a:pt x="339" y="917"/>
                  </a:lnTo>
                  <a:lnTo>
                    <a:pt x="352" y="930"/>
                  </a:lnTo>
                  <a:lnTo>
                    <a:pt x="371" y="939"/>
                  </a:lnTo>
                  <a:lnTo>
                    <a:pt x="389" y="946"/>
                  </a:lnTo>
                  <a:lnTo>
                    <a:pt x="413" y="949"/>
                  </a:lnTo>
                  <a:lnTo>
                    <a:pt x="439" y="946"/>
                  </a:lnTo>
                  <a:lnTo>
                    <a:pt x="463" y="939"/>
                  </a:lnTo>
                  <a:lnTo>
                    <a:pt x="488" y="926"/>
                  </a:lnTo>
                  <a:lnTo>
                    <a:pt x="512" y="913"/>
                  </a:lnTo>
                  <a:lnTo>
                    <a:pt x="533" y="891"/>
                  </a:lnTo>
                  <a:lnTo>
                    <a:pt x="549" y="876"/>
                  </a:lnTo>
                  <a:lnTo>
                    <a:pt x="562" y="853"/>
                  </a:lnTo>
                  <a:lnTo>
                    <a:pt x="575" y="827"/>
                  </a:lnTo>
                  <a:lnTo>
                    <a:pt x="583" y="801"/>
                  </a:lnTo>
                  <a:lnTo>
                    <a:pt x="589" y="768"/>
                  </a:lnTo>
                  <a:lnTo>
                    <a:pt x="592" y="735"/>
                  </a:lnTo>
                  <a:lnTo>
                    <a:pt x="594" y="696"/>
                  </a:lnTo>
                  <a:lnTo>
                    <a:pt x="594" y="625"/>
                  </a:lnTo>
                  <a:lnTo>
                    <a:pt x="594" y="625"/>
                  </a:lnTo>
                  <a:close/>
                  <a:moveTo>
                    <a:pt x="323" y="394"/>
                  </a:moveTo>
                  <a:lnTo>
                    <a:pt x="23" y="349"/>
                  </a:lnTo>
                  <a:lnTo>
                    <a:pt x="32" y="297"/>
                  </a:lnTo>
                  <a:lnTo>
                    <a:pt x="44" y="253"/>
                  </a:lnTo>
                  <a:lnTo>
                    <a:pt x="57" y="214"/>
                  </a:lnTo>
                  <a:lnTo>
                    <a:pt x="72" y="178"/>
                  </a:lnTo>
                  <a:lnTo>
                    <a:pt x="88" y="149"/>
                  </a:lnTo>
                  <a:lnTo>
                    <a:pt x="109" y="120"/>
                  </a:lnTo>
                  <a:lnTo>
                    <a:pt x="134" y="94"/>
                  </a:lnTo>
                  <a:lnTo>
                    <a:pt x="164" y="71"/>
                  </a:lnTo>
                  <a:lnTo>
                    <a:pt x="186" y="52"/>
                  </a:lnTo>
                  <a:lnTo>
                    <a:pt x="214" y="39"/>
                  </a:lnTo>
                  <a:lnTo>
                    <a:pt x="246" y="26"/>
                  </a:lnTo>
                  <a:lnTo>
                    <a:pt x="283" y="20"/>
                  </a:lnTo>
                  <a:lnTo>
                    <a:pt x="321" y="7"/>
                  </a:lnTo>
                  <a:lnTo>
                    <a:pt x="362" y="3"/>
                  </a:lnTo>
                  <a:lnTo>
                    <a:pt x="402" y="0"/>
                  </a:lnTo>
                  <a:lnTo>
                    <a:pt x="445" y="0"/>
                  </a:lnTo>
                  <a:lnTo>
                    <a:pt x="512" y="0"/>
                  </a:lnTo>
                  <a:lnTo>
                    <a:pt x="572" y="7"/>
                  </a:lnTo>
                  <a:lnTo>
                    <a:pt x="626" y="10"/>
                  </a:lnTo>
                  <a:lnTo>
                    <a:pt x="672" y="20"/>
                  </a:lnTo>
                  <a:lnTo>
                    <a:pt x="713" y="32"/>
                  </a:lnTo>
                  <a:lnTo>
                    <a:pt x="750" y="55"/>
                  </a:lnTo>
                  <a:lnTo>
                    <a:pt x="783" y="81"/>
                  </a:lnTo>
                  <a:lnTo>
                    <a:pt x="814" y="113"/>
                  </a:lnTo>
                  <a:lnTo>
                    <a:pt x="831" y="136"/>
                  </a:lnTo>
                  <a:lnTo>
                    <a:pt x="848" y="169"/>
                  </a:lnTo>
                  <a:lnTo>
                    <a:pt x="863" y="204"/>
                  </a:lnTo>
                  <a:lnTo>
                    <a:pt x="878" y="249"/>
                  </a:lnTo>
                  <a:lnTo>
                    <a:pt x="886" y="294"/>
                  </a:lnTo>
                  <a:lnTo>
                    <a:pt x="893" y="333"/>
                  </a:lnTo>
                  <a:lnTo>
                    <a:pt x="897" y="378"/>
                  </a:lnTo>
                  <a:lnTo>
                    <a:pt x="899" y="421"/>
                  </a:lnTo>
                  <a:lnTo>
                    <a:pt x="899" y="923"/>
                  </a:lnTo>
                  <a:lnTo>
                    <a:pt x="899" y="959"/>
                  </a:lnTo>
                  <a:lnTo>
                    <a:pt x="899" y="994"/>
                  </a:lnTo>
                  <a:lnTo>
                    <a:pt x="903" y="1024"/>
                  </a:lnTo>
                  <a:lnTo>
                    <a:pt x="907" y="1049"/>
                  </a:lnTo>
                  <a:lnTo>
                    <a:pt x="910" y="1072"/>
                  </a:lnTo>
                  <a:lnTo>
                    <a:pt x="918" y="1101"/>
                  </a:lnTo>
                  <a:lnTo>
                    <a:pt x="925" y="1130"/>
                  </a:lnTo>
                  <a:lnTo>
                    <a:pt x="938" y="1166"/>
                  </a:lnTo>
                  <a:lnTo>
                    <a:pt x="645" y="1166"/>
                  </a:lnTo>
                  <a:lnTo>
                    <a:pt x="636" y="1143"/>
                  </a:lnTo>
                  <a:lnTo>
                    <a:pt x="629" y="1127"/>
                  </a:lnTo>
                  <a:lnTo>
                    <a:pt x="624" y="1111"/>
                  </a:lnTo>
                  <a:lnTo>
                    <a:pt x="622" y="1098"/>
                  </a:lnTo>
                  <a:lnTo>
                    <a:pt x="618" y="1082"/>
                  </a:lnTo>
                  <a:lnTo>
                    <a:pt x="617" y="1066"/>
                  </a:lnTo>
                  <a:lnTo>
                    <a:pt x="613" y="1049"/>
                  </a:lnTo>
                  <a:lnTo>
                    <a:pt x="613" y="1027"/>
                  </a:lnTo>
                  <a:lnTo>
                    <a:pt x="579" y="1062"/>
                  </a:lnTo>
                  <a:lnTo>
                    <a:pt x="549" y="1098"/>
                  </a:lnTo>
                  <a:lnTo>
                    <a:pt x="518" y="1124"/>
                  </a:lnTo>
                  <a:lnTo>
                    <a:pt x="490" y="1143"/>
                  </a:lnTo>
                  <a:lnTo>
                    <a:pt x="445" y="1163"/>
                  </a:lnTo>
                  <a:lnTo>
                    <a:pt x="398" y="1176"/>
                  </a:lnTo>
                  <a:lnTo>
                    <a:pt x="349" y="1186"/>
                  </a:lnTo>
                  <a:lnTo>
                    <a:pt x="296" y="1192"/>
                  </a:lnTo>
                  <a:lnTo>
                    <a:pt x="226" y="1182"/>
                  </a:lnTo>
                  <a:lnTo>
                    <a:pt x="166" y="1166"/>
                  </a:lnTo>
                  <a:lnTo>
                    <a:pt x="116" y="1137"/>
                  </a:lnTo>
                  <a:lnTo>
                    <a:pt x="75" y="1095"/>
                  </a:lnTo>
                  <a:lnTo>
                    <a:pt x="42" y="1043"/>
                  </a:lnTo>
                  <a:lnTo>
                    <a:pt x="18" y="988"/>
                  </a:lnTo>
                  <a:lnTo>
                    <a:pt x="3" y="930"/>
                  </a:lnTo>
                  <a:lnTo>
                    <a:pt x="0" y="866"/>
                  </a:lnTo>
                  <a:lnTo>
                    <a:pt x="1" y="801"/>
                  </a:lnTo>
                  <a:lnTo>
                    <a:pt x="12" y="745"/>
                  </a:lnTo>
                  <a:lnTo>
                    <a:pt x="29" y="696"/>
                  </a:lnTo>
                  <a:lnTo>
                    <a:pt x="53" y="651"/>
                  </a:lnTo>
                  <a:lnTo>
                    <a:pt x="87" y="609"/>
                  </a:lnTo>
                  <a:lnTo>
                    <a:pt x="130" y="577"/>
                  </a:lnTo>
                  <a:lnTo>
                    <a:pt x="186" y="547"/>
                  </a:lnTo>
                  <a:lnTo>
                    <a:pt x="255" y="528"/>
                  </a:lnTo>
                  <a:lnTo>
                    <a:pt x="336" y="502"/>
                  </a:lnTo>
                  <a:lnTo>
                    <a:pt x="400" y="483"/>
                  </a:lnTo>
                  <a:lnTo>
                    <a:pt x="449" y="466"/>
                  </a:lnTo>
                  <a:lnTo>
                    <a:pt x="484" y="457"/>
                  </a:lnTo>
                  <a:lnTo>
                    <a:pt x="510" y="444"/>
                  </a:lnTo>
                  <a:lnTo>
                    <a:pt x="536" y="434"/>
                  </a:lnTo>
                  <a:lnTo>
                    <a:pt x="564" y="418"/>
                  </a:lnTo>
                  <a:lnTo>
                    <a:pt x="594" y="405"/>
                  </a:lnTo>
                  <a:lnTo>
                    <a:pt x="592" y="365"/>
                  </a:lnTo>
                  <a:lnTo>
                    <a:pt x="587" y="333"/>
                  </a:lnTo>
                  <a:lnTo>
                    <a:pt x="579" y="307"/>
                  </a:lnTo>
                  <a:lnTo>
                    <a:pt x="570" y="291"/>
                  </a:lnTo>
                  <a:lnTo>
                    <a:pt x="555" y="275"/>
                  </a:lnTo>
                  <a:lnTo>
                    <a:pt x="536" y="269"/>
                  </a:lnTo>
                  <a:lnTo>
                    <a:pt x="512" y="259"/>
                  </a:lnTo>
                  <a:lnTo>
                    <a:pt x="486" y="259"/>
                  </a:lnTo>
                  <a:lnTo>
                    <a:pt x="449" y="259"/>
                  </a:lnTo>
                  <a:lnTo>
                    <a:pt x="419" y="269"/>
                  </a:lnTo>
                  <a:lnTo>
                    <a:pt x="391" y="279"/>
                  </a:lnTo>
                  <a:lnTo>
                    <a:pt x="371" y="294"/>
                  </a:lnTo>
                  <a:lnTo>
                    <a:pt x="356" y="307"/>
                  </a:lnTo>
                  <a:lnTo>
                    <a:pt x="343" y="333"/>
                  </a:lnTo>
                  <a:lnTo>
                    <a:pt x="332" y="359"/>
                  </a:lnTo>
                  <a:lnTo>
                    <a:pt x="323" y="394"/>
                  </a:lnTo>
                  <a:lnTo>
                    <a:pt x="323" y="394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34040" y="2089080"/>
              <a:ext cx="113040" cy="565200"/>
            </a:xfrm>
            <a:custGeom>
              <a:avLst/>
              <a:gdLst/>
              <a:ahLst/>
              <a:rect l="l" t="t" r="r" b="b"/>
              <a:pathLst>
                <a:path w="314" h="1572">
                  <a:moveTo>
                    <a:pt x="0" y="0"/>
                  </a:moveTo>
                  <a:lnTo>
                    <a:pt x="313" y="0"/>
                  </a:lnTo>
                  <a:lnTo>
                    <a:pt x="313" y="1571"/>
                  </a:lnTo>
                  <a:lnTo>
                    <a:pt x="0" y="1571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18360" y="2236680"/>
              <a:ext cx="311040" cy="419040"/>
            </a:xfrm>
            <a:custGeom>
              <a:avLst/>
              <a:gdLst/>
              <a:ahLst/>
              <a:rect l="l" t="t" r="r" b="b"/>
              <a:pathLst>
                <a:path w="864" h="1166">
                  <a:moveTo>
                    <a:pt x="0" y="26"/>
                  </a:moveTo>
                  <a:lnTo>
                    <a:pt x="290" y="26"/>
                  </a:lnTo>
                  <a:lnTo>
                    <a:pt x="290" y="214"/>
                  </a:lnTo>
                  <a:lnTo>
                    <a:pt x="323" y="159"/>
                  </a:lnTo>
                  <a:lnTo>
                    <a:pt x="356" y="113"/>
                  </a:lnTo>
                  <a:lnTo>
                    <a:pt x="390" y="78"/>
                  </a:lnTo>
                  <a:lnTo>
                    <a:pt x="423" y="49"/>
                  </a:lnTo>
                  <a:lnTo>
                    <a:pt x="458" y="26"/>
                  </a:lnTo>
                  <a:lnTo>
                    <a:pt x="497" y="10"/>
                  </a:lnTo>
                  <a:lnTo>
                    <a:pt x="540" y="3"/>
                  </a:lnTo>
                  <a:lnTo>
                    <a:pt x="586" y="0"/>
                  </a:lnTo>
                  <a:lnTo>
                    <a:pt x="647" y="7"/>
                  </a:lnTo>
                  <a:lnTo>
                    <a:pt x="702" y="26"/>
                  </a:lnTo>
                  <a:lnTo>
                    <a:pt x="750" y="58"/>
                  </a:lnTo>
                  <a:lnTo>
                    <a:pt x="791" y="107"/>
                  </a:lnTo>
                  <a:lnTo>
                    <a:pt x="822" y="165"/>
                  </a:lnTo>
                  <a:lnTo>
                    <a:pt x="844" y="243"/>
                  </a:lnTo>
                  <a:lnTo>
                    <a:pt x="857" y="333"/>
                  </a:lnTo>
                  <a:lnTo>
                    <a:pt x="863" y="440"/>
                  </a:lnTo>
                  <a:lnTo>
                    <a:pt x="863" y="1165"/>
                  </a:lnTo>
                  <a:lnTo>
                    <a:pt x="549" y="1165"/>
                  </a:lnTo>
                  <a:lnTo>
                    <a:pt x="549" y="540"/>
                  </a:lnTo>
                  <a:lnTo>
                    <a:pt x="548" y="488"/>
                  </a:lnTo>
                  <a:lnTo>
                    <a:pt x="542" y="446"/>
                  </a:lnTo>
                  <a:lnTo>
                    <a:pt x="533" y="410"/>
                  </a:lnTo>
                  <a:lnTo>
                    <a:pt x="522" y="385"/>
                  </a:lnTo>
                  <a:lnTo>
                    <a:pt x="505" y="365"/>
                  </a:lnTo>
                  <a:lnTo>
                    <a:pt x="486" y="352"/>
                  </a:lnTo>
                  <a:lnTo>
                    <a:pt x="464" y="346"/>
                  </a:lnTo>
                  <a:lnTo>
                    <a:pt x="441" y="342"/>
                  </a:lnTo>
                  <a:lnTo>
                    <a:pt x="412" y="346"/>
                  </a:lnTo>
                  <a:lnTo>
                    <a:pt x="388" y="355"/>
                  </a:lnTo>
                  <a:lnTo>
                    <a:pt x="366" y="375"/>
                  </a:lnTo>
                  <a:lnTo>
                    <a:pt x="347" y="401"/>
                  </a:lnTo>
                  <a:lnTo>
                    <a:pt x="330" y="436"/>
                  </a:lnTo>
                  <a:lnTo>
                    <a:pt x="319" y="485"/>
                  </a:lnTo>
                  <a:lnTo>
                    <a:pt x="313" y="543"/>
                  </a:lnTo>
                  <a:lnTo>
                    <a:pt x="312" y="619"/>
                  </a:lnTo>
                  <a:lnTo>
                    <a:pt x="312" y="1165"/>
                  </a:lnTo>
                  <a:lnTo>
                    <a:pt x="0" y="1165"/>
                  </a:lnTo>
                  <a:lnTo>
                    <a:pt x="0" y="26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83400" y="2236680"/>
              <a:ext cx="339840" cy="430200"/>
            </a:xfrm>
            <a:custGeom>
              <a:avLst/>
              <a:gdLst/>
              <a:ahLst/>
              <a:rect l="l" t="t" r="r" b="b"/>
              <a:pathLst>
                <a:path w="943" h="1193">
                  <a:moveTo>
                    <a:pt x="595" y="625"/>
                  </a:moveTo>
                  <a:lnTo>
                    <a:pt x="561" y="638"/>
                  </a:lnTo>
                  <a:lnTo>
                    <a:pt x="528" y="654"/>
                  </a:lnTo>
                  <a:lnTo>
                    <a:pt x="495" y="667"/>
                  </a:lnTo>
                  <a:lnTo>
                    <a:pt x="461" y="683"/>
                  </a:lnTo>
                  <a:lnTo>
                    <a:pt x="416" y="696"/>
                  </a:lnTo>
                  <a:lnTo>
                    <a:pt x="383" y="716"/>
                  </a:lnTo>
                  <a:lnTo>
                    <a:pt x="357" y="735"/>
                  </a:lnTo>
                  <a:lnTo>
                    <a:pt x="340" y="752"/>
                  </a:lnTo>
                  <a:lnTo>
                    <a:pt x="329" y="768"/>
                  </a:lnTo>
                  <a:lnTo>
                    <a:pt x="319" y="787"/>
                  </a:lnTo>
                  <a:lnTo>
                    <a:pt x="314" y="811"/>
                  </a:lnTo>
                  <a:lnTo>
                    <a:pt x="314" y="833"/>
                  </a:lnTo>
                  <a:lnTo>
                    <a:pt x="314" y="856"/>
                  </a:lnTo>
                  <a:lnTo>
                    <a:pt x="319" y="879"/>
                  </a:lnTo>
                  <a:lnTo>
                    <a:pt x="329" y="897"/>
                  </a:lnTo>
                  <a:lnTo>
                    <a:pt x="340" y="917"/>
                  </a:lnTo>
                  <a:lnTo>
                    <a:pt x="353" y="930"/>
                  </a:lnTo>
                  <a:lnTo>
                    <a:pt x="372" y="939"/>
                  </a:lnTo>
                  <a:lnTo>
                    <a:pt x="390" y="946"/>
                  </a:lnTo>
                  <a:lnTo>
                    <a:pt x="415" y="949"/>
                  </a:lnTo>
                  <a:lnTo>
                    <a:pt x="441" y="946"/>
                  </a:lnTo>
                  <a:lnTo>
                    <a:pt x="465" y="939"/>
                  </a:lnTo>
                  <a:lnTo>
                    <a:pt x="489" y="926"/>
                  </a:lnTo>
                  <a:lnTo>
                    <a:pt x="513" y="913"/>
                  </a:lnTo>
                  <a:lnTo>
                    <a:pt x="534" y="891"/>
                  </a:lnTo>
                  <a:lnTo>
                    <a:pt x="551" y="876"/>
                  </a:lnTo>
                  <a:lnTo>
                    <a:pt x="563" y="853"/>
                  </a:lnTo>
                  <a:lnTo>
                    <a:pt x="576" y="827"/>
                  </a:lnTo>
                  <a:lnTo>
                    <a:pt x="583" y="801"/>
                  </a:lnTo>
                  <a:lnTo>
                    <a:pt x="589" y="768"/>
                  </a:lnTo>
                  <a:lnTo>
                    <a:pt x="593" y="735"/>
                  </a:lnTo>
                  <a:lnTo>
                    <a:pt x="595" y="696"/>
                  </a:lnTo>
                  <a:lnTo>
                    <a:pt x="595" y="625"/>
                  </a:lnTo>
                  <a:lnTo>
                    <a:pt x="595" y="625"/>
                  </a:lnTo>
                  <a:close/>
                  <a:moveTo>
                    <a:pt x="323" y="394"/>
                  </a:moveTo>
                  <a:lnTo>
                    <a:pt x="24" y="349"/>
                  </a:lnTo>
                  <a:lnTo>
                    <a:pt x="33" y="297"/>
                  </a:lnTo>
                  <a:lnTo>
                    <a:pt x="44" y="253"/>
                  </a:lnTo>
                  <a:lnTo>
                    <a:pt x="56" y="214"/>
                  </a:lnTo>
                  <a:lnTo>
                    <a:pt x="71" y="178"/>
                  </a:lnTo>
                  <a:lnTo>
                    <a:pt x="88" y="149"/>
                  </a:lnTo>
                  <a:lnTo>
                    <a:pt x="108" y="120"/>
                  </a:lnTo>
                  <a:lnTo>
                    <a:pt x="135" y="94"/>
                  </a:lnTo>
                  <a:lnTo>
                    <a:pt x="164" y="71"/>
                  </a:lnTo>
                  <a:lnTo>
                    <a:pt x="187" y="52"/>
                  </a:lnTo>
                  <a:lnTo>
                    <a:pt x="215" y="39"/>
                  </a:lnTo>
                  <a:lnTo>
                    <a:pt x="247" y="26"/>
                  </a:lnTo>
                  <a:lnTo>
                    <a:pt x="284" y="20"/>
                  </a:lnTo>
                  <a:lnTo>
                    <a:pt x="321" y="7"/>
                  </a:lnTo>
                  <a:lnTo>
                    <a:pt x="362" y="3"/>
                  </a:lnTo>
                  <a:lnTo>
                    <a:pt x="403" y="0"/>
                  </a:lnTo>
                  <a:lnTo>
                    <a:pt x="446" y="0"/>
                  </a:lnTo>
                  <a:lnTo>
                    <a:pt x="513" y="0"/>
                  </a:lnTo>
                  <a:lnTo>
                    <a:pt x="572" y="7"/>
                  </a:lnTo>
                  <a:lnTo>
                    <a:pt x="626" y="10"/>
                  </a:lnTo>
                  <a:lnTo>
                    <a:pt x="674" y="20"/>
                  </a:lnTo>
                  <a:lnTo>
                    <a:pt x="715" y="32"/>
                  </a:lnTo>
                  <a:lnTo>
                    <a:pt x="752" y="55"/>
                  </a:lnTo>
                  <a:lnTo>
                    <a:pt x="786" y="81"/>
                  </a:lnTo>
                  <a:lnTo>
                    <a:pt x="817" y="113"/>
                  </a:lnTo>
                  <a:lnTo>
                    <a:pt x="833" y="136"/>
                  </a:lnTo>
                  <a:lnTo>
                    <a:pt x="850" y="169"/>
                  </a:lnTo>
                  <a:lnTo>
                    <a:pt x="865" y="204"/>
                  </a:lnTo>
                  <a:lnTo>
                    <a:pt x="880" y="249"/>
                  </a:lnTo>
                  <a:lnTo>
                    <a:pt x="889" y="294"/>
                  </a:lnTo>
                  <a:lnTo>
                    <a:pt x="897" y="333"/>
                  </a:lnTo>
                  <a:lnTo>
                    <a:pt x="901" y="378"/>
                  </a:lnTo>
                  <a:lnTo>
                    <a:pt x="903" y="421"/>
                  </a:lnTo>
                  <a:lnTo>
                    <a:pt x="903" y="923"/>
                  </a:lnTo>
                  <a:lnTo>
                    <a:pt x="903" y="959"/>
                  </a:lnTo>
                  <a:lnTo>
                    <a:pt x="903" y="994"/>
                  </a:lnTo>
                  <a:lnTo>
                    <a:pt x="906" y="1024"/>
                  </a:lnTo>
                  <a:lnTo>
                    <a:pt x="910" y="1049"/>
                  </a:lnTo>
                  <a:lnTo>
                    <a:pt x="914" y="1072"/>
                  </a:lnTo>
                  <a:lnTo>
                    <a:pt x="921" y="1101"/>
                  </a:lnTo>
                  <a:lnTo>
                    <a:pt x="929" y="1130"/>
                  </a:lnTo>
                  <a:lnTo>
                    <a:pt x="942" y="1166"/>
                  </a:lnTo>
                  <a:lnTo>
                    <a:pt x="648" y="1166"/>
                  </a:lnTo>
                  <a:lnTo>
                    <a:pt x="638" y="1143"/>
                  </a:lnTo>
                  <a:lnTo>
                    <a:pt x="631" y="1127"/>
                  </a:lnTo>
                  <a:lnTo>
                    <a:pt x="624" y="1111"/>
                  </a:lnTo>
                  <a:lnTo>
                    <a:pt x="623" y="1098"/>
                  </a:lnTo>
                  <a:lnTo>
                    <a:pt x="619" y="1082"/>
                  </a:lnTo>
                  <a:lnTo>
                    <a:pt x="617" y="1066"/>
                  </a:lnTo>
                  <a:lnTo>
                    <a:pt x="613" y="1049"/>
                  </a:lnTo>
                  <a:lnTo>
                    <a:pt x="613" y="1027"/>
                  </a:lnTo>
                  <a:lnTo>
                    <a:pt x="580" y="1062"/>
                  </a:lnTo>
                  <a:lnTo>
                    <a:pt x="551" y="1098"/>
                  </a:lnTo>
                  <a:lnTo>
                    <a:pt x="519" y="1124"/>
                  </a:lnTo>
                  <a:lnTo>
                    <a:pt x="491" y="1143"/>
                  </a:lnTo>
                  <a:lnTo>
                    <a:pt x="446" y="1163"/>
                  </a:lnTo>
                  <a:lnTo>
                    <a:pt x="400" y="1176"/>
                  </a:lnTo>
                  <a:lnTo>
                    <a:pt x="349" y="1186"/>
                  </a:lnTo>
                  <a:lnTo>
                    <a:pt x="297" y="1192"/>
                  </a:lnTo>
                  <a:lnTo>
                    <a:pt x="226" y="1182"/>
                  </a:lnTo>
                  <a:lnTo>
                    <a:pt x="166" y="1166"/>
                  </a:lnTo>
                  <a:lnTo>
                    <a:pt x="116" y="1137"/>
                  </a:lnTo>
                  <a:lnTo>
                    <a:pt x="75" y="1095"/>
                  </a:lnTo>
                  <a:lnTo>
                    <a:pt x="42" y="1043"/>
                  </a:lnTo>
                  <a:lnTo>
                    <a:pt x="18" y="988"/>
                  </a:lnTo>
                  <a:lnTo>
                    <a:pt x="4" y="930"/>
                  </a:lnTo>
                  <a:lnTo>
                    <a:pt x="0" y="866"/>
                  </a:lnTo>
                  <a:lnTo>
                    <a:pt x="2" y="801"/>
                  </a:lnTo>
                  <a:lnTo>
                    <a:pt x="13" y="745"/>
                  </a:lnTo>
                  <a:lnTo>
                    <a:pt x="29" y="696"/>
                  </a:lnTo>
                  <a:lnTo>
                    <a:pt x="52" y="651"/>
                  </a:lnTo>
                  <a:lnTo>
                    <a:pt x="86" y="609"/>
                  </a:lnTo>
                  <a:lnTo>
                    <a:pt x="131" y="577"/>
                  </a:lnTo>
                  <a:lnTo>
                    <a:pt x="187" y="547"/>
                  </a:lnTo>
                  <a:lnTo>
                    <a:pt x="256" y="528"/>
                  </a:lnTo>
                  <a:lnTo>
                    <a:pt x="336" y="502"/>
                  </a:lnTo>
                  <a:lnTo>
                    <a:pt x="401" y="483"/>
                  </a:lnTo>
                  <a:lnTo>
                    <a:pt x="450" y="466"/>
                  </a:lnTo>
                  <a:lnTo>
                    <a:pt x="485" y="457"/>
                  </a:lnTo>
                  <a:lnTo>
                    <a:pt x="512" y="444"/>
                  </a:lnTo>
                  <a:lnTo>
                    <a:pt x="538" y="434"/>
                  </a:lnTo>
                  <a:lnTo>
                    <a:pt x="565" y="418"/>
                  </a:lnTo>
                  <a:lnTo>
                    <a:pt x="595" y="405"/>
                  </a:lnTo>
                  <a:lnTo>
                    <a:pt x="593" y="365"/>
                  </a:lnTo>
                  <a:lnTo>
                    <a:pt x="587" y="333"/>
                  </a:lnTo>
                  <a:lnTo>
                    <a:pt x="580" y="307"/>
                  </a:lnTo>
                  <a:lnTo>
                    <a:pt x="570" y="291"/>
                  </a:lnTo>
                  <a:lnTo>
                    <a:pt x="556" y="275"/>
                  </a:lnTo>
                  <a:lnTo>
                    <a:pt x="538" y="269"/>
                  </a:lnTo>
                  <a:lnTo>
                    <a:pt x="513" y="259"/>
                  </a:lnTo>
                  <a:lnTo>
                    <a:pt x="487" y="259"/>
                  </a:lnTo>
                  <a:lnTo>
                    <a:pt x="450" y="259"/>
                  </a:lnTo>
                  <a:lnTo>
                    <a:pt x="420" y="269"/>
                  </a:lnTo>
                  <a:lnTo>
                    <a:pt x="392" y="279"/>
                  </a:lnTo>
                  <a:lnTo>
                    <a:pt x="372" y="294"/>
                  </a:lnTo>
                  <a:lnTo>
                    <a:pt x="357" y="307"/>
                  </a:lnTo>
                  <a:lnTo>
                    <a:pt x="344" y="333"/>
                  </a:lnTo>
                  <a:lnTo>
                    <a:pt x="332" y="359"/>
                  </a:lnTo>
                  <a:lnTo>
                    <a:pt x="323" y="394"/>
                  </a:lnTo>
                  <a:lnTo>
                    <a:pt x="323" y="394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066680" y="3048120"/>
            <a:ext cx="73915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Najczęściej występujący wynik wśród podanych licz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2743200" cy="248904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7772400" y="5638680"/>
            <a:ext cx="836640" cy="838440"/>
            <a:chOff x="7772400" y="5638680"/>
            <a:chExt cx="836640" cy="838440"/>
          </a:xfrm>
        </p:grpSpPr>
        <p:sp>
          <p:nvSpPr>
            <p:cNvPr id="389" name=""/>
            <p:cNvSpPr/>
            <p:nvPr/>
          </p:nvSpPr>
          <p:spPr>
            <a:xfrm>
              <a:off x="7772400" y="5638680"/>
              <a:ext cx="836640" cy="838440"/>
            </a:xfrm>
            <a:custGeom>
              <a:avLst/>
              <a:gdLst/>
              <a:ahLst/>
              <a:rect l="l" t="t" r="r" b="b"/>
              <a:pathLst>
                <a:path w="2325" h="2330">
                  <a:moveTo>
                    <a:pt x="0" y="0"/>
                  </a:moveTo>
                  <a:lnTo>
                    <a:pt x="2324" y="0"/>
                  </a:lnTo>
                  <a:lnTo>
                    <a:pt x="2324" y="2329"/>
                  </a:lnTo>
                  <a:lnTo>
                    <a:pt x="0" y="2329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72400" y="5638680"/>
              <a:ext cx="836640" cy="54000"/>
            </a:xfrm>
            <a:custGeom>
              <a:avLst/>
              <a:gdLst/>
              <a:ahLst/>
              <a:rect l="l" t="t" r="r" b="b"/>
              <a:pathLst>
                <a:path w="2325" h="151">
                  <a:moveTo>
                    <a:pt x="0" y="0"/>
                  </a:moveTo>
                  <a:lnTo>
                    <a:pt x="2324" y="0"/>
                  </a:lnTo>
                  <a:lnTo>
                    <a:pt x="2173" y="150"/>
                  </a:lnTo>
                  <a:lnTo>
                    <a:pt x="149" y="150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555040" y="5638680"/>
              <a:ext cx="54000" cy="838440"/>
            </a:xfrm>
            <a:custGeom>
              <a:avLst/>
              <a:gdLst/>
              <a:ahLst/>
              <a:rect l="l" t="t" r="r" b="b"/>
              <a:pathLst>
                <a:path w="151" h="2330">
                  <a:moveTo>
                    <a:pt x="150" y="0"/>
                  </a:moveTo>
                  <a:lnTo>
                    <a:pt x="150" y="2329"/>
                  </a:lnTo>
                  <a:lnTo>
                    <a:pt x="0" y="2178"/>
                  </a:lnTo>
                  <a:lnTo>
                    <a:pt x="0" y="150"/>
                  </a:lnTo>
                  <a:lnTo>
                    <a:pt x="15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72400" y="6421320"/>
              <a:ext cx="836640" cy="54000"/>
            </a:xfrm>
            <a:custGeom>
              <a:avLst/>
              <a:gdLst/>
              <a:ahLst/>
              <a:rect l="l" t="t" r="r" b="b"/>
              <a:pathLst>
                <a:path w="2325" h="151">
                  <a:moveTo>
                    <a:pt x="2324" y="150"/>
                  </a:moveTo>
                  <a:lnTo>
                    <a:pt x="0" y="150"/>
                  </a:lnTo>
                  <a:lnTo>
                    <a:pt x="149" y="0"/>
                  </a:lnTo>
                  <a:lnTo>
                    <a:pt x="2173" y="0"/>
                  </a:lnTo>
                  <a:lnTo>
                    <a:pt x="2324" y="150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2400" y="5638680"/>
              <a:ext cx="54000" cy="838440"/>
            </a:xfrm>
            <a:custGeom>
              <a:avLst/>
              <a:gdLst/>
              <a:ahLst/>
              <a:rect l="l" t="t" r="r" b="b"/>
              <a:pathLst>
                <a:path w="151" h="2330">
                  <a:moveTo>
                    <a:pt x="0" y="2329"/>
                  </a:moveTo>
                  <a:lnTo>
                    <a:pt x="0" y="0"/>
                  </a:lnTo>
                  <a:lnTo>
                    <a:pt x="150" y="150"/>
                  </a:lnTo>
                  <a:lnTo>
                    <a:pt x="150" y="2178"/>
                  </a:lnTo>
                  <a:lnTo>
                    <a:pt x="0" y="2329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0000" y="5786280"/>
              <a:ext cx="544680" cy="544680"/>
            </a:xfrm>
            <a:custGeom>
              <a:avLst/>
              <a:gdLst/>
              <a:ahLst/>
              <a:rect l="l" t="t" r="r" b="b"/>
              <a:pathLst>
                <a:path w="1511" h="1512">
                  <a:moveTo>
                    <a:pt x="0" y="756"/>
                  </a:moveTo>
                  <a:lnTo>
                    <a:pt x="1510" y="0"/>
                  </a:lnTo>
                  <a:lnTo>
                    <a:pt x="1510" y="1511"/>
                  </a:lnTo>
                  <a:lnTo>
                    <a:pt x="0" y="756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2590920" y="914400"/>
            <a:ext cx="5332320" cy="1522440"/>
            <a:chOff x="2590920" y="914400"/>
            <a:chExt cx="5332320" cy="1522440"/>
          </a:xfrm>
        </p:grpSpPr>
        <p:sp>
          <p:nvSpPr>
            <p:cNvPr id="396" name=""/>
            <p:cNvSpPr/>
            <p:nvPr/>
          </p:nvSpPr>
          <p:spPr>
            <a:xfrm>
              <a:off x="2590920" y="914400"/>
              <a:ext cx="833400" cy="1522440"/>
            </a:xfrm>
            <a:custGeom>
              <a:avLst/>
              <a:gdLst/>
              <a:ahLst/>
              <a:rect l="l" t="t" r="r" b="b"/>
              <a:pathLst>
                <a:path w="2316" h="4230">
                  <a:moveTo>
                    <a:pt x="0" y="0"/>
                  </a:moveTo>
                  <a:lnTo>
                    <a:pt x="838" y="0"/>
                  </a:lnTo>
                  <a:lnTo>
                    <a:pt x="1157" y="2573"/>
                  </a:lnTo>
                  <a:lnTo>
                    <a:pt x="1480" y="0"/>
                  </a:lnTo>
                  <a:lnTo>
                    <a:pt x="2315" y="0"/>
                  </a:lnTo>
                  <a:lnTo>
                    <a:pt x="2315" y="4229"/>
                  </a:lnTo>
                  <a:lnTo>
                    <a:pt x="1796" y="4229"/>
                  </a:lnTo>
                  <a:lnTo>
                    <a:pt x="1796" y="1003"/>
                  </a:lnTo>
                  <a:lnTo>
                    <a:pt x="1392" y="4229"/>
                  </a:lnTo>
                  <a:lnTo>
                    <a:pt x="923" y="4229"/>
                  </a:lnTo>
                  <a:lnTo>
                    <a:pt x="519" y="1003"/>
                  </a:lnTo>
                  <a:lnTo>
                    <a:pt x="519" y="4229"/>
                  </a:lnTo>
                  <a:lnTo>
                    <a:pt x="0" y="4229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70120" y="914400"/>
              <a:ext cx="623880" cy="1522440"/>
            </a:xfrm>
            <a:custGeom>
              <a:avLst/>
              <a:gdLst/>
              <a:ahLst/>
              <a:rect l="l" t="t" r="r" b="b"/>
              <a:pathLst>
                <a:path w="1734" h="4230">
                  <a:moveTo>
                    <a:pt x="0" y="0"/>
                  </a:moveTo>
                  <a:lnTo>
                    <a:pt x="1703" y="0"/>
                  </a:lnTo>
                  <a:lnTo>
                    <a:pt x="1703" y="898"/>
                  </a:lnTo>
                  <a:lnTo>
                    <a:pt x="637" y="898"/>
                  </a:lnTo>
                  <a:lnTo>
                    <a:pt x="637" y="1570"/>
                  </a:lnTo>
                  <a:lnTo>
                    <a:pt x="1625" y="1570"/>
                  </a:lnTo>
                  <a:lnTo>
                    <a:pt x="1625" y="2433"/>
                  </a:lnTo>
                  <a:lnTo>
                    <a:pt x="637" y="2433"/>
                  </a:lnTo>
                  <a:lnTo>
                    <a:pt x="637" y="3279"/>
                  </a:lnTo>
                  <a:lnTo>
                    <a:pt x="1733" y="3279"/>
                  </a:lnTo>
                  <a:lnTo>
                    <a:pt x="1733" y="4229"/>
                  </a:lnTo>
                  <a:lnTo>
                    <a:pt x="0" y="4229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21080" y="914400"/>
              <a:ext cx="682560" cy="1522440"/>
            </a:xfrm>
            <a:custGeom>
              <a:avLst/>
              <a:gdLst/>
              <a:ahLst/>
              <a:rect l="l" t="t" r="r" b="b"/>
              <a:pathLst>
                <a:path w="1896" h="4230">
                  <a:moveTo>
                    <a:pt x="635" y="950"/>
                  </a:moveTo>
                  <a:lnTo>
                    <a:pt x="635" y="3270"/>
                  </a:lnTo>
                  <a:lnTo>
                    <a:pt x="791" y="3270"/>
                  </a:lnTo>
                  <a:lnTo>
                    <a:pt x="882" y="3261"/>
                  </a:lnTo>
                  <a:lnTo>
                    <a:pt x="961" y="3244"/>
                  </a:lnTo>
                  <a:lnTo>
                    <a:pt x="1025" y="3209"/>
                  </a:lnTo>
                  <a:lnTo>
                    <a:pt x="1077" y="3174"/>
                  </a:lnTo>
                  <a:lnTo>
                    <a:pt x="1117" y="3122"/>
                  </a:lnTo>
                  <a:lnTo>
                    <a:pt x="1151" y="3043"/>
                  </a:lnTo>
                  <a:lnTo>
                    <a:pt x="1181" y="2956"/>
                  </a:lnTo>
                  <a:lnTo>
                    <a:pt x="1208" y="2851"/>
                  </a:lnTo>
                  <a:lnTo>
                    <a:pt x="1225" y="2720"/>
                  </a:lnTo>
                  <a:lnTo>
                    <a:pt x="1243" y="2564"/>
                  </a:lnTo>
                  <a:lnTo>
                    <a:pt x="1253" y="2363"/>
                  </a:lnTo>
                  <a:lnTo>
                    <a:pt x="1256" y="2119"/>
                  </a:lnTo>
                  <a:lnTo>
                    <a:pt x="1250" y="1805"/>
                  </a:lnTo>
                  <a:lnTo>
                    <a:pt x="1228" y="1553"/>
                  </a:lnTo>
                  <a:lnTo>
                    <a:pt x="1195" y="1343"/>
                  </a:lnTo>
                  <a:lnTo>
                    <a:pt x="1151" y="1195"/>
                  </a:lnTo>
                  <a:lnTo>
                    <a:pt x="1087" y="1090"/>
                  </a:lnTo>
                  <a:lnTo>
                    <a:pt x="1009" y="1011"/>
                  </a:lnTo>
                  <a:lnTo>
                    <a:pt x="910" y="968"/>
                  </a:lnTo>
                  <a:lnTo>
                    <a:pt x="794" y="950"/>
                  </a:lnTo>
                  <a:lnTo>
                    <a:pt x="635" y="950"/>
                  </a:lnTo>
                  <a:lnTo>
                    <a:pt x="635" y="950"/>
                  </a:lnTo>
                  <a:close/>
                  <a:moveTo>
                    <a:pt x="0" y="0"/>
                  </a:moveTo>
                  <a:lnTo>
                    <a:pt x="944" y="0"/>
                  </a:lnTo>
                  <a:lnTo>
                    <a:pt x="1077" y="0"/>
                  </a:lnTo>
                  <a:lnTo>
                    <a:pt x="1195" y="35"/>
                  </a:lnTo>
                  <a:lnTo>
                    <a:pt x="1304" y="79"/>
                  </a:lnTo>
                  <a:lnTo>
                    <a:pt x="1400" y="148"/>
                  </a:lnTo>
                  <a:lnTo>
                    <a:pt x="1477" y="236"/>
                  </a:lnTo>
                  <a:lnTo>
                    <a:pt x="1552" y="340"/>
                  </a:lnTo>
                  <a:lnTo>
                    <a:pt x="1620" y="454"/>
                  </a:lnTo>
                  <a:lnTo>
                    <a:pt x="1681" y="592"/>
                  </a:lnTo>
                  <a:lnTo>
                    <a:pt x="1733" y="741"/>
                  </a:lnTo>
                  <a:lnTo>
                    <a:pt x="1776" y="915"/>
                  </a:lnTo>
                  <a:lnTo>
                    <a:pt x="1814" y="1090"/>
                  </a:lnTo>
                  <a:lnTo>
                    <a:pt x="1844" y="1273"/>
                  </a:lnTo>
                  <a:lnTo>
                    <a:pt x="1864" y="1474"/>
                  </a:lnTo>
                  <a:lnTo>
                    <a:pt x="1881" y="1674"/>
                  </a:lnTo>
                  <a:lnTo>
                    <a:pt x="1891" y="1883"/>
                  </a:lnTo>
                  <a:lnTo>
                    <a:pt x="1895" y="2101"/>
                  </a:lnTo>
                  <a:lnTo>
                    <a:pt x="1888" y="2416"/>
                  </a:lnTo>
                  <a:lnTo>
                    <a:pt x="1874" y="2703"/>
                  </a:lnTo>
                  <a:lnTo>
                    <a:pt x="1851" y="2938"/>
                  </a:lnTo>
                  <a:lnTo>
                    <a:pt x="1821" y="3148"/>
                  </a:lnTo>
                  <a:lnTo>
                    <a:pt x="1776" y="3322"/>
                  </a:lnTo>
                  <a:lnTo>
                    <a:pt x="1728" y="3488"/>
                  </a:lnTo>
                  <a:lnTo>
                    <a:pt x="1675" y="3637"/>
                  </a:lnTo>
                  <a:lnTo>
                    <a:pt x="1613" y="3775"/>
                  </a:lnTo>
                  <a:lnTo>
                    <a:pt x="1542" y="3889"/>
                  </a:lnTo>
                  <a:lnTo>
                    <a:pt x="1470" y="3985"/>
                  </a:lnTo>
                  <a:lnTo>
                    <a:pt x="1400" y="4054"/>
                  </a:lnTo>
                  <a:lnTo>
                    <a:pt x="1325" y="4116"/>
                  </a:lnTo>
                  <a:lnTo>
                    <a:pt x="1218" y="4159"/>
                  </a:lnTo>
                  <a:lnTo>
                    <a:pt x="1124" y="4194"/>
                  </a:lnTo>
                  <a:lnTo>
                    <a:pt x="1029" y="4220"/>
                  </a:lnTo>
                  <a:lnTo>
                    <a:pt x="944" y="4229"/>
                  </a:lnTo>
                  <a:lnTo>
                    <a:pt x="0" y="42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30720" y="914400"/>
              <a:ext cx="230400" cy="1522440"/>
            </a:xfrm>
            <a:custGeom>
              <a:avLst/>
              <a:gdLst/>
              <a:ahLst/>
              <a:rect l="l" t="t" r="r" b="b"/>
              <a:pathLst>
                <a:path w="639" h="4230">
                  <a:moveTo>
                    <a:pt x="0" y="0"/>
                  </a:moveTo>
                  <a:lnTo>
                    <a:pt x="638" y="0"/>
                  </a:lnTo>
                  <a:lnTo>
                    <a:pt x="638" y="4229"/>
                  </a:lnTo>
                  <a:lnTo>
                    <a:pt x="0" y="4229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51480" y="914400"/>
              <a:ext cx="806400" cy="1522440"/>
            </a:xfrm>
            <a:custGeom>
              <a:avLst/>
              <a:gdLst/>
              <a:ahLst/>
              <a:rect l="l" t="t" r="r" b="b"/>
              <a:pathLst>
                <a:path w="2241" h="4230">
                  <a:moveTo>
                    <a:pt x="1338" y="2616"/>
                  </a:moveTo>
                  <a:lnTo>
                    <a:pt x="1114" y="1090"/>
                  </a:lnTo>
                  <a:lnTo>
                    <a:pt x="886" y="2616"/>
                  </a:lnTo>
                  <a:lnTo>
                    <a:pt x="1338" y="2616"/>
                  </a:lnTo>
                  <a:lnTo>
                    <a:pt x="1338" y="2616"/>
                  </a:lnTo>
                  <a:close/>
                  <a:moveTo>
                    <a:pt x="1470" y="3532"/>
                  </a:moveTo>
                  <a:lnTo>
                    <a:pt x="753" y="3532"/>
                  </a:lnTo>
                  <a:lnTo>
                    <a:pt x="648" y="4229"/>
                  </a:lnTo>
                  <a:lnTo>
                    <a:pt x="0" y="4229"/>
                  </a:lnTo>
                  <a:lnTo>
                    <a:pt x="771" y="0"/>
                  </a:lnTo>
                  <a:lnTo>
                    <a:pt x="1466" y="0"/>
                  </a:lnTo>
                  <a:lnTo>
                    <a:pt x="2240" y="4229"/>
                  </a:lnTo>
                  <a:lnTo>
                    <a:pt x="1575" y="4229"/>
                  </a:lnTo>
                  <a:lnTo>
                    <a:pt x="1470" y="3532"/>
                  </a:lnTo>
                  <a:lnTo>
                    <a:pt x="1470" y="3532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30960" y="914400"/>
              <a:ext cx="709560" cy="1522440"/>
            </a:xfrm>
            <a:custGeom>
              <a:avLst/>
              <a:gdLst/>
              <a:ahLst/>
              <a:rect l="l" t="t" r="r" b="b"/>
              <a:pathLst>
                <a:path w="1971" h="4230">
                  <a:moveTo>
                    <a:pt x="0" y="0"/>
                  </a:moveTo>
                  <a:lnTo>
                    <a:pt x="593" y="0"/>
                  </a:lnTo>
                  <a:lnTo>
                    <a:pt x="1370" y="2346"/>
                  </a:lnTo>
                  <a:lnTo>
                    <a:pt x="1370" y="0"/>
                  </a:lnTo>
                  <a:lnTo>
                    <a:pt x="1970" y="0"/>
                  </a:lnTo>
                  <a:lnTo>
                    <a:pt x="1970" y="4229"/>
                  </a:lnTo>
                  <a:lnTo>
                    <a:pt x="1370" y="4229"/>
                  </a:lnTo>
                  <a:lnTo>
                    <a:pt x="597" y="1901"/>
                  </a:lnTo>
                  <a:lnTo>
                    <a:pt x="597" y="4229"/>
                  </a:lnTo>
                  <a:lnTo>
                    <a:pt x="0" y="4229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16840" y="914400"/>
              <a:ext cx="806400" cy="1522440"/>
            </a:xfrm>
            <a:custGeom>
              <a:avLst/>
              <a:gdLst/>
              <a:ahLst/>
              <a:rect l="l" t="t" r="r" b="b"/>
              <a:pathLst>
                <a:path w="2240" h="4230">
                  <a:moveTo>
                    <a:pt x="1337" y="2616"/>
                  </a:moveTo>
                  <a:lnTo>
                    <a:pt x="1112" y="1090"/>
                  </a:lnTo>
                  <a:lnTo>
                    <a:pt x="886" y="2616"/>
                  </a:lnTo>
                  <a:lnTo>
                    <a:pt x="1337" y="2616"/>
                  </a:lnTo>
                  <a:lnTo>
                    <a:pt x="1337" y="2616"/>
                  </a:lnTo>
                  <a:close/>
                  <a:moveTo>
                    <a:pt x="1469" y="3532"/>
                  </a:moveTo>
                  <a:lnTo>
                    <a:pt x="753" y="3532"/>
                  </a:lnTo>
                  <a:lnTo>
                    <a:pt x="648" y="4229"/>
                  </a:lnTo>
                  <a:lnTo>
                    <a:pt x="0" y="4229"/>
                  </a:lnTo>
                  <a:lnTo>
                    <a:pt x="770" y="0"/>
                  </a:lnTo>
                  <a:lnTo>
                    <a:pt x="1466" y="0"/>
                  </a:lnTo>
                  <a:lnTo>
                    <a:pt x="2239" y="4229"/>
                  </a:lnTo>
                  <a:lnTo>
                    <a:pt x="1574" y="4229"/>
                  </a:lnTo>
                  <a:lnTo>
                    <a:pt x="1469" y="3532"/>
                  </a:lnTo>
                  <a:lnTo>
                    <a:pt x="1469" y="3532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295280" y="3124080"/>
            <a:ext cx="70866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Środkowy wynik wśród uporządkowanych wyników w kolejności niemalejąc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209680" y="47242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4511520" y="47242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5715000" y="472428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705720" y="4952880"/>
            <a:ext cx="1752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Times New Roman"/>
              </a:rPr>
              <a:t>....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772400" y="5638680"/>
            <a:ext cx="836640" cy="838440"/>
            <a:chOff x="7772400" y="5638680"/>
            <a:chExt cx="836640" cy="838440"/>
          </a:xfrm>
        </p:grpSpPr>
        <p:sp>
          <p:nvSpPr>
            <p:cNvPr id="411" name=""/>
            <p:cNvSpPr/>
            <p:nvPr/>
          </p:nvSpPr>
          <p:spPr>
            <a:xfrm>
              <a:off x="7772400" y="5638680"/>
              <a:ext cx="836640" cy="838440"/>
            </a:xfrm>
            <a:custGeom>
              <a:avLst/>
              <a:gdLst/>
              <a:ahLst/>
              <a:rect l="l" t="t" r="r" b="b"/>
              <a:pathLst>
                <a:path w="2325" h="2330">
                  <a:moveTo>
                    <a:pt x="0" y="0"/>
                  </a:moveTo>
                  <a:lnTo>
                    <a:pt x="2324" y="0"/>
                  </a:lnTo>
                  <a:lnTo>
                    <a:pt x="2324" y="2329"/>
                  </a:lnTo>
                  <a:lnTo>
                    <a:pt x="0" y="2329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72400" y="5638680"/>
              <a:ext cx="836640" cy="54000"/>
            </a:xfrm>
            <a:custGeom>
              <a:avLst/>
              <a:gdLst/>
              <a:ahLst/>
              <a:rect l="l" t="t" r="r" b="b"/>
              <a:pathLst>
                <a:path w="2325" h="151">
                  <a:moveTo>
                    <a:pt x="0" y="0"/>
                  </a:moveTo>
                  <a:lnTo>
                    <a:pt x="2324" y="0"/>
                  </a:lnTo>
                  <a:lnTo>
                    <a:pt x="2173" y="150"/>
                  </a:lnTo>
                  <a:lnTo>
                    <a:pt x="149" y="150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555040" y="5638680"/>
              <a:ext cx="54000" cy="838440"/>
            </a:xfrm>
            <a:custGeom>
              <a:avLst/>
              <a:gdLst/>
              <a:ahLst/>
              <a:rect l="l" t="t" r="r" b="b"/>
              <a:pathLst>
                <a:path w="151" h="2330">
                  <a:moveTo>
                    <a:pt x="150" y="0"/>
                  </a:moveTo>
                  <a:lnTo>
                    <a:pt x="150" y="2329"/>
                  </a:lnTo>
                  <a:lnTo>
                    <a:pt x="0" y="2178"/>
                  </a:lnTo>
                  <a:lnTo>
                    <a:pt x="0" y="150"/>
                  </a:lnTo>
                  <a:lnTo>
                    <a:pt x="15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2400" y="6421320"/>
              <a:ext cx="836640" cy="54000"/>
            </a:xfrm>
            <a:custGeom>
              <a:avLst/>
              <a:gdLst/>
              <a:ahLst/>
              <a:rect l="l" t="t" r="r" b="b"/>
              <a:pathLst>
                <a:path w="2325" h="151">
                  <a:moveTo>
                    <a:pt x="2324" y="150"/>
                  </a:moveTo>
                  <a:lnTo>
                    <a:pt x="0" y="150"/>
                  </a:lnTo>
                  <a:lnTo>
                    <a:pt x="149" y="0"/>
                  </a:lnTo>
                  <a:lnTo>
                    <a:pt x="2173" y="0"/>
                  </a:lnTo>
                  <a:lnTo>
                    <a:pt x="2324" y="150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72400" y="5638680"/>
              <a:ext cx="54000" cy="838440"/>
            </a:xfrm>
            <a:custGeom>
              <a:avLst/>
              <a:gdLst/>
              <a:ahLst/>
              <a:rect l="l" t="t" r="r" b="b"/>
              <a:pathLst>
                <a:path w="151" h="2330">
                  <a:moveTo>
                    <a:pt x="0" y="2329"/>
                  </a:moveTo>
                  <a:lnTo>
                    <a:pt x="0" y="0"/>
                  </a:lnTo>
                  <a:lnTo>
                    <a:pt x="150" y="150"/>
                  </a:lnTo>
                  <a:lnTo>
                    <a:pt x="150" y="2178"/>
                  </a:lnTo>
                  <a:lnTo>
                    <a:pt x="0" y="2329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0000" y="5786280"/>
              <a:ext cx="544680" cy="544680"/>
            </a:xfrm>
            <a:custGeom>
              <a:avLst/>
              <a:gdLst/>
              <a:ahLst/>
              <a:rect l="l" t="t" r="r" b="b"/>
              <a:pathLst>
                <a:path w="1511" h="1512">
                  <a:moveTo>
                    <a:pt x="0" y="756"/>
                  </a:moveTo>
                  <a:lnTo>
                    <a:pt x="1510" y="0"/>
                  </a:lnTo>
                  <a:lnTo>
                    <a:pt x="1510" y="1511"/>
                  </a:lnTo>
                  <a:lnTo>
                    <a:pt x="0" y="756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480320"/>
            <a:ext cx="77724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685800"/>
            <a:ext cx="701028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tatystyk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ajmuje się gromadzeniem, porządkowaniem i opisywaniem  danych.                         Dane gromadzone są w różnoraki sposób: za pomocą sondaży, spisów, wywiadów lub badań naukowych,         a przedstawiane za pomocą tabel, różnego rodzaju diagramów i wykres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3429000"/>
          <a:ext cx="350532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429000"/>
                    <a:ext cx="35053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029200" y="4191120"/>
          <a:ext cx="3352680" cy="197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191120"/>
                    <a:ext cx="335268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"/>
          <p:cNvGrpSpPr/>
          <p:nvPr/>
        </p:nvGrpSpPr>
        <p:grpSpPr>
          <a:xfrm>
            <a:off x="8381880" y="6172200"/>
            <a:ext cx="762120" cy="684360"/>
            <a:chOff x="8381880" y="6172200"/>
            <a:chExt cx="762120" cy="684360"/>
          </a:xfrm>
        </p:grpSpPr>
        <p:sp>
          <p:nvSpPr>
            <p:cNvPr id="71" name=""/>
            <p:cNvSpPr/>
            <p:nvPr/>
          </p:nvSpPr>
          <p:spPr>
            <a:xfrm>
              <a:off x="8381880" y="6172200"/>
              <a:ext cx="762120" cy="684360"/>
            </a:xfrm>
            <a:custGeom>
              <a:avLst/>
              <a:gdLst/>
              <a:ahLst/>
              <a:rect l="l" t="t" r="r" b="b"/>
              <a:pathLst>
                <a:path w="2118" h="1902">
                  <a:moveTo>
                    <a:pt x="0" y="0"/>
                  </a:moveTo>
                  <a:lnTo>
                    <a:pt x="2117" y="0"/>
                  </a:lnTo>
                  <a:lnTo>
                    <a:pt x="2117" y="1901"/>
                  </a:lnTo>
                  <a:lnTo>
                    <a:pt x="0" y="1901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1880" y="6172200"/>
              <a:ext cx="762120" cy="4428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0" y="0"/>
                  </a:moveTo>
                  <a:lnTo>
                    <a:pt x="2117" y="0"/>
                  </a:lnTo>
                  <a:lnTo>
                    <a:pt x="1993" y="123"/>
                  </a:lnTo>
                  <a:lnTo>
                    <a:pt x="123" y="123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097920" y="6172200"/>
              <a:ext cx="4464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123" y="0"/>
                  </a:moveTo>
                  <a:lnTo>
                    <a:pt x="123" y="1901"/>
                  </a:lnTo>
                  <a:lnTo>
                    <a:pt x="0" y="1777"/>
                  </a:lnTo>
                  <a:lnTo>
                    <a:pt x="0" y="122"/>
                  </a:lnTo>
                  <a:lnTo>
                    <a:pt x="123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1880" y="6811920"/>
              <a:ext cx="762120" cy="4464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2117" y="123"/>
                  </a:moveTo>
                  <a:lnTo>
                    <a:pt x="0" y="123"/>
                  </a:lnTo>
                  <a:lnTo>
                    <a:pt x="123" y="0"/>
                  </a:lnTo>
                  <a:lnTo>
                    <a:pt x="1993" y="0"/>
                  </a:lnTo>
                  <a:lnTo>
                    <a:pt x="2117" y="123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1880" y="6172200"/>
              <a:ext cx="4464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0" y="1901"/>
                  </a:moveTo>
                  <a:lnTo>
                    <a:pt x="0" y="0"/>
                  </a:lnTo>
                  <a:lnTo>
                    <a:pt x="123" y="122"/>
                  </a:lnTo>
                  <a:lnTo>
                    <a:pt x="123" y="1777"/>
                  </a:lnTo>
                  <a:lnTo>
                    <a:pt x="0" y="1901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540640" y="6292800"/>
              <a:ext cx="446040" cy="446040"/>
            </a:xfrm>
            <a:custGeom>
              <a:avLst/>
              <a:gdLst/>
              <a:ahLst/>
              <a:rect l="l" t="t" r="r" b="b"/>
              <a:pathLst>
                <a:path w="1238" h="1237">
                  <a:moveTo>
                    <a:pt x="0" y="0"/>
                  </a:moveTo>
                  <a:lnTo>
                    <a:pt x="1237" y="619"/>
                  </a:lnTo>
                  <a:lnTo>
                    <a:pt x="0" y="1236"/>
                  </a:lnTo>
                  <a:lnTo>
                    <a:pt x="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457200"/>
            <a:ext cx="838188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bieraniem i porządkowaniem informacji zajmują się na całym świecie wyspecjalizowane biura i instytucje n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CBO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– Centrum Badania Opinii Społecznej – przeprowadza badania sondażow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OBO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Ośrodek Badania Opinii Publicznej – bada co ludzie myślą o sprawach społecz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G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– Główny Urząd Statystyczny – zbiera informacje dotyczące gospodarki, społeczeństwa, kultury mogące służyć do analizy sytuacji, zmian i tendencji występujących w tych dziedzina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OEC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Organizacja Współpracy Gospodarczej i Rozwoju              z siedzibą w Paryżu – zbiera informacje gospodarcze                         i  demograficzne z różnych kraj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001000" y="5943600"/>
            <a:ext cx="762120" cy="684360"/>
            <a:chOff x="8001000" y="5943600"/>
            <a:chExt cx="762120" cy="684360"/>
          </a:xfrm>
        </p:grpSpPr>
        <p:sp>
          <p:nvSpPr>
            <p:cNvPr id="79" name=""/>
            <p:cNvSpPr/>
            <p:nvPr/>
          </p:nvSpPr>
          <p:spPr>
            <a:xfrm>
              <a:off x="8001000" y="5943600"/>
              <a:ext cx="762120" cy="684360"/>
            </a:xfrm>
            <a:custGeom>
              <a:avLst/>
              <a:gdLst/>
              <a:ahLst/>
              <a:rect l="l" t="t" r="r" b="b"/>
              <a:pathLst>
                <a:path w="2118" h="1902">
                  <a:moveTo>
                    <a:pt x="0" y="0"/>
                  </a:moveTo>
                  <a:lnTo>
                    <a:pt x="2117" y="0"/>
                  </a:lnTo>
                  <a:lnTo>
                    <a:pt x="2117" y="1901"/>
                  </a:lnTo>
                  <a:lnTo>
                    <a:pt x="0" y="1901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01000" y="5943600"/>
              <a:ext cx="762120" cy="4428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0" y="0"/>
                  </a:moveTo>
                  <a:lnTo>
                    <a:pt x="2117" y="0"/>
                  </a:lnTo>
                  <a:lnTo>
                    <a:pt x="1993" y="123"/>
                  </a:lnTo>
                  <a:lnTo>
                    <a:pt x="123" y="123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71704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5" h="1902">
                  <a:moveTo>
                    <a:pt x="124" y="0"/>
                  </a:moveTo>
                  <a:lnTo>
                    <a:pt x="124" y="1901"/>
                  </a:lnTo>
                  <a:lnTo>
                    <a:pt x="0" y="1777"/>
                  </a:lnTo>
                  <a:lnTo>
                    <a:pt x="0" y="122"/>
                  </a:lnTo>
                  <a:lnTo>
                    <a:pt x="124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1000" y="6583320"/>
              <a:ext cx="762120" cy="4464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2117" y="123"/>
                  </a:moveTo>
                  <a:lnTo>
                    <a:pt x="0" y="123"/>
                  </a:lnTo>
                  <a:lnTo>
                    <a:pt x="123" y="0"/>
                  </a:lnTo>
                  <a:lnTo>
                    <a:pt x="1993" y="0"/>
                  </a:lnTo>
                  <a:lnTo>
                    <a:pt x="2117" y="123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0100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0" y="1901"/>
                  </a:moveTo>
                  <a:lnTo>
                    <a:pt x="0" y="0"/>
                  </a:lnTo>
                  <a:lnTo>
                    <a:pt x="123" y="122"/>
                  </a:lnTo>
                  <a:lnTo>
                    <a:pt x="123" y="1777"/>
                  </a:lnTo>
                  <a:lnTo>
                    <a:pt x="0" y="1901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59760" y="6064200"/>
              <a:ext cx="446040" cy="446040"/>
            </a:xfrm>
            <a:custGeom>
              <a:avLst/>
              <a:gdLst/>
              <a:ahLst/>
              <a:rect l="l" t="t" r="r" b="b"/>
              <a:pathLst>
                <a:path w="1238" h="1237">
                  <a:moveTo>
                    <a:pt x="0" y="0"/>
                  </a:moveTo>
                  <a:lnTo>
                    <a:pt x="1237" y="619"/>
                  </a:lnTo>
                  <a:lnTo>
                    <a:pt x="0" y="1236"/>
                  </a:lnTo>
                  <a:lnTo>
                    <a:pt x="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295280" y="304920"/>
            <a:ext cx="6551640" cy="4494240"/>
            <a:chOff x="1295280" y="304920"/>
            <a:chExt cx="6551640" cy="4494240"/>
          </a:xfrm>
        </p:grpSpPr>
        <p:sp>
          <p:nvSpPr>
            <p:cNvPr id="86" name=""/>
            <p:cNvSpPr/>
            <p:nvPr/>
          </p:nvSpPr>
          <p:spPr>
            <a:xfrm>
              <a:off x="1295280" y="304920"/>
              <a:ext cx="435240" cy="900000"/>
            </a:xfrm>
            <a:custGeom>
              <a:avLst/>
              <a:gdLst/>
              <a:ahLst/>
              <a:rect l="l" t="t" r="r" b="b"/>
              <a:pathLst>
                <a:path w="1209" h="2500">
                  <a:moveTo>
                    <a:pt x="0" y="1655"/>
                  </a:moveTo>
                  <a:lnTo>
                    <a:pt x="390" y="1616"/>
                  </a:lnTo>
                  <a:lnTo>
                    <a:pt x="397" y="1695"/>
                  </a:lnTo>
                  <a:lnTo>
                    <a:pt x="410" y="1765"/>
                  </a:lnTo>
                  <a:lnTo>
                    <a:pt x="424" y="1825"/>
                  </a:lnTo>
                  <a:lnTo>
                    <a:pt x="443" y="1875"/>
                  </a:lnTo>
                  <a:lnTo>
                    <a:pt x="476" y="1940"/>
                  </a:lnTo>
                  <a:lnTo>
                    <a:pt x="519" y="1985"/>
                  </a:lnTo>
                  <a:lnTo>
                    <a:pt x="568" y="2015"/>
                  </a:lnTo>
                  <a:lnTo>
                    <a:pt x="625" y="2025"/>
                  </a:lnTo>
                  <a:lnTo>
                    <a:pt x="665" y="2015"/>
                  </a:lnTo>
                  <a:lnTo>
                    <a:pt x="702" y="2005"/>
                  </a:lnTo>
                  <a:lnTo>
                    <a:pt x="732" y="1980"/>
                  </a:lnTo>
                  <a:lnTo>
                    <a:pt x="761" y="1950"/>
                  </a:lnTo>
                  <a:lnTo>
                    <a:pt x="781" y="1910"/>
                  </a:lnTo>
                  <a:lnTo>
                    <a:pt x="795" y="1865"/>
                  </a:lnTo>
                  <a:lnTo>
                    <a:pt x="805" y="1820"/>
                  </a:lnTo>
                  <a:lnTo>
                    <a:pt x="809" y="1775"/>
                  </a:lnTo>
                  <a:lnTo>
                    <a:pt x="805" y="1730"/>
                  </a:lnTo>
                  <a:lnTo>
                    <a:pt x="795" y="1685"/>
                  </a:lnTo>
                  <a:lnTo>
                    <a:pt x="783" y="1645"/>
                  </a:lnTo>
                  <a:lnTo>
                    <a:pt x="763" y="1611"/>
                  </a:lnTo>
                  <a:lnTo>
                    <a:pt x="732" y="1571"/>
                  </a:lnTo>
                  <a:lnTo>
                    <a:pt x="686" y="1537"/>
                  </a:lnTo>
                  <a:lnTo>
                    <a:pt x="627" y="1502"/>
                  </a:lnTo>
                  <a:lnTo>
                    <a:pt x="552" y="1472"/>
                  </a:lnTo>
                  <a:lnTo>
                    <a:pt x="426" y="1407"/>
                  </a:lnTo>
                  <a:lnTo>
                    <a:pt x="320" y="1337"/>
                  </a:lnTo>
                  <a:lnTo>
                    <a:pt x="233" y="1257"/>
                  </a:lnTo>
                  <a:lnTo>
                    <a:pt x="167" y="1177"/>
                  </a:lnTo>
                  <a:lnTo>
                    <a:pt x="114" y="1078"/>
                  </a:lnTo>
                  <a:lnTo>
                    <a:pt x="79" y="963"/>
                  </a:lnTo>
                  <a:lnTo>
                    <a:pt x="57" y="838"/>
                  </a:lnTo>
                  <a:lnTo>
                    <a:pt x="51" y="708"/>
                  </a:lnTo>
                  <a:lnTo>
                    <a:pt x="53" y="614"/>
                  </a:lnTo>
                  <a:lnTo>
                    <a:pt x="63" y="524"/>
                  </a:lnTo>
                  <a:lnTo>
                    <a:pt x="83" y="439"/>
                  </a:lnTo>
                  <a:lnTo>
                    <a:pt x="110" y="354"/>
                  </a:lnTo>
                  <a:lnTo>
                    <a:pt x="142" y="274"/>
                  </a:lnTo>
                  <a:lnTo>
                    <a:pt x="182" y="205"/>
                  </a:lnTo>
                  <a:lnTo>
                    <a:pt x="233" y="145"/>
                  </a:lnTo>
                  <a:lnTo>
                    <a:pt x="290" y="95"/>
                  </a:lnTo>
                  <a:lnTo>
                    <a:pt x="353" y="55"/>
                  </a:lnTo>
                  <a:lnTo>
                    <a:pt x="430" y="20"/>
                  </a:lnTo>
                  <a:lnTo>
                    <a:pt x="517" y="5"/>
                  </a:lnTo>
                  <a:lnTo>
                    <a:pt x="616" y="0"/>
                  </a:lnTo>
                  <a:lnTo>
                    <a:pt x="734" y="10"/>
                  </a:lnTo>
                  <a:lnTo>
                    <a:pt x="840" y="40"/>
                  </a:lnTo>
                  <a:lnTo>
                    <a:pt x="927" y="95"/>
                  </a:lnTo>
                  <a:lnTo>
                    <a:pt x="1004" y="175"/>
                  </a:lnTo>
                  <a:lnTo>
                    <a:pt x="1063" y="269"/>
                  </a:lnTo>
                  <a:lnTo>
                    <a:pt x="1109" y="394"/>
                  </a:lnTo>
                  <a:lnTo>
                    <a:pt x="1142" y="544"/>
                  </a:lnTo>
                  <a:lnTo>
                    <a:pt x="1164" y="723"/>
                  </a:lnTo>
                  <a:lnTo>
                    <a:pt x="776" y="763"/>
                  </a:lnTo>
                  <a:lnTo>
                    <a:pt x="765" y="689"/>
                  </a:lnTo>
                  <a:lnTo>
                    <a:pt x="752" y="619"/>
                  </a:lnTo>
                  <a:lnTo>
                    <a:pt x="734" y="569"/>
                  </a:lnTo>
                  <a:lnTo>
                    <a:pt x="712" y="524"/>
                  </a:lnTo>
                  <a:lnTo>
                    <a:pt x="684" y="494"/>
                  </a:lnTo>
                  <a:lnTo>
                    <a:pt x="653" y="469"/>
                  </a:lnTo>
                  <a:lnTo>
                    <a:pt x="616" y="454"/>
                  </a:lnTo>
                  <a:lnTo>
                    <a:pt x="574" y="454"/>
                  </a:lnTo>
                  <a:lnTo>
                    <a:pt x="539" y="454"/>
                  </a:lnTo>
                  <a:lnTo>
                    <a:pt x="511" y="464"/>
                  </a:lnTo>
                  <a:lnTo>
                    <a:pt x="487" y="484"/>
                  </a:lnTo>
                  <a:lnTo>
                    <a:pt x="467" y="509"/>
                  </a:lnTo>
                  <a:lnTo>
                    <a:pt x="450" y="534"/>
                  </a:lnTo>
                  <a:lnTo>
                    <a:pt x="438" y="569"/>
                  </a:lnTo>
                  <a:lnTo>
                    <a:pt x="432" y="599"/>
                  </a:lnTo>
                  <a:lnTo>
                    <a:pt x="430" y="639"/>
                  </a:lnTo>
                  <a:lnTo>
                    <a:pt x="430" y="669"/>
                  </a:lnTo>
                  <a:lnTo>
                    <a:pt x="436" y="694"/>
                  </a:lnTo>
                  <a:lnTo>
                    <a:pt x="448" y="718"/>
                  </a:lnTo>
                  <a:lnTo>
                    <a:pt x="460" y="743"/>
                  </a:lnTo>
                  <a:lnTo>
                    <a:pt x="480" y="763"/>
                  </a:lnTo>
                  <a:lnTo>
                    <a:pt x="509" y="788"/>
                  </a:lnTo>
                  <a:lnTo>
                    <a:pt x="548" y="813"/>
                  </a:lnTo>
                  <a:lnTo>
                    <a:pt x="598" y="833"/>
                  </a:lnTo>
                  <a:lnTo>
                    <a:pt x="724" y="883"/>
                  </a:lnTo>
                  <a:lnTo>
                    <a:pt x="829" y="938"/>
                  </a:lnTo>
                  <a:lnTo>
                    <a:pt x="916" y="993"/>
                  </a:lnTo>
                  <a:lnTo>
                    <a:pt x="987" y="1048"/>
                  </a:lnTo>
                  <a:lnTo>
                    <a:pt x="1040" y="1103"/>
                  </a:lnTo>
                  <a:lnTo>
                    <a:pt x="1085" y="1167"/>
                  </a:lnTo>
                  <a:lnTo>
                    <a:pt x="1125" y="1237"/>
                  </a:lnTo>
                  <a:lnTo>
                    <a:pt x="1155" y="1317"/>
                  </a:lnTo>
                  <a:lnTo>
                    <a:pt x="1178" y="1397"/>
                  </a:lnTo>
                  <a:lnTo>
                    <a:pt x="1194" y="1482"/>
                  </a:lnTo>
                  <a:lnTo>
                    <a:pt x="1204" y="1576"/>
                  </a:lnTo>
                  <a:lnTo>
                    <a:pt x="1208" y="1675"/>
                  </a:lnTo>
                  <a:lnTo>
                    <a:pt x="1202" y="1785"/>
                  </a:lnTo>
                  <a:lnTo>
                    <a:pt x="1188" y="1895"/>
                  </a:lnTo>
                  <a:lnTo>
                    <a:pt x="1166" y="1995"/>
                  </a:lnTo>
                  <a:lnTo>
                    <a:pt x="1138" y="2099"/>
                  </a:lnTo>
                  <a:lnTo>
                    <a:pt x="1097" y="2194"/>
                  </a:lnTo>
                  <a:lnTo>
                    <a:pt x="1050" y="2274"/>
                  </a:lnTo>
                  <a:lnTo>
                    <a:pt x="998" y="2334"/>
                  </a:lnTo>
                  <a:lnTo>
                    <a:pt x="939" y="2394"/>
                  </a:lnTo>
                  <a:lnTo>
                    <a:pt x="870" y="2434"/>
                  </a:lnTo>
                  <a:lnTo>
                    <a:pt x="793" y="2469"/>
                  </a:lnTo>
                  <a:lnTo>
                    <a:pt x="710" y="2489"/>
                  </a:lnTo>
                  <a:lnTo>
                    <a:pt x="618" y="2499"/>
                  </a:lnTo>
                  <a:lnTo>
                    <a:pt x="460" y="2479"/>
                  </a:lnTo>
                  <a:lnTo>
                    <a:pt x="331" y="2434"/>
                  </a:lnTo>
                  <a:lnTo>
                    <a:pt x="226" y="2364"/>
                  </a:lnTo>
                  <a:lnTo>
                    <a:pt x="150" y="2259"/>
                  </a:lnTo>
                  <a:lnTo>
                    <a:pt x="90" y="2134"/>
                  </a:lnTo>
                  <a:lnTo>
                    <a:pt x="44" y="1990"/>
                  </a:lnTo>
                  <a:lnTo>
                    <a:pt x="16" y="1830"/>
                  </a:lnTo>
                  <a:lnTo>
                    <a:pt x="0" y="1655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03240" y="318960"/>
              <a:ext cx="406440" cy="871560"/>
            </a:xfrm>
            <a:custGeom>
              <a:avLst/>
              <a:gdLst/>
              <a:ahLst/>
              <a:rect l="l" t="t" r="r" b="b"/>
              <a:pathLst>
                <a:path w="1129" h="2420">
                  <a:moveTo>
                    <a:pt x="412" y="1033"/>
                  </a:moveTo>
                  <a:lnTo>
                    <a:pt x="512" y="1033"/>
                  </a:lnTo>
                  <a:lnTo>
                    <a:pt x="567" y="1023"/>
                  </a:lnTo>
                  <a:lnTo>
                    <a:pt x="613" y="1013"/>
                  </a:lnTo>
                  <a:lnTo>
                    <a:pt x="650" y="988"/>
                  </a:lnTo>
                  <a:lnTo>
                    <a:pt x="682" y="958"/>
                  </a:lnTo>
                  <a:lnTo>
                    <a:pt x="701" y="913"/>
                  </a:lnTo>
                  <a:lnTo>
                    <a:pt x="717" y="868"/>
                  </a:lnTo>
                  <a:lnTo>
                    <a:pt x="725" y="813"/>
                  </a:lnTo>
                  <a:lnTo>
                    <a:pt x="729" y="763"/>
                  </a:lnTo>
                  <a:lnTo>
                    <a:pt x="725" y="708"/>
                  </a:lnTo>
                  <a:lnTo>
                    <a:pt x="719" y="654"/>
                  </a:lnTo>
                  <a:lnTo>
                    <a:pt x="706" y="614"/>
                  </a:lnTo>
                  <a:lnTo>
                    <a:pt x="688" y="574"/>
                  </a:lnTo>
                  <a:lnTo>
                    <a:pt x="662" y="534"/>
                  </a:lnTo>
                  <a:lnTo>
                    <a:pt x="627" y="514"/>
                  </a:lnTo>
                  <a:lnTo>
                    <a:pt x="583" y="494"/>
                  </a:lnTo>
                  <a:lnTo>
                    <a:pt x="530" y="494"/>
                  </a:lnTo>
                  <a:lnTo>
                    <a:pt x="412" y="494"/>
                  </a:lnTo>
                  <a:lnTo>
                    <a:pt x="412" y="1033"/>
                  </a:lnTo>
                  <a:lnTo>
                    <a:pt x="412" y="1033"/>
                  </a:lnTo>
                  <a:close/>
                  <a:moveTo>
                    <a:pt x="0" y="0"/>
                  </a:moveTo>
                  <a:lnTo>
                    <a:pt x="684" y="0"/>
                  </a:lnTo>
                  <a:lnTo>
                    <a:pt x="787" y="15"/>
                  </a:lnTo>
                  <a:lnTo>
                    <a:pt x="879" y="50"/>
                  </a:lnTo>
                  <a:lnTo>
                    <a:pt x="956" y="110"/>
                  </a:lnTo>
                  <a:lnTo>
                    <a:pt x="1019" y="194"/>
                  </a:lnTo>
                  <a:lnTo>
                    <a:pt x="1065" y="299"/>
                  </a:lnTo>
                  <a:lnTo>
                    <a:pt x="1100" y="429"/>
                  </a:lnTo>
                  <a:lnTo>
                    <a:pt x="1120" y="574"/>
                  </a:lnTo>
                  <a:lnTo>
                    <a:pt x="1128" y="743"/>
                  </a:lnTo>
                  <a:lnTo>
                    <a:pt x="1120" y="913"/>
                  </a:lnTo>
                  <a:lnTo>
                    <a:pt x="1098" y="1068"/>
                  </a:lnTo>
                  <a:lnTo>
                    <a:pt x="1061" y="1197"/>
                  </a:lnTo>
                  <a:lnTo>
                    <a:pt x="1008" y="1317"/>
                  </a:lnTo>
                  <a:lnTo>
                    <a:pt x="938" y="1402"/>
                  </a:lnTo>
                  <a:lnTo>
                    <a:pt x="852" y="1472"/>
                  </a:lnTo>
                  <a:lnTo>
                    <a:pt x="751" y="1507"/>
                  </a:lnTo>
                  <a:lnTo>
                    <a:pt x="638" y="1522"/>
                  </a:lnTo>
                  <a:lnTo>
                    <a:pt x="412" y="1522"/>
                  </a:lnTo>
                  <a:lnTo>
                    <a:pt x="412" y="2419"/>
                  </a:lnTo>
                  <a:lnTo>
                    <a:pt x="0" y="24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68360" y="304920"/>
              <a:ext cx="497160" cy="900000"/>
            </a:xfrm>
            <a:custGeom>
              <a:avLst/>
              <a:gdLst/>
              <a:ahLst/>
              <a:rect l="l" t="t" r="r" b="b"/>
              <a:pathLst>
                <a:path w="1381" h="2500">
                  <a:moveTo>
                    <a:pt x="409" y="1257"/>
                  </a:moveTo>
                  <a:lnTo>
                    <a:pt x="414" y="1422"/>
                  </a:lnTo>
                  <a:lnTo>
                    <a:pt x="427" y="1566"/>
                  </a:lnTo>
                  <a:lnTo>
                    <a:pt x="451" y="1685"/>
                  </a:lnTo>
                  <a:lnTo>
                    <a:pt x="487" y="1780"/>
                  </a:lnTo>
                  <a:lnTo>
                    <a:pt x="527" y="1850"/>
                  </a:lnTo>
                  <a:lnTo>
                    <a:pt x="576" y="1900"/>
                  </a:lnTo>
                  <a:lnTo>
                    <a:pt x="630" y="1930"/>
                  </a:lnTo>
                  <a:lnTo>
                    <a:pt x="691" y="1940"/>
                  </a:lnTo>
                  <a:lnTo>
                    <a:pt x="753" y="1930"/>
                  </a:lnTo>
                  <a:lnTo>
                    <a:pt x="807" y="1900"/>
                  </a:lnTo>
                  <a:lnTo>
                    <a:pt x="856" y="1855"/>
                  </a:lnTo>
                  <a:lnTo>
                    <a:pt x="897" y="1785"/>
                  </a:lnTo>
                  <a:lnTo>
                    <a:pt x="929" y="1690"/>
                  </a:lnTo>
                  <a:lnTo>
                    <a:pt x="950" y="1566"/>
                  </a:lnTo>
                  <a:lnTo>
                    <a:pt x="964" y="1412"/>
                  </a:lnTo>
                  <a:lnTo>
                    <a:pt x="970" y="1222"/>
                  </a:lnTo>
                  <a:lnTo>
                    <a:pt x="964" y="1063"/>
                  </a:lnTo>
                  <a:lnTo>
                    <a:pt x="950" y="928"/>
                  </a:lnTo>
                  <a:lnTo>
                    <a:pt x="929" y="813"/>
                  </a:lnTo>
                  <a:lnTo>
                    <a:pt x="895" y="723"/>
                  </a:lnTo>
                  <a:lnTo>
                    <a:pt x="854" y="654"/>
                  </a:lnTo>
                  <a:lnTo>
                    <a:pt x="803" y="604"/>
                  </a:lnTo>
                  <a:lnTo>
                    <a:pt x="748" y="574"/>
                  </a:lnTo>
                  <a:lnTo>
                    <a:pt x="687" y="569"/>
                  </a:lnTo>
                  <a:lnTo>
                    <a:pt x="625" y="574"/>
                  </a:lnTo>
                  <a:lnTo>
                    <a:pt x="572" y="604"/>
                  </a:lnTo>
                  <a:lnTo>
                    <a:pt x="527" y="654"/>
                  </a:lnTo>
                  <a:lnTo>
                    <a:pt x="487" y="728"/>
                  </a:lnTo>
                  <a:lnTo>
                    <a:pt x="451" y="818"/>
                  </a:lnTo>
                  <a:lnTo>
                    <a:pt x="427" y="938"/>
                  </a:lnTo>
                  <a:lnTo>
                    <a:pt x="414" y="1083"/>
                  </a:lnTo>
                  <a:lnTo>
                    <a:pt x="409" y="1257"/>
                  </a:lnTo>
                  <a:lnTo>
                    <a:pt x="409" y="1257"/>
                  </a:lnTo>
                  <a:close/>
                  <a:moveTo>
                    <a:pt x="0" y="1252"/>
                  </a:moveTo>
                  <a:lnTo>
                    <a:pt x="11" y="968"/>
                  </a:lnTo>
                  <a:lnTo>
                    <a:pt x="44" y="723"/>
                  </a:lnTo>
                  <a:lnTo>
                    <a:pt x="101" y="509"/>
                  </a:lnTo>
                  <a:lnTo>
                    <a:pt x="182" y="329"/>
                  </a:lnTo>
                  <a:lnTo>
                    <a:pt x="281" y="180"/>
                  </a:lnTo>
                  <a:lnTo>
                    <a:pt x="397" y="80"/>
                  </a:lnTo>
                  <a:lnTo>
                    <a:pt x="533" y="20"/>
                  </a:lnTo>
                  <a:lnTo>
                    <a:pt x="687" y="0"/>
                  </a:lnTo>
                  <a:lnTo>
                    <a:pt x="842" y="20"/>
                  </a:lnTo>
                  <a:lnTo>
                    <a:pt x="982" y="80"/>
                  </a:lnTo>
                  <a:lnTo>
                    <a:pt x="1100" y="180"/>
                  </a:lnTo>
                  <a:lnTo>
                    <a:pt x="1201" y="324"/>
                  </a:lnTo>
                  <a:lnTo>
                    <a:pt x="1280" y="499"/>
                  </a:lnTo>
                  <a:lnTo>
                    <a:pt x="1335" y="713"/>
                  </a:lnTo>
                  <a:lnTo>
                    <a:pt x="1367" y="953"/>
                  </a:lnTo>
                  <a:lnTo>
                    <a:pt x="1380" y="1232"/>
                  </a:lnTo>
                  <a:lnTo>
                    <a:pt x="1374" y="1432"/>
                  </a:lnTo>
                  <a:lnTo>
                    <a:pt x="1361" y="1616"/>
                  </a:lnTo>
                  <a:lnTo>
                    <a:pt x="1335" y="1775"/>
                  </a:lnTo>
                  <a:lnTo>
                    <a:pt x="1301" y="1925"/>
                  </a:lnTo>
                  <a:lnTo>
                    <a:pt x="1258" y="2055"/>
                  </a:lnTo>
                  <a:lnTo>
                    <a:pt x="1205" y="2164"/>
                  </a:lnTo>
                  <a:lnTo>
                    <a:pt x="1144" y="2264"/>
                  </a:lnTo>
                  <a:lnTo>
                    <a:pt x="1076" y="2349"/>
                  </a:lnTo>
                  <a:lnTo>
                    <a:pt x="997" y="2414"/>
                  </a:lnTo>
                  <a:lnTo>
                    <a:pt x="906" y="2459"/>
                  </a:lnTo>
                  <a:lnTo>
                    <a:pt x="809" y="2489"/>
                  </a:lnTo>
                  <a:lnTo>
                    <a:pt x="704" y="2499"/>
                  </a:lnTo>
                  <a:lnTo>
                    <a:pt x="595" y="2489"/>
                  </a:lnTo>
                  <a:lnTo>
                    <a:pt x="499" y="2464"/>
                  </a:lnTo>
                  <a:lnTo>
                    <a:pt x="407" y="2424"/>
                  </a:lnTo>
                  <a:lnTo>
                    <a:pt x="330" y="2369"/>
                  </a:lnTo>
                  <a:lnTo>
                    <a:pt x="259" y="2294"/>
                  </a:lnTo>
                  <a:lnTo>
                    <a:pt x="198" y="2199"/>
                  </a:lnTo>
                  <a:lnTo>
                    <a:pt x="140" y="2084"/>
                  </a:lnTo>
                  <a:lnTo>
                    <a:pt x="92" y="1955"/>
                  </a:lnTo>
                  <a:lnTo>
                    <a:pt x="50" y="1805"/>
                  </a:lnTo>
                  <a:lnTo>
                    <a:pt x="22" y="1635"/>
                  </a:lnTo>
                  <a:lnTo>
                    <a:pt x="4" y="1457"/>
                  </a:lnTo>
                  <a:lnTo>
                    <a:pt x="0" y="1252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7720" y="304920"/>
              <a:ext cx="435240" cy="900000"/>
            </a:xfrm>
            <a:custGeom>
              <a:avLst/>
              <a:gdLst/>
              <a:ahLst/>
              <a:rect l="l" t="t" r="r" b="b"/>
              <a:pathLst>
                <a:path w="1209" h="2500">
                  <a:moveTo>
                    <a:pt x="0" y="1655"/>
                  </a:moveTo>
                  <a:lnTo>
                    <a:pt x="389" y="1616"/>
                  </a:lnTo>
                  <a:lnTo>
                    <a:pt x="397" y="1695"/>
                  </a:lnTo>
                  <a:lnTo>
                    <a:pt x="409" y="1765"/>
                  </a:lnTo>
                  <a:lnTo>
                    <a:pt x="423" y="1825"/>
                  </a:lnTo>
                  <a:lnTo>
                    <a:pt x="442" y="1875"/>
                  </a:lnTo>
                  <a:lnTo>
                    <a:pt x="476" y="1940"/>
                  </a:lnTo>
                  <a:lnTo>
                    <a:pt x="519" y="1985"/>
                  </a:lnTo>
                  <a:lnTo>
                    <a:pt x="567" y="2015"/>
                  </a:lnTo>
                  <a:lnTo>
                    <a:pt x="624" y="2025"/>
                  </a:lnTo>
                  <a:lnTo>
                    <a:pt x="663" y="2015"/>
                  </a:lnTo>
                  <a:lnTo>
                    <a:pt x="701" y="2005"/>
                  </a:lnTo>
                  <a:lnTo>
                    <a:pt x="732" y="1980"/>
                  </a:lnTo>
                  <a:lnTo>
                    <a:pt x="760" y="1950"/>
                  </a:lnTo>
                  <a:lnTo>
                    <a:pt x="780" y="1910"/>
                  </a:lnTo>
                  <a:lnTo>
                    <a:pt x="795" y="1865"/>
                  </a:lnTo>
                  <a:lnTo>
                    <a:pt x="804" y="1820"/>
                  </a:lnTo>
                  <a:lnTo>
                    <a:pt x="808" y="1775"/>
                  </a:lnTo>
                  <a:lnTo>
                    <a:pt x="804" y="1730"/>
                  </a:lnTo>
                  <a:lnTo>
                    <a:pt x="795" y="1685"/>
                  </a:lnTo>
                  <a:lnTo>
                    <a:pt x="782" y="1645"/>
                  </a:lnTo>
                  <a:lnTo>
                    <a:pt x="762" y="1611"/>
                  </a:lnTo>
                  <a:lnTo>
                    <a:pt x="732" y="1571"/>
                  </a:lnTo>
                  <a:lnTo>
                    <a:pt x="685" y="1537"/>
                  </a:lnTo>
                  <a:lnTo>
                    <a:pt x="626" y="1502"/>
                  </a:lnTo>
                  <a:lnTo>
                    <a:pt x="552" y="1472"/>
                  </a:lnTo>
                  <a:lnTo>
                    <a:pt x="425" y="1407"/>
                  </a:lnTo>
                  <a:lnTo>
                    <a:pt x="320" y="1337"/>
                  </a:lnTo>
                  <a:lnTo>
                    <a:pt x="231" y="1257"/>
                  </a:lnTo>
                  <a:lnTo>
                    <a:pt x="166" y="1177"/>
                  </a:lnTo>
                  <a:lnTo>
                    <a:pt x="113" y="1078"/>
                  </a:lnTo>
                  <a:lnTo>
                    <a:pt x="79" y="963"/>
                  </a:lnTo>
                  <a:lnTo>
                    <a:pt x="57" y="838"/>
                  </a:lnTo>
                  <a:lnTo>
                    <a:pt x="50" y="708"/>
                  </a:lnTo>
                  <a:lnTo>
                    <a:pt x="52" y="614"/>
                  </a:lnTo>
                  <a:lnTo>
                    <a:pt x="63" y="524"/>
                  </a:lnTo>
                  <a:lnTo>
                    <a:pt x="83" y="439"/>
                  </a:lnTo>
                  <a:lnTo>
                    <a:pt x="109" y="354"/>
                  </a:lnTo>
                  <a:lnTo>
                    <a:pt x="142" y="274"/>
                  </a:lnTo>
                  <a:lnTo>
                    <a:pt x="182" y="205"/>
                  </a:lnTo>
                  <a:lnTo>
                    <a:pt x="231" y="145"/>
                  </a:lnTo>
                  <a:lnTo>
                    <a:pt x="289" y="95"/>
                  </a:lnTo>
                  <a:lnTo>
                    <a:pt x="352" y="55"/>
                  </a:lnTo>
                  <a:lnTo>
                    <a:pt x="429" y="20"/>
                  </a:lnTo>
                  <a:lnTo>
                    <a:pt x="517" y="5"/>
                  </a:lnTo>
                  <a:lnTo>
                    <a:pt x="616" y="0"/>
                  </a:lnTo>
                  <a:lnTo>
                    <a:pt x="734" y="10"/>
                  </a:lnTo>
                  <a:lnTo>
                    <a:pt x="839" y="40"/>
                  </a:lnTo>
                  <a:lnTo>
                    <a:pt x="926" y="95"/>
                  </a:lnTo>
                  <a:lnTo>
                    <a:pt x="1003" y="175"/>
                  </a:lnTo>
                  <a:lnTo>
                    <a:pt x="1062" y="269"/>
                  </a:lnTo>
                  <a:lnTo>
                    <a:pt x="1109" y="394"/>
                  </a:lnTo>
                  <a:lnTo>
                    <a:pt x="1141" y="544"/>
                  </a:lnTo>
                  <a:lnTo>
                    <a:pt x="1163" y="723"/>
                  </a:lnTo>
                  <a:lnTo>
                    <a:pt x="776" y="763"/>
                  </a:lnTo>
                  <a:lnTo>
                    <a:pt x="764" y="689"/>
                  </a:lnTo>
                  <a:lnTo>
                    <a:pt x="752" y="619"/>
                  </a:lnTo>
                  <a:lnTo>
                    <a:pt x="734" y="569"/>
                  </a:lnTo>
                  <a:lnTo>
                    <a:pt x="712" y="524"/>
                  </a:lnTo>
                  <a:lnTo>
                    <a:pt x="683" y="494"/>
                  </a:lnTo>
                  <a:lnTo>
                    <a:pt x="653" y="469"/>
                  </a:lnTo>
                  <a:lnTo>
                    <a:pt x="616" y="454"/>
                  </a:lnTo>
                  <a:lnTo>
                    <a:pt x="574" y="454"/>
                  </a:lnTo>
                  <a:lnTo>
                    <a:pt x="539" y="454"/>
                  </a:lnTo>
                  <a:lnTo>
                    <a:pt x="510" y="464"/>
                  </a:lnTo>
                  <a:lnTo>
                    <a:pt x="486" y="484"/>
                  </a:lnTo>
                  <a:lnTo>
                    <a:pt x="466" y="509"/>
                  </a:lnTo>
                  <a:lnTo>
                    <a:pt x="449" y="534"/>
                  </a:lnTo>
                  <a:lnTo>
                    <a:pt x="438" y="569"/>
                  </a:lnTo>
                  <a:lnTo>
                    <a:pt x="431" y="599"/>
                  </a:lnTo>
                  <a:lnTo>
                    <a:pt x="429" y="639"/>
                  </a:lnTo>
                  <a:lnTo>
                    <a:pt x="429" y="669"/>
                  </a:lnTo>
                  <a:lnTo>
                    <a:pt x="436" y="694"/>
                  </a:lnTo>
                  <a:lnTo>
                    <a:pt x="446" y="718"/>
                  </a:lnTo>
                  <a:lnTo>
                    <a:pt x="460" y="743"/>
                  </a:lnTo>
                  <a:lnTo>
                    <a:pt x="480" y="763"/>
                  </a:lnTo>
                  <a:lnTo>
                    <a:pt x="508" y="788"/>
                  </a:lnTo>
                  <a:lnTo>
                    <a:pt x="547" y="813"/>
                  </a:lnTo>
                  <a:lnTo>
                    <a:pt x="598" y="833"/>
                  </a:lnTo>
                  <a:lnTo>
                    <a:pt x="723" y="883"/>
                  </a:lnTo>
                  <a:lnTo>
                    <a:pt x="828" y="938"/>
                  </a:lnTo>
                  <a:lnTo>
                    <a:pt x="916" y="993"/>
                  </a:lnTo>
                  <a:lnTo>
                    <a:pt x="985" y="1048"/>
                  </a:lnTo>
                  <a:lnTo>
                    <a:pt x="1038" y="1103"/>
                  </a:lnTo>
                  <a:lnTo>
                    <a:pt x="1084" y="1167"/>
                  </a:lnTo>
                  <a:lnTo>
                    <a:pt x="1124" y="1237"/>
                  </a:lnTo>
                  <a:lnTo>
                    <a:pt x="1155" y="1317"/>
                  </a:lnTo>
                  <a:lnTo>
                    <a:pt x="1177" y="1397"/>
                  </a:lnTo>
                  <a:lnTo>
                    <a:pt x="1194" y="1482"/>
                  </a:lnTo>
                  <a:lnTo>
                    <a:pt x="1202" y="1576"/>
                  </a:lnTo>
                  <a:lnTo>
                    <a:pt x="1208" y="1675"/>
                  </a:lnTo>
                  <a:lnTo>
                    <a:pt x="1200" y="1785"/>
                  </a:lnTo>
                  <a:lnTo>
                    <a:pt x="1188" y="1895"/>
                  </a:lnTo>
                  <a:lnTo>
                    <a:pt x="1166" y="1995"/>
                  </a:lnTo>
                  <a:lnTo>
                    <a:pt x="1137" y="2099"/>
                  </a:lnTo>
                  <a:lnTo>
                    <a:pt x="1096" y="2194"/>
                  </a:lnTo>
                  <a:lnTo>
                    <a:pt x="1050" y="2274"/>
                  </a:lnTo>
                  <a:lnTo>
                    <a:pt x="997" y="2334"/>
                  </a:lnTo>
                  <a:lnTo>
                    <a:pt x="938" y="2394"/>
                  </a:lnTo>
                  <a:lnTo>
                    <a:pt x="870" y="2434"/>
                  </a:lnTo>
                  <a:lnTo>
                    <a:pt x="793" y="2469"/>
                  </a:lnTo>
                  <a:lnTo>
                    <a:pt x="710" y="2489"/>
                  </a:lnTo>
                  <a:lnTo>
                    <a:pt x="618" y="2499"/>
                  </a:lnTo>
                  <a:lnTo>
                    <a:pt x="460" y="2479"/>
                  </a:lnTo>
                  <a:lnTo>
                    <a:pt x="330" y="2434"/>
                  </a:lnTo>
                  <a:lnTo>
                    <a:pt x="225" y="2364"/>
                  </a:lnTo>
                  <a:lnTo>
                    <a:pt x="148" y="2259"/>
                  </a:lnTo>
                  <a:lnTo>
                    <a:pt x="89" y="2134"/>
                  </a:lnTo>
                  <a:lnTo>
                    <a:pt x="43" y="1990"/>
                  </a:lnTo>
                  <a:lnTo>
                    <a:pt x="14" y="1830"/>
                  </a:lnTo>
                  <a:lnTo>
                    <a:pt x="0" y="1655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08400" y="304920"/>
              <a:ext cx="496800" cy="900000"/>
            </a:xfrm>
            <a:custGeom>
              <a:avLst/>
              <a:gdLst/>
              <a:ahLst/>
              <a:rect l="l" t="t" r="r" b="b"/>
              <a:pathLst>
                <a:path w="1380" h="2500">
                  <a:moveTo>
                    <a:pt x="411" y="1257"/>
                  </a:moveTo>
                  <a:lnTo>
                    <a:pt x="415" y="1422"/>
                  </a:lnTo>
                  <a:lnTo>
                    <a:pt x="428" y="1566"/>
                  </a:lnTo>
                  <a:lnTo>
                    <a:pt x="452" y="1685"/>
                  </a:lnTo>
                  <a:lnTo>
                    <a:pt x="487" y="1780"/>
                  </a:lnTo>
                  <a:lnTo>
                    <a:pt x="527" y="1850"/>
                  </a:lnTo>
                  <a:lnTo>
                    <a:pt x="575" y="1900"/>
                  </a:lnTo>
                  <a:lnTo>
                    <a:pt x="630" y="1930"/>
                  </a:lnTo>
                  <a:lnTo>
                    <a:pt x="691" y="1940"/>
                  </a:lnTo>
                  <a:lnTo>
                    <a:pt x="752" y="1930"/>
                  </a:lnTo>
                  <a:lnTo>
                    <a:pt x="807" y="1900"/>
                  </a:lnTo>
                  <a:lnTo>
                    <a:pt x="856" y="1855"/>
                  </a:lnTo>
                  <a:lnTo>
                    <a:pt x="898" y="1785"/>
                  </a:lnTo>
                  <a:lnTo>
                    <a:pt x="928" y="1690"/>
                  </a:lnTo>
                  <a:lnTo>
                    <a:pt x="950" y="1566"/>
                  </a:lnTo>
                  <a:lnTo>
                    <a:pt x="963" y="1412"/>
                  </a:lnTo>
                  <a:lnTo>
                    <a:pt x="969" y="1222"/>
                  </a:lnTo>
                  <a:lnTo>
                    <a:pt x="963" y="1063"/>
                  </a:lnTo>
                  <a:lnTo>
                    <a:pt x="950" y="928"/>
                  </a:lnTo>
                  <a:lnTo>
                    <a:pt x="928" y="813"/>
                  </a:lnTo>
                  <a:lnTo>
                    <a:pt x="894" y="723"/>
                  </a:lnTo>
                  <a:lnTo>
                    <a:pt x="853" y="654"/>
                  </a:lnTo>
                  <a:lnTo>
                    <a:pt x="803" y="604"/>
                  </a:lnTo>
                  <a:lnTo>
                    <a:pt x="748" y="574"/>
                  </a:lnTo>
                  <a:lnTo>
                    <a:pt x="687" y="569"/>
                  </a:lnTo>
                  <a:lnTo>
                    <a:pt x="626" y="574"/>
                  </a:lnTo>
                  <a:lnTo>
                    <a:pt x="573" y="604"/>
                  </a:lnTo>
                  <a:lnTo>
                    <a:pt x="527" y="654"/>
                  </a:lnTo>
                  <a:lnTo>
                    <a:pt x="487" y="728"/>
                  </a:lnTo>
                  <a:lnTo>
                    <a:pt x="452" y="818"/>
                  </a:lnTo>
                  <a:lnTo>
                    <a:pt x="428" y="938"/>
                  </a:lnTo>
                  <a:lnTo>
                    <a:pt x="415" y="1083"/>
                  </a:lnTo>
                  <a:lnTo>
                    <a:pt x="411" y="1257"/>
                  </a:lnTo>
                  <a:lnTo>
                    <a:pt x="411" y="1257"/>
                  </a:lnTo>
                  <a:close/>
                  <a:moveTo>
                    <a:pt x="0" y="1252"/>
                  </a:moveTo>
                  <a:lnTo>
                    <a:pt x="12" y="968"/>
                  </a:lnTo>
                  <a:lnTo>
                    <a:pt x="45" y="723"/>
                  </a:lnTo>
                  <a:lnTo>
                    <a:pt x="101" y="509"/>
                  </a:lnTo>
                  <a:lnTo>
                    <a:pt x="183" y="329"/>
                  </a:lnTo>
                  <a:lnTo>
                    <a:pt x="282" y="180"/>
                  </a:lnTo>
                  <a:lnTo>
                    <a:pt x="397" y="80"/>
                  </a:lnTo>
                  <a:lnTo>
                    <a:pt x="533" y="20"/>
                  </a:lnTo>
                  <a:lnTo>
                    <a:pt x="687" y="0"/>
                  </a:lnTo>
                  <a:lnTo>
                    <a:pt x="843" y="20"/>
                  </a:lnTo>
                  <a:lnTo>
                    <a:pt x="981" y="80"/>
                  </a:lnTo>
                  <a:lnTo>
                    <a:pt x="1099" y="180"/>
                  </a:lnTo>
                  <a:lnTo>
                    <a:pt x="1200" y="324"/>
                  </a:lnTo>
                  <a:lnTo>
                    <a:pt x="1279" y="499"/>
                  </a:lnTo>
                  <a:lnTo>
                    <a:pt x="1334" y="713"/>
                  </a:lnTo>
                  <a:lnTo>
                    <a:pt x="1366" y="953"/>
                  </a:lnTo>
                  <a:lnTo>
                    <a:pt x="1379" y="1232"/>
                  </a:lnTo>
                  <a:lnTo>
                    <a:pt x="1373" y="1432"/>
                  </a:lnTo>
                  <a:lnTo>
                    <a:pt x="1360" y="1616"/>
                  </a:lnTo>
                  <a:lnTo>
                    <a:pt x="1334" y="1775"/>
                  </a:lnTo>
                  <a:lnTo>
                    <a:pt x="1301" y="1925"/>
                  </a:lnTo>
                  <a:lnTo>
                    <a:pt x="1257" y="2055"/>
                  </a:lnTo>
                  <a:lnTo>
                    <a:pt x="1204" y="2164"/>
                  </a:lnTo>
                  <a:lnTo>
                    <a:pt x="1143" y="2264"/>
                  </a:lnTo>
                  <a:lnTo>
                    <a:pt x="1075" y="2349"/>
                  </a:lnTo>
                  <a:lnTo>
                    <a:pt x="996" y="2414"/>
                  </a:lnTo>
                  <a:lnTo>
                    <a:pt x="906" y="2459"/>
                  </a:lnTo>
                  <a:lnTo>
                    <a:pt x="809" y="2489"/>
                  </a:lnTo>
                  <a:lnTo>
                    <a:pt x="704" y="2499"/>
                  </a:lnTo>
                  <a:lnTo>
                    <a:pt x="594" y="2489"/>
                  </a:lnTo>
                  <a:lnTo>
                    <a:pt x="498" y="2464"/>
                  </a:lnTo>
                  <a:lnTo>
                    <a:pt x="408" y="2424"/>
                  </a:lnTo>
                  <a:lnTo>
                    <a:pt x="332" y="2369"/>
                  </a:lnTo>
                  <a:lnTo>
                    <a:pt x="259" y="2294"/>
                  </a:lnTo>
                  <a:lnTo>
                    <a:pt x="198" y="2199"/>
                  </a:lnTo>
                  <a:lnTo>
                    <a:pt x="141" y="2084"/>
                  </a:lnTo>
                  <a:lnTo>
                    <a:pt x="93" y="1955"/>
                  </a:lnTo>
                  <a:lnTo>
                    <a:pt x="51" y="1805"/>
                  </a:lnTo>
                  <a:lnTo>
                    <a:pt x="22" y="1635"/>
                  </a:lnTo>
                  <a:lnTo>
                    <a:pt x="6" y="1457"/>
                  </a:lnTo>
                  <a:lnTo>
                    <a:pt x="0" y="1252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84760" y="318960"/>
              <a:ext cx="442800" cy="871560"/>
            </a:xfrm>
            <a:custGeom>
              <a:avLst/>
              <a:gdLst/>
              <a:ahLst/>
              <a:rect l="l" t="t" r="r" b="b"/>
              <a:pathLst>
                <a:path w="1230" h="2420">
                  <a:moveTo>
                    <a:pt x="414" y="953"/>
                  </a:moveTo>
                  <a:lnTo>
                    <a:pt x="594" y="953"/>
                  </a:lnTo>
                  <a:lnTo>
                    <a:pt x="637" y="948"/>
                  </a:lnTo>
                  <a:lnTo>
                    <a:pt x="675" y="938"/>
                  </a:lnTo>
                  <a:lnTo>
                    <a:pt x="704" y="913"/>
                  </a:lnTo>
                  <a:lnTo>
                    <a:pt x="728" y="893"/>
                  </a:lnTo>
                  <a:lnTo>
                    <a:pt x="743" y="853"/>
                  </a:lnTo>
                  <a:lnTo>
                    <a:pt x="754" y="813"/>
                  </a:lnTo>
                  <a:lnTo>
                    <a:pt x="760" y="768"/>
                  </a:lnTo>
                  <a:lnTo>
                    <a:pt x="765" y="713"/>
                  </a:lnTo>
                  <a:lnTo>
                    <a:pt x="760" y="663"/>
                  </a:lnTo>
                  <a:lnTo>
                    <a:pt x="754" y="619"/>
                  </a:lnTo>
                  <a:lnTo>
                    <a:pt x="743" y="584"/>
                  </a:lnTo>
                  <a:lnTo>
                    <a:pt x="728" y="554"/>
                  </a:lnTo>
                  <a:lnTo>
                    <a:pt x="706" y="524"/>
                  </a:lnTo>
                  <a:lnTo>
                    <a:pt x="675" y="504"/>
                  </a:lnTo>
                  <a:lnTo>
                    <a:pt x="639" y="494"/>
                  </a:lnTo>
                  <a:lnTo>
                    <a:pt x="596" y="494"/>
                  </a:lnTo>
                  <a:lnTo>
                    <a:pt x="414" y="494"/>
                  </a:lnTo>
                  <a:lnTo>
                    <a:pt x="414" y="953"/>
                  </a:lnTo>
                  <a:lnTo>
                    <a:pt x="414" y="953"/>
                  </a:lnTo>
                  <a:close/>
                  <a:moveTo>
                    <a:pt x="414" y="1900"/>
                  </a:moveTo>
                  <a:lnTo>
                    <a:pt x="625" y="1900"/>
                  </a:lnTo>
                  <a:lnTo>
                    <a:pt x="673" y="1895"/>
                  </a:lnTo>
                  <a:lnTo>
                    <a:pt x="714" y="1880"/>
                  </a:lnTo>
                  <a:lnTo>
                    <a:pt x="747" y="1860"/>
                  </a:lnTo>
                  <a:lnTo>
                    <a:pt x="773" y="1835"/>
                  </a:lnTo>
                  <a:lnTo>
                    <a:pt x="791" y="1795"/>
                  </a:lnTo>
                  <a:lnTo>
                    <a:pt x="805" y="1755"/>
                  </a:lnTo>
                  <a:lnTo>
                    <a:pt x="813" y="1700"/>
                  </a:lnTo>
                  <a:lnTo>
                    <a:pt x="817" y="1650"/>
                  </a:lnTo>
                  <a:lnTo>
                    <a:pt x="813" y="1595"/>
                  </a:lnTo>
                  <a:lnTo>
                    <a:pt x="807" y="1551"/>
                  </a:lnTo>
                  <a:lnTo>
                    <a:pt x="793" y="1507"/>
                  </a:lnTo>
                  <a:lnTo>
                    <a:pt x="775" y="1477"/>
                  </a:lnTo>
                  <a:lnTo>
                    <a:pt x="749" y="1442"/>
                  </a:lnTo>
                  <a:lnTo>
                    <a:pt x="714" y="1422"/>
                  </a:lnTo>
                  <a:lnTo>
                    <a:pt x="673" y="1412"/>
                  </a:lnTo>
                  <a:lnTo>
                    <a:pt x="623" y="1412"/>
                  </a:lnTo>
                  <a:lnTo>
                    <a:pt x="414" y="1412"/>
                  </a:lnTo>
                  <a:lnTo>
                    <a:pt x="414" y="1900"/>
                  </a:lnTo>
                  <a:lnTo>
                    <a:pt x="414" y="1900"/>
                  </a:lnTo>
                  <a:close/>
                  <a:moveTo>
                    <a:pt x="0" y="0"/>
                  </a:moveTo>
                  <a:lnTo>
                    <a:pt x="769" y="0"/>
                  </a:lnTo>
                  <a:lnTo>
                    <a:pt x="859" y="10"/>
                  </a:lnTo>
                  <a:lnTo>
                    <a:pt x="941" y="40"/>
                  </a:lnTo>
                  <a:lnTo>
                    <a:pt x="1008" y="95"/>
                  </a:lnTo>
                  <a:lnTo>
                    <a:pt x="1065" y="175"/>
                  </a:lnTo>
                  <a:lnTo>
                    <a:pt x="1109" y="264"/>
                  </a:lnTo>
                  <a:lnTo>
                    <a:pt x="1142" y="364"/>
                  </a:lnTo>
                  <a:lnTo>
                    <a:pt x="1162" y="479"/>
                  </a:lnTo>
                  <a:lnTo>
                    <a:pt x="1168" y="604"/>
                  </a:lnTo>
                  <a:lnTo>
                    <a:pt x="1162" y="708"/>
                  </a:lnTo>
                  <a:lnTo>
                    <a:pt x="1148" y="803"/>
                  </a:lnTo>
                  <a:lnTo>
                    <a:pt x="1126" y="893"/>
                  </a:lnTo>
                  <a:lnTo>
                    <a:pt x="1093" y="973"/>
                  </a:lnTo>
                  <a:lnTo>
                    <a:pt x="1065" y="1018"/>
                  </a:lnTo>
                  <a:lnTo>
                    <a:pt x="1032" y="1063"/>
                  </a:lnTo>
                  <a:lnTo>
                    <a:pt x="995" y="1098"/>
                  </a:lnTo>
                  <a:lnTo>
                    <a:pt x="951" y="1137"/>
                  </a:lnTo>
                  <a:lnTo>
                    <a:pt x="1016" y="1167"/>
                  </a:lnTo>
                  <a:lnTo>
                    <a:pt x="1073" y="1217"/>
                  </a:lnTo>
                  <a:lnTo>
                    <a:pt x="1122" y="1277"/>
                  </a:lnTo>
                  <a:lnTo>
                    <a:pt x="1162" y="1347"/>
                  </a:lnTo>
                  <a:lnTo>
                    <a:pt x="1190" y="1427"/>
                  </a:lnTo>
                  <a:lnTo>
                    <a:pt x="1212" y="1517"/>
                  </a:lnTo>
                  <a:lnTo>
                    <a:pt x="1225" y="1620"/>
                  </a:lnTo>
                  <a:lnTo>
                    <a:pt x="1229" y="1735"/>
                  </a:lnTo>
                  <a:lnTo>
                    <a:pt x="1225" y="1820"/>
                  </a:lnTo>
                  <a:lnTo>
                    <a:pt x="1217" y="1910"/>
                  </a:lnTo>
                  <a:lnTo>
                    <a:pt x="1201" y="1990"/>
                  </a:lnTo>
                  <a:lnTo>
                    <a:pt x="1181" y="2069"/>
                  </a:lnTo>
                  <a:lnTo>
                    <a:pt x="1152" y="2134"/>
                  </a:lnTo>
                  <a:lnTo>
                    <a:pt x="1122" y="2199"/>
                  </a:lnTo>
                  <a:lnTo>
                    <a:pt x="1087" y="2254"/>
                  </a:lnTo>
                  <a:lnTo>
                    <a:pt x="1050" y="2309"/>
                  </a:lnTo>
                  <a:lnTo>
                    <a:pt x="1019" y="2334"/>
                  </a:lnTo>
                  <a:lnTo>
                    <a:pt x="984" y="2354"/>
                  </a:lnTo>
                  <a:lnTo>
                    <a:pt x="941" y="2374"/>
                  </a:lnTo>
                  <a:lnTo>
                    <a:pt x="894" y="2389"/>
                  </a:lnTo>
                  <a:lnTo>
                    <a:pt x="828" y="2399"/>
                  </a:lnTo>
                  <a:lnTo>
                    <a:pt x="775" y="2409"/>
                  </a:lnTo>
                  <a:lnTo>
                    <a:pt x="736" y="2419"/>
                  </a:lnTo>
                  <a:lnTo>
                    <a:pt x="710" y="2419"/>
                  </a:lnTo>
                  <a:lnTo>
                    <a:pt x="0" y="24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54560" y="318960"/>
              <a:ext cx="520560" cy="871560"/>
            </a:xfrm>
            <a:custGeom>
              <a:avLst/>
              <a:gdLst/>
              <a:ahLst/>
              <a:rect l="l" t="t" r="r" b="b"/>
              <a:pathLst>
                <a:path w="1447" h="2420">
                  <a:moveTo>
                    <a:pt x="0" y="0"/>
                  </a:moveTo>
                  <a:lnTo>
                    <a:pt x="456" y="0"/>
                  </a:lnTo>
                  <a:lnTo>
                    <a:pt x="725" y="813"/>
                  </a:lnTo>
                  <a:lnTo>
                    <a:pt x="992" y="0"/>
                  </a:lnTo>
                  <a:lnTo>
                    <a:pt x="1446" y="0"/>
                  </a:lnTo>
                  <a:lnTo>
                    <a:pt x="929" y="1407"/>
                  </a:lnTo>
                  <a:lnTo>
                    <a:pt x="929" y="2419"/>
                  </a:lnTo>
                  <a:lnTo>
                    <a:pt x="517" y="2419"/>
                  </a:lnTo>
                  <a:lnTo>
                    <a:pt x="517" y="1407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20840" y="2117880"/>
              <a:ext cx="406440" cy="871560"/>
            </a:xfrm>
            <a:custGeom>
              <a:avLst/>
              <a:gdLst/>
              <a:ahLst/>
              <a:rect l="l" t="t" r="r" b="b"/>
              <a:pathLst>
                <a:path w="1129" h="2421">
                  <a:moveTo>
                    <a:pt x="412" y="1028"/>
                  </a:moveTo>
                  <a:lnTo>
                    <a:pt x="513" y="1028"/>
                  </a:lnTo>
                  <a:lnTo>
                    <a:pt x="567" y="1023"/>
                  </a:lnTo>
                  <a:lnTo>
                    <a:pt x="613" y="1008"/>
                  </a:lnTo>
                  <a:lnTo>
                    <a:pt x="651" y="988"/>
                  </a:lnTo>
                  <a:lnTo>
                    <a:pt x="681" y="953"/>
                  </a:lnTo>
                  <a:lnTo>
                    <a:pt x="701" y="908"/>
                  </a:lnTo>
                  <a:lnTo>
                    <a:pt x="716" y="868"/>
                  </a:lnTo>
                  <a:lnTo>
                    <a:pt x="724" y="813"/>
                  </a:lnTo>
                  <a:lnTo>
                    <a:pt x="730" y="763"/>
                  </a:lnTo>
                  <a:lnTo>
                    <a:pt x="724" y="709"/>
                  </a:lnTo>
                  <a:lnTo>
                    <a:pt x="718" y="654"/>
                  </a:lnTo>
                  <a:lnTo>
                    <a:pt x="705" y="609"/>
                  </a:lnTo>
                  <a:lnTo>
                    <a:pt x="687" y="569"/>
                  </a:lnTo>
                  <a:lnTo>
                    <a:pt x="661" y="534"/>
                  </a:lnTo>
                  <a:lnTo>
                    <a:pt x="626" y="509"/>
                  </a:lnTo>
                  <a:lnTo>
                    <a:pt x="582" y="494"/>
                  </a:lnTo>
                  <a:lnTo>
                    <a:pt x="530" y="489"/>
                  </a:lnTo>
                  <a:lnTo>
                    <a:pt x="412" y="489"/>
                  </a:lnTo>
                  <a:lnTo>
                    <a:pt x="412" y="1028"/>
                  </a:lnTo>
                  <a:lnTo>
                    <a:pt x="412" y="1028"/>
                  </a:lnTo>
                  <a:close/>
                  <a:moveTo>
                    <a:pt x="0" y="0"/>
                  </a:moveTo>
                  <a:lnTo>
                    <a:pt x="683" y="0"/>
                  </a:lnTo>
                  <a:lnTo>
                    <a:pt x="786" y="10"/>
                  </a:lnTo>
                  <a:lnTo>
                    <a:pt x="878" y="45"/>
                  </a:lnTo>
                  <a:lnTo>
                    <a:pt x="955" y="105"/>
                  </a:lnTo>
                  <a:lnTo>
                    <a:pt x="1018" y="190"/>
                  </a:lnTo>
                  <a:lnTo>
                    <a:pt x="1065" y="299"/>
                  </a:lnTo>
                  <a:lnTo>
                    <a:pt x="1099" y="429"/>
                  </a:lnTo>
                  <a:lnTo>
                    <a:pt x="1119" y="574"/>
                  </a:lnTo>
                  <a:lnTo>
                    <a:pt x="1128" y="744"/>
                  </a:lnTo>
                  <a:lnTo>
                    <a:pt x="1119" y="913"/>
                  </a:lnTo>
                  <a:lnTo>
                    <a:pt x="1097" y="1068"/>
                  </a:lnTo>
                  <a:lnTo>
                    <a:pt x="1060" y="1198"/>
                  </a:lnTo>
                  <a:lnTo>
                    <a:pt x="1008" y="1312"/>
                  </a:lnTo>
                  <a:lnTo>
                    <a:pt x="937" y="1402"/>
                  </a:lnTo>
                  <a:lnTo>
                    <a:pt x="852" y="1467"/>
                  </a:lnTo>
                  <a:lnTo>
                    <a:pt x="751" y="1507"/>
                  </a:lnTo>
                  <a:lnTo>
                    <a:pt x="637" y="1522"/>
                  </a:lnTo>
                  <a:lnTo>
                    <a:pt x="412" y="1522"/>
                  </a:lnTo>
                  <a:lnTo>
                    <a:pt x="412" y="2420"/>
                  </a:lnTo>
                  <a:lnTo>
                    <a:pt x="0" y="24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06480" y="2117880"/>
              <a:ext cx="470160" cy="871560"/>
            </a:xfrm>
            <a:custGeom>
              <a:avLst/>
              <a:gdLst/>
              <a:ahLst/>
              <a:rect l="l" t="t" r="r" b="b"/>
              <a:pathLst>
                <a:path w="1306" h="2421">
                  <a:moveTo>
                    <a:pt x="411" y="978"/>
                  </a:moveTo>
                  <a:lnTo>
                    <a:pt x="583" y="978"/>
                  </a:lnTo>
                  <a:lnTo>
                    <a:pt x="601" y="973"/>
                  </a:lnTo>
                  <a:lnTo>
                    <a:pt x="626" y="968"/>
                  </a:lnTo>
                  <a:lnTo>
                    <a:pt x="654" y="958"/>
                  </a:lnTo>
                  <a:lnTo>
                    <a:pt x="693" y="948"/>
                  </a:lnTo>
                  <a:lnTo>
                    <a:pt x="711" y="933"/>
                  </a:lnTo>
                  <a:lnTo>
                    <a:pt x="729" y="918"/>
                  </a:lnTo>
                  <a:lnTo>
                    <a:pt x="743" y="893"/>
                  </a:lnTo>
                  <a:lnTo>
                    <a:pt x="759" y="868"/>
                  </a:lnTo>
                  <a:lnTo>
                    <a:pt x="770" y="833"/>
                  </a:lnTo>
                  <a:lnTo>
                    <a:pt x="779" y="803"/>
                  </a:lnTo>
                  <a:lnTo>
                    <a:pt x="783" y="768"/>
                  </a:lnTo>
                  <a:lnTo>
                    <a:pt x="786" y="729"/>
                  </a:lnTo>
                  <a:lnTo>
                    <a:pt x="781" y="669"/>
                  </a:lnTo>
                  <a:lnTo>
                    <a:pt x="774" y="624"/>
                  </a:lnTo>
                  <a:lnTo>
                    <a:pt x="761" y="584"/>
                  </a:lnTo>
                  <a:lnTo>
                    <a:pt x="746" y="549"/>
                  </a:lnTo>
                  <a:lnTo>
                    <a:pt x="719" y="519"/>
                  </a:lnTo>
                  <a:lnTo>
                    <a:pt x="685" y="499"/>
                  </a:lnTo>
                  <a:lnTo>
                    <a:pt x="643" y="489"/>
                  </a:lnTo>
                  <a:lnTo>
                    <a:pt x="591" y="489"/>
                  </a:lnTo>
                  <a:lnTo>
                    <a:pt x="411" y="489"/>
                  </a:lnTo>
                  <a:lnTo>
                    <a:pt x="411" y="978"/>
                  </a:lnTo>
                  <a:lnTo>
                    <a:pt x="411" y="978"/>
                  </a:lnTo>
                  <a:close/>
                  <a:moveTo>
                    <a:pt x="0" y="2420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770" y="0"/>
                  </a:lnTo>
                  <a:lnTo>
                    <a:pt x="849" y="10"/>
                  </a:lnTo>
                  <a:lnTo>
                    <a:pt x="917" y="30"/>
                  </a:lnTo>
                  <a:lnTo>
                    <a:pt x="974" y="60"/>
                  </a:lnTo>
                  <a:lnTo>
                    <a:pt x="1020" y="95"/>
                  </a:lnTo>
                  <a:lnTo>
                    <a:pt x="1064" y="145"/>
                  </a:lnTo>
                  <a:lnTo>
                    <a:pt x="1102" y="205"/>
                  </a:lnTo>
                  <a:lnTo>
                    <a:pt x="1136" y="280"/>
                  </a:lnTo>
                  <a:lnTo>
                    <a:pt x="1163" y="364"/>
                  </a:lnTo>
                  <a:lnTo>
                    <a:pt x="1183" y="454"/>
                  </a:lnTo>
                  <a:lnTo>
                    <a:pt x="1193" y="559"/>
                  </a:lnTo>
                  <a:lnTo>
                    <a:pt x="1197" y="669"/>
                  </a:lnTo>
                  <a:lnTo>
                    <a:pt x="1193" y="768"/>
                  </a:lnTo>
                  <a:lnTo>
                    <a:pt x="1185" y="858"/>
                  </a:lnTo>
                  <a:lnTo>
                    <a:pt x="1171" y="943"/>
                  </a:lnTo>
                  <a:lnTo>
                    <a:pt x="1151" y="1018"/>
                  </a:lnTo>
                  <a:lnTo>
                    <a:pt x="1123" y="1088"/>
                  </a:lnTo>
                  <a:lnTo>
                    <a:pt x="1092" y="1148"/>
                  </a:lnTo>
                  <a:lnTo>
                    <a:pt x="1057" y="1203"/>
                  </a:lnTo>
                  <a:lnTo>
                    <a:pt x="1020" y="1252"/>
                  </a:lnTo>
                  <a:lnTo>
                    <a:pt x="989" y="1282"/>
                  </a:lnTo>
                  <a:lnTo>
                    <a:pt x="956" y="1307"/>
                  </a:lnTo>
                  <a:lnTo>
                    <a:pt x="917" y="1327"/>
                  </a:lnTo>
                  <a:lnTo>
                    <a:pt x="875" y="1347"/>
                  </a:lnTo>
                  <a:lnTo>
                    <a:pt x="908" y="1367"/>
                  </a:lnTo>
                  <a:lnTo>
                    <a:pt x="936" y="1392"/>
                  </a:lnTo>
                  <a:lnTo>
                    <a:pt x="960" y="1417"/>
                  </a:lnTo>
                  <a:lnTo>
                    <a:pt x="983" y="1442"/>
                  </a:lnTo>
                  <a:lnTo>
                    <a:pt x="994" y="1457"/>
                  </a:lnTo>
                  <a:lnTo>
                    <a:pt x="1009" y="1487"/>
                  </a:lnTo>
                  <a:lnTo>
                    <a:pt x="1027" y="1522"/>
                  </a:lnTo>
                  <a:lnTo>
                    <a:pt x="1049" y="1567"/>
                  </a:lnTo>
                  <a:lnTo>
                    <a:pt x="1066" y="1612"/>
                  </a:lnTo>
                  <a:lnTo>
                    <a:pt x="1084" y="1652"/>
                  </a:lnTo>
                  <a:lnTo>
                    <a:pt x="1094" y="1686"/>
                  </a:lnTo>
                  <a:lnTo>
                    <a:pt x="1106" y="1721"/>
                  </a:lnTo>
                  <a:lnTo>
                    <a:pt x="1305" y="2420"/>
                  </a:lnTo>
                  <a:lnTo>
                    <a:pt x="840" y="2420"/>
                  </a:lnTo>
                  <a:lnTo>
                    <a:pt x="621" y="1681"/>
                  </a:lnTo>
                  <a:lnTo>
                    <a:pt x="599" y="1612"/>
                  </a:lnTo>
                  <a:lnTo>
                    <a:pt x="579" y="1562"/>
                  </a:lnTo>
                  <a:lnTo>
                    <a:pt x="562" y="1517"/>
                  </a:lnTo>
                  <a:lnTo>
                    <a:pt x="547" y="1492"/>
                  </a:lnTo>
                  <a:lnTo>
                    <a:pt x="522" y="1467"/>
                  </a:lnTo>
                  <a:lnTo>
                    <a:pt x="500" y="1447"/>
                  </a:lnTo>
                  <a:lnTo>
                    <a:pt x="474" y="1437"/>
                  </a:lnTo>
                  <a:lnTo>
                    <a:pt x="448" y="1437"/>
                  </a:lnTo>
                  <a:lnTo>
                    <a:pt x="411" y="1437"/>
                  </a:lnTo>
                  <a:lnTo>
                    <a:pt x="411" y="2420"/>
                  </a:lnTo>
                  <a:lnTo>
                    <a:pt x="0" y="2420"/>
                  </a:lnTo>
                  <a:lnTo>
                    <a:pt x="0" y="242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24160" y="2117880"/>
              <a:ext cx="403200" cy="871560"/>
            </a:xfrm>
            <a:custGeom>
              <a:avLst/>
              <a:gdLst/>
              <a:ahLst/>
              <a:rect l="l" t="t" r="r" b="b"/>
              <a:pathLst>
                <a:path w="1121" h="2421">
                  <a:moveTo>
                    <a:pt x="0" y="0"/>
                  </a:moveTo>
                  <a:lnTo>
                    <a:pt x="1100" y="0"/>
                  </a:lnTo>
                  <a:lnTo>
                    <a:pt x="1100" y="514"/>
                  </a:lnTo>
                  <a:lnTo>
                    <a:pt x="411" y="514"/>
                  </a:lnTo>
                  <a:lnTo>
                    <a:pt x="411" y="898"/>
                  </a:lnTo>
                  <a:lnTo>
                    <a:pt x="1049" y="898"/>
                  </a:lnTo>
                  <a:lnTo>
                    <a:pt x="1049" y="1392"/>
                  </a:lnTo>
                  <a:lnTo>
                    <a:pt x="411" y="1392"/>
                  </a:lnTo>
                  <a:lnTo>
                    <a:pt x="411" y="1871"/>
                  </a:lnTo>
                  <a:lnTo>
                    <a:pt x="1120" y="1871"/>
                  </a:lnTo>
                  <a:lnTo>
                    <a:pt x="1120" y="2420"/>
                  </a:lnTo>
                  <a:lnTo>
                    <a:pt x="0" y="2420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70200" y="2117880"/>
              <a:ext cx="455760" cy="871560"/>
            </a:xfrm>
            <a:custGeom>
              <a:avLst/>
              <a:gdLst/>
              <a:ahLst/>
              <a:rect l="l" t="t" r="r" b="b"/>
              <a:pathLst>
                <a:path w="1266" h="2421">
                  <a:moveTo>
                    <a:pt x="71" y="0"/>
                  </a:moveTo>
                  <a:lnTo>
                    <a:pt x="1238" y="0"/>
                  </a:lnTo>
                  <a:lnTo>
                    <a:pt x="1238" y="484"/>
                  </a:lnTo>
                  <a:lnTo>
                    <a:pt x="489" y="1901"/>
                  </a:lnTo>
                  <a:lnTo>
                    <a:pt x="1265" y="1901"/>
                  </a:lnTo>
                  <a:lnTo>
                    <a:pt x="1265" y="2420"/>
                  </a:lnTo>
                  <a:lnTo>
                    <a:pt x="0" y="2420"/>
                  </a:lnTo>
                  <a:lnTo>
                    <a:pt x="0" y="1921"/>
                  </a:lnTo>
                  <a:lnTo>
                    <a:pt x="741" y="514"/>
                  </a:lnTo>
                  <a:lnTo>
                    <a:pt x="71" y="514"/>
                  </a:lnTo>
                  <a:lnTo>
                    <a:pt x="71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89320" y="2117880"/>
              <a:ext cx="403200" cy="871560"/>
            </a:xfrm>
            <a:custGeom>
              <a:avLst/>
              <a:gdLst/>
              <a:ahLst/>
              <a:rect l="l" t="t" r="r" b="b"/>
              <a:pathLst>
                <a:path w="1121" h="2421">
                  <a:moveTo>
                    <a:pt x="0" y="0"/>
                  </a:moveTo>
                  <a:lnTo>
                    <a:pt x="1100" y="0"/>
                  </a:lnTo>
                  <a:lnTo>
                    <a:pt x="1100" y="514"/>
                  </a:lnTo>
                  <a:lnTo>
                    <a:pt x="413" y="514"/>
                  </a:lnTo>
                  <a:lnTo>
                    <a:pt x="413" y="898"/>
                  </a:lnTo>
                  <a:lnTo>
                    <a:pt x="1050" y="898"/>
                  </a:lnTo>
                  <a:lnTo>
                    <a:pt x="1050" y="1392"/>
                  </a:lnTo>
                  <a:lnTo>
                    <a:pt x="413" y="1392"/>
                  </a:lnTo>
                  <a:lnTo>
                    <a:pt x="413" y="1871"/>
                  </a:lnTo>
                  <a:lnTo>
                    <a:pt x="1120" y="1871"/>
                  </a:lnTo>
                  <a:lnTo>
                    <a:pt x="1120" y="2420"/>
                  </a:lnTo>
                  <a:lnTo>
                    <a:pt x="0" y="2420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73520" y="2117880"/>
              <a:ext cx="458640" cy="871560"/>
            </a:xfrm>
            <a:custGeom>
              <a:avLst/>
              <a:gdLst/>
              <a:ahLst/>
              <a:rect l="l" t="t" r="r" b="b"/>
              <a:pathLst>
                <a:path w="1275" h="2421">
                  <a:moveTo>
                    <a:pt x="0" y="0"/>
                  </a:moveTo>
                  <a:lnTo>
                    <a:pt x="384" y="0"/>
                  </a:lnTo>
                  <a:lnTo>
                    <a:pt x="885" y="1342"/>
                  </a:lnTo>
                  <a:lnTo>
                    <a:pt x="885" y="0"/>
                  </a:lnTo>
                  <a:lnTo>
                    <a:pt x="1274" y="0"/>
                  </a:lnTo>
                  <a:lnTo>
                    <a:pt x="1274" y="2420"/>
                  </a:lnTo>
                  <a:lnTo>
                    <a:pt x="885" y="2420"/>
                  </a:lnTo>
                  <a:lnTo>
                    <a:pt x="386" y="1088"/>
                  </a:lnTo>
                  <a:lnTo>
                    <a:pt x="386" y="2420"/>
                  </a:lnTo>
                  <a:lnTo>
                    <a:pt x="0" y="2420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7320" y="2117880"/>
              <a:ext cx="449280" cy="871560"/>
            </a:xfrm>
            <a:custGeom>
              <a:avLst/>
              <a:gdLst/>
              <a:ahLst/>
              <a:rect l="l" t="t" r="r" b="b"/>
              <a:pathLst>
                <a:path w="1247" h="2421">
                  <a:moveTo>
                    <a:pt x="0" y="0"/>
                  </a:moveTo>
                  <a:lnTo>
                    <a:pt x="1246" y="0"/>
                  </a:lnTo>
                  <a:lnTo>
                    <a:pt x="1246" y="599"/>
                  </a:lnTo>
                  <a:lnTo>
                    <a:pt x="828" y="599"/>
                  </a:lnTo>
                  <a:lnTo>
                    <a:pt x="828" y="2420"/>
                  </a:lnTo>
                  <a:lnTo>
                    <a:pt x="419" y="2420"/>
                  </a:lnTo>
                  <a:lnTo>
                    <a:pt x="419" y="599"/>
                  </a:lnTo>
                  <a:lnTo>
                    <a:pt x="0" y="599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92680" y="2103480"/>
              <a:ext cx="496800" cy="900000"/>
            </a:xfrm>
            <a:custGeom>
              <a:avLst/>
              <a:gdLst/>
              <a:ahLst/>
              <a:rect l="l" t="t" r="r" b="b"/>
              <a:pathLst>
                <a:path w="1381" h="2501">
                  <a:moveTo>
                    <a:pt x="410" y="1252"/>
                  </a:moveTo>
                  <a:lnTo>
                    <a:pt x="415" y="1422"/>
                  </a:lnTo>
                  <a:lnTo>
                    <a:pt x="427" y="1567"/>
                  </a:lnTo>
                  <a:lnTo>
                    <a:pt x="451" y="1687"/>
                  </a:lnTo>
                  <a:lnTo>
                    <a:pt x="487" y="1781"/>
                  </a:lnTo>
                  <a:lnTo>
                    <a:pt x="527" y="1846"/>
                  </a:lnTo>
                  <a:lnTo>
                    <a:pt x="576" y="1901"/>
                  </a:lnTo>
                  <a:lnTo>
                    <a:pt x="630" y="1931"/>
                  </a:lnTo>
                  <a:lnTo>
                    <a:pt x="691" y="1941"/>
                  </a:lnTo>
                  <a:lnTo>
                    <a:pt x="753" y="1931"/>
                  </a:lnTo>
                  <a:lnTo>
                    <a:pt x="807" y="1901"/>
                  </a:lnTo>
                  <a:lnTo>
                    <a:pt x="856" y="1851"/>
                  </a:lnTo>
                  <a:lnTo>
                    <a:pt x="898" y="1786"/>
                  </a:lnTo>
                  <a:lnTo>
                    <a:pt x="929" y="1687"/>
                  </a:lnTo>
                  <a:lnTo>
                    <a:pt x="952" y="1567"/>
                  </a:lnTo>
                  <a:lnTo>
                    <a:pt x="964" y="1407"/>
                  </a:lnTo>
                  <a:lnTo>
                    <a:pt x="971" y="1223"/>
                  </a:lnTo>
                  <a:lnTo>
                    <a:pt x="964" y="1063"/>
                  </a:lnTo>
                  <a:lnTo>
                    <a:pt x="952" y="928"/>
                  </a:lnTo>
                  <a:lnTo>
                    <a:pt x="929" y="808"/>
                  </a:lnTo>
                  <a:lnTo>
                    <a:pt x="896" y="724"/>
                  </a:lnTo>
                  <a:lnTo>
                    <a:pt x="854" y="649"/>
                  </a:lnTo>
                  <a:lnTo>
                    <a:pt x="803" y="604"/>
                  </a:lnTo>
                  <a:lnTo>
                    <a:pt x="748" y="574"/>
                  </a:lnTo>
                  <a:lnTo>
                    <a:pt x="687" y="569"/>
                  </a:lnTo>
                  <a:lnTo>
                    <a:pt x="626" y="574"/>
                  </a:lnTo>
                  <a:lnTo>
                    <a:pt x="574" y="604"/>
                  </a:lnTo>
                  <a:lnTo>
                    <a:pt x="527" y="654"/>
                  </a:lnTo>
                  <a:lnTo>
                    <a:pt x="487" y="729"/>
                  </a:lnTo>
                  <a:lnTo>
                    <a:pt x="451" y="818"/>
                  </a:lnTo>
                  <a:lnTo>
                    <a:pt x="427" y="938"/>
                  </a:lnTo>
                  <a:lnTo>
                    <a:pt x="415" y="1083"/>
                  </a:lnTo>
                  <a:lnTo>
                    <a:pt x="410" y="1252"/>
                  </a:lnTo>
                  <a:lnTo>
                    <a:pt x="410" y="1252"/>
                  </a:lnTo>
                  <a:close/>
                  <a:moveTo>
                    <a:pt x="0" y="1248"/>
                  </a:moveTo>
                  <a:lnTo>
                    <a:pt x="11" y="968"/>
                  </a:lnTo>
                  <a:lnTo>
                    <a:pt x="44" y="724"/>
                  </a:lnTo>
                  <a:lnTo>
                    <a:pt x="101" y="509"/>
                  </a:lnTo>
                  <a:lnTo>
                    <a:pt x="182" y="325"/>
                  </a:lnTo>
                  <a:lnTo>
                    <a:pt x="281" y="180"/>
                  </a:lnTo>
                  <a:lnTo>
                    <a:pt x="397" y="80"/>
                  </a:lnTo>
                  <a:lnTo>
                    <a:pt x="534" y="20"/>
                  </a:lnTo>
                  <a:lnTo>
                    <a:pt x="687" y="0"/>
                  </a:lnTo>
                  <a:lnTo>
                    <a:pt x="843" y="20"/>
                  </a:lnTo>
                  <a:lnTo>
                    <a:pt x="982" y="80"/>
                  </a:lnTo>
                  <a:lnTo>
                    <a:pt x="1100" y="180"/>
                  </a:lnTo>
                  <a:lnTo>
                    <a:pt x="1201" y="325"/>
                  </a:lnTo>
                  <a:lnTo>
                    <a:pt x="1280" y="499"/>
                  </a:lnTo>
                  <a:lnTo>
                    <a:pt x="1335" y="709"/>
                  </a:lnTo>
                  <a:lnTo>
                    <a:pt x="1368" y="953"/>
                  </a:lnTo>
                  <a:lnTo>
                    <a:pt x="1380" y="1228"/>
                  </a:lnTo>
                  <a:lnTo>
                    <a:pt x="1374" y="1427"/>
                  </a:lnTo>
                  <a:lnTo>
                    <a:pt x="1361" y="1612"/>
                  </a:lnTo>
                  <a:lnTo>
                    <a:pt x="1335" y="1776"/>
                  </a:lnTo>
                  <a:lnTo>
                    <a:pt x="1302" y="1926"/>
                  </a:lnTo>
                  <a:lnTo>
                    <a:pt x="1258" y="2051"/>
                  </a:lnTo>
                  <a:lnTo>
                    <a:pt x="1205" y="2166"/>
                  </a:lnTo>
                  <a:lnTo>
                    <a:pt x="1144" y="2265"/>
                  </a:lnTo>
                  <a:lnTo>
                    <a:pt x="1076" y="2350"/>
                  </a:lnTo>
                  <a:lnTo>
                    <a:pt x="997" y="2410"/>
                  </a:lnTo>
                  <a:lnTo>
                    <a:pt x="906" y="2460"/>
                  </a:lnTo>
                  <a:lnTo>
                    <a:pt x="809" y="2490"/>
                  </a:lnTo>
                  <a:lnTo>
                    <a:pt x="704" y="2500"/>
                  </a:lnTo>
                  <a:lnTo>
                    <a:pt x="595" y="2490"/>
                  </a:lnTo>
                  <a:lnTo>
                    <a:pt x="499" y="2465"/>
                  </a:lnTo>
                  <a:lnTo>
                    <a:pt x="407" y="2425"/>
                  </a:lnTo>
                  <a:lnTo>
                    <a:pt x="331" y="2370"/>
                  </a:lnTo>
                  <a:lnTo>
                    <a:pt x="259" y="2290"/>
                  </a:lnTo>
                  <a:lnTo>
                    <a:pt x="198" y="2200"/>
                  </a:lnTo>
                  <a:lnTo>
                    <a:pt x="141" y="2086"/>
                  </a:lnTo>
                  <a:lnTo>
                    <a:pt x="92" y="1956"/>
                  </a:lnTo>
                  <a:lnTo>
                    <a:pt x="50" y="1806"/>
                  </a:lnTo>
                  <a:lnTo>
                    <a:pt x="22" y="1637"/>
                  </a:lnTo>
                  <a:lnTo>
                    <a:pt x="5" y="1452"/>
                  </a:lnTo>
                  <a:lnTo>
                    <a:pt x="0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18280" y="2117880"/>
              <a:ext cx="669600" cy="871560"/>
            </a:xfrm>
            <a:custGeom>
              <a:avLst/>
              <a:gdLst/>
              <a:ahLst/>
              <a:rect l="l" t="t" r="r" b="b"/>
              <a:pathLst>
                <a:path w="1860" h="2421">
                  <a:moveTo>
                    <a:pt x="0" y="0"/>
                  </a:moveTo>
                  <a:lnTo>
                    <a:pt x="390" y="0"/>
                  </a:lnTo>
                  <a:lnTo>
                    <a:pt x="530" y="1352"/>
                  </a:lnTo>
                  <a:lnTo>
                    <a:pt x="737" y="0"/>
                  </a:lnTo>
                  <a:lnTo>
                    <a:pt x="1125" y="0"/>
                  </a:lnTo>
                  <a:lnTo>
                    <a:pt x="1332" y="1347"/>
                  </a:lnTo>
                  <a:lnTo>
                    <a:pt x="1472" y="0"/>
                  </a:lnTo>
                  <a:lnTo>
                    <a:pt x="1859" y="0"/>
                  </a:lnTo>
                  <a:lnTo>
                    <a:pt x="1565" y="2420"/>
                  </a:lnTo>
                  <a:lnTo>
                    <a:pt x="1165" y="2420"/>
                  </a:lnTo>
                  <a:lnTo>
                    <a:pt x="932" y="893"/>
                  </a:lnTo>
                  <a:lnTo>
                    <a:pt x="700" y="2420"/>
                  </a:lnTo>
                  <a:lnTo>
                    <a:pt x="296" y="2420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87880" y="2117880"/>
              <a:ext cx="520920" cy="871560"/>
            </a:xfrm>
            <a:custGeom>
              <a:avLst/>
              <a:gdLst/>
              <a:ahLst/>
              <a:rect l="l" t="t" r="r" b="b"/>
              <a:pathLst>
                <a:path w="1447" h="2421">
                  <a:moveTo>
                    <a:pt x="864" y="1497"/>
                  </a:moveTo>
                  <a:lnTo>
                    <a:pt x="719" y="629"/>
                  </a:lnTo>
                  <a:lnTo>
                    <a:pt x="572" y="1497"/>
                  </a:lnTo>
                  <a:lnTo>
                    <a:pt x="864" y="1497"/>
                  </a:lnTo>
                  <a:lnTo>
                    <a:pt x="864" y="1497"/>
                  </a:lnTo>
                  <a:close/>
                  <a:moveTo>
                    <a:pt x="949" y="2021"/>
                  </a:moveTo>
                  <a:lnTo>
                    <a:pt x="487" y="2021"/>
                  </a:lnTo>
                  <a:lnTo>
                    <a:pt x="418" y="2420"/>
                  </a:lnTo>
                  <a:lnTo>
                    <a:pt x="0" y="2420"/>
                  </a:lnTo>
                  <a:lnTo>
                    <a:pt x="497" y="0"/>
                  </a:lnTo>
                  <a:lnTo>
                    <a:pt x="947" y="0"/>
                  </a:lnTo>
                  <a:lnTo>
                    <a:pt x="1446" y="2420"/>
                  </a:lnTo>
                  <a:lnTo>
                    <a:pt x="1017" y="2420"/>
                  </a:lnTo>
                  <a:lnTo>
                    <a:pt x="949" y="2021"/>
                  </a:lnTo>
                  <a:lnTo>
                    <a:pt x="949" y="2021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58120" y="2117880"/>
              <a:ext cx="458640" cy="871560"/>
            </a:xfrm>
            <a:custGeom>
              <a:avLst/>
              <a:gdLst/>
              <a:ahLst/>
              <a:rect l="l" t="t" r="r" b="b"/>
              <a:pathLst>
                <a:path w="1274" h="2421">
                  <a:moveTo>
                    <a:pt x="0" y="0"/>
                  </a:moveTo>
                  <a:lnTo>
                    <a:pt x="383" y="0"/>
                  </a:lnTo>
                  <a:lnTo>
                    <a:pt x="886" y="1342"/>
                  </a:lnTo>
                  <a:lnTo>
                    <a:pt x="886" y="0"/>
                  </a:lnTo>
                  <a:lnTo>
                    <a:pt x="1273" y="0"/>
                  </a:lnTo>
                  <a:lnTo>
                    <a:pt x="1273" y="2420"/>
                  </a:lnTo>
                  <a:lnTo>
                    <a:pt x="886" y="2420"/>
                  </a:lnTo>
                  <a:lnTo>
                    <a:pt x="387" y="1088"/>
                  </a:lnTo>
                  <a:lnTo>
                    <a:pt x="387" y="2420"/>
                  </a:lnTo>
                  <a:lnTo>
                    <a:pt x="0" y="2420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20080" y="2117880"/>
              <a:ext cx="149040" cy="871560"/>
            </a:xfrm>
            <a:custGeom>
              <a:avLst/>
              <a:gdLst/>
              <a:ahLst/>
              <a:rect l="l" t="t" r="r" b="b"/>
              <a:pathLst>
                <a:path w="414" h="2421">
                  <a:moveTo>
                    <a:pt x="0" y="0"/>
                  </a:moveTo>
                  <a:lnTo>
                    <a:pt x="413" y="0"/>
                  </a:lnTo>
                  <a:lnTo>
                    <a:pt x="413" y="2420"/>
                  </a:lnTo>
                  <a:lnTo>
                    <a:pt x="0" y="2420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26360" y="2117880"/>
              <a:ext cx="520560" cy="871560"/>
            </a:xfrm>
            <a:custGeom>
              <a:avLst/>
              <a:gdLst/>
              <a:ahLst/>
              <a:rect l="l" t="t" r="r" b="b"/>
              <a:pathLst>
                <a:path w="1448" h="2421">
                  <a:moveTo>
                    <a:pt x="863" y="1497"/>
                  </a:moveTo>
                  <a:lnTo>
                    <a:pt x="719" y="629"/>
                  </a:lnTo>
                  <a:lnTo>
                    <a:pt x="573" y="1497"/>
                  </a:lnTo>
                  <a:lnTo>
                    <a:pt x="863" y="1497"/>
                  </a:lnTo>
                  <a:lnTo>
                    <a:pt x="863" y="1497"/>
                  </a:lnTo>
                  <a:close/>
                  <a:moveTo>
                    <a:pt x="950" y="2021"/>
                  </a:moveTo>
                  <a:lnTo>
                    <a:pt x="486" y="2021"/>
                  </a:lnTo>
                  <a:lnTo>
                    <a:pt x="419" y="2420"/>
                  </a:lnTo>
                  <a:lnTo>
                    <a:pt x="0" y="2420"/>
                  </a:lnTo>
                  <a:lnTo>
                    <a:pt x="498" y="0"/>
                  </a:lnTo>
                  <a:lnTo>
                    <a:pt x="947" y="0"/>
                  </a:lnTo>
                  <a:lnTo>
                    <a:pt x="1447" y="2420"/>
                  </a:lnTo>
                  <a:lnTo>
                    <a:pt x="1017" y="2420"/>
                  </a:lnTo>
                  <a:lnTo>
                    <a:pt x="950" y="2021"/>
                  </a:lnTo>
                  <a:lnTo>
                    <a:pt x="950" y="2021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24080" y="3913200"/>
              <a:ext cx="441360" cy="871560"/>
            </a:xfrm>
            <a:custGeom>
              <a:avLst/>
              <a:gdLst/>
              <a:ahLst/>
              <a:rect l="l" t="t" r="r" b="b"/>
              <a:pathLst>
                <a:path w="1226" h="2420">
                  <a:moveTo>
                    <a:pt x="411" y="544"/>
                  </a:moveTo>
                  <a:lnTo>
                    <a:pt x="411" y="1865"/>
                  </a:lnTo>
                  <a:lnTo>
                    <a:pt x="512" y="1865"/>
                  </a:lnTo>
                  <a:lnTo>
                    <a:pt x="571" y="1860"/>
                  </a:lnTo>
                  <a:lnTo>
                    <a:pt x="621" y="1850"/>
                  </a:lnTo>
                  <a:lnTo>
                    <a:pt x="663" y="1835"/>
                  </a:lnTo>
                  <a:lnTo>
                    <a:pt x="696" y="1815"/>
                  </a:lnTo>
                  <a:lnTo>
                    <a:pt x="723" y="1780"/>
                  </a:lnTo>
                  <a:lnTo>
                    <a:pt x="744" y="1741"/>
                  </a:lnTo>
                  <a:lnTo>
                    <a:pt x="764" y="1691"/>
                  </a:lnTo>
                  <a:lnTo>
                    <a:pt x="782" y="1631"/>
                  </a:lnTo>
                  <a:lnTo>
                    <a:pt x="792" y="1556"/>
                  </a:lnTo>
                  <a:lnTo>
                    <a:pt x="804" y="1461"/>
                  </a:lnTo>
                  <a:lnTo>
                    <a:pt x="810" y="1346"/>
                  </a:lnTo>
                  <a:lnTo>
                    <a:pt x="812" y="1212"/>
                  </a:lnTo>
                  <a:lnTo>
                    <a:pt x="808" y="1032"/>
                  </a:lnTo>
                  <a:lnTo>
                    <a:pt x="794" y="888"/>
                  </a:lnTo>
                  <a:lnTo>
                    <a:pt x="773" y="769"/>
                  </a:lnTo>
                  <a:lnTo>
                    <a:pt x="744" y="684"/>
                  </a:lnTo>
                  <a:lnTo>
                    <a:pt x="703" y="619"/>
                  </a:lnTo>
                  <a:lnTo>
                    <a:pt x="652" y="579"/>
                  </a:lnTo>
                  <a:lnTo>
                    <a:pt x="589" y="554"/>
                  </a:lnTo>
                  <a:lnTo>
                    <a:pt x="514" y="544"/>
                  </a:lnTo>
                  <a:lnTo>
                    <a:pt x="411" y="544"/>
                  </a:lnTo>
                  <a:lnTo>
                    <a:pt x="411" y="544"/>
                  </a:lnTo>
                  <a:close/>
                  <a:moveTo>
                    <a:pt x="0" y="0"/>
                  </a:moveTo>
                  <a:lnTo>
                    <a:pt x="611" y="0"/>
                  </a:lnTo>
                  <a:lnTo>
                    <a:pt x="696" y="0"/>
                  </a:lnTo>
                  <a:lnTo>
                    <a:pt x="773" y="20"/>
                  </a:lnTo>
                  <a:lnTo>
                    <a:pt x="844" y="45"/>
                  </a:lnTo>
                  <a:lnTo>
                    <a:pt x="905" y="85"/>
                  </a:lnTo>
                  <a:lnTo>
                    <a:pt x="955" y="135"/>
                  </a:lnTo>
                  <a:lnTo>
                    <a:pt x="1004" y="195"/>
                  </a:lnTo>
                  <a:lnTo>
                    <a:pt x="1048" y="260"/>
                  </a:lnTo>
                  <a:lnTo>
                    <a:pt x="1087" y="340"/>
                  </a:lnTo>
                  <a:lnTo>
                    <a:pt x="1120" y="424"/>
                  </a:lnTo>
                  <a:lnTo>
                    <a:pt x="1148" y="519"/>
                  </a:lnTo>
                  <a:lnTo>
                    <a:pt x="1172" y="619"/>
                  </a:lnTo>
                  <a:lnTo>
                    <a:pt x="1192" y="729"/>
                  </a:lnTo>
                  <a:lnTo>
                    <a:pt x="1206" y="839"/>
                  </a:lnTo>
                  <a:lnTo>
                    <a:pt x="1216" y="957"/>
                  </a:lnTo>
                  <a:lnTo>
                    <a:pt x="1223" y="1077"/>
                  </a:lnTo>
                  <a:lnTo>
                    <a:pt x="1225" y="1197"/>
                  </a:lnTo>
                  <a:lnTo>
                    <a:pt x="1221" y="1381"/>
                  </a:lnTo>
                  <a:lnTo>
                    <a:pt x="1212" y="1541"/>
                  </a:lnTo>
                  <a:lnTo>
                    <a:pt x="1196" y="1681"/>
                  </a:lnTo>
                  <a:lnTo>
                    <a:pt x="1176" y="1800"/>
                  </a:lnTo>
                  <a:lnTo>
                    <a:pt x="1148" y="1900"/>
                  </a:lnTo>
                  <a:lnTo>
                    <a:pt x="1117" y="1995"/>
                  </a:lnTo>
                  <a:lnTo>
                    <a:pt x="1083" y="2080"/>
                  </a:lnTo>
                  <a:lnTo>
                    <a:pt x="1044" y="2160"/>
                  </a:lnTo>
                  <a:lnTo>
                    <a:pt x="997" y="2220"/>
                  </a:lnTo>
                  <a:lnTo>
                    <a:pt x="951" y="2279"/>
                  </a:lnTo>
                  <a:lnTo>
                    <a:pt x="905" y="2319"/>
                  </a:lnTo>
                  <a:lnTo>
                    <a:pt x="857" y="2349"/>
                  </a:lnTo>
                  <a:lnTo>
                    <a:pt x="788" y="2379"/>
                  </a:lnTo>
                  <a:lnTo>
                    <a:pt x="727" y="2399"/>
                  </a:lnTo>
                  <a:lnTo>
                    <a:pt x="666" y="2409"/>
                  </a:lnTo>
                  <a:lnTo>
                    <a:pt x="611" y="2419"/>
                  </a:lnTo>
                  <a:lnTo>
                    <a:pt x="0" y="24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93880" y="3913200"/>
              <a:ext cx="520560" cy="871560"/>
            </a:xfrm>
            <a:custGeom>
              <a:avLst/>
              <a:gdLst/>
              <a:ahLst/>
              <a:rect l="l" t="t" r="r" b="b"/>
              <a:pathLst>
                <a:path w="1446" h="2420">
                  <a:moveTo>
                    <a:pt x="862" y="1496"/>
                  </a:moveTo>
                  <a:lnTo>
                    <a:pt x="717" y="624"/>
                  </a:lnTo>
                  <a:lnTo>
                    <a:pt x="571" y="1496"/>
                  </a:lnTo>
                  <a:lnTo>
                    <a:pt x="862" y="1496"/>
                  </a:lnTo>
                  <a:lnTo>
                    <a:pt x="862" y="1496"/>
                  </a:lnTo>
                  <a:close/>
                  <a:moveTo>
                    <a:pt x="947" y="2020"/>
                  </a:moveTo>
                  <a:lnTo>
                    <a:pt x="485" y="2020"/>
                  </a:lnTo>
                  <a:lnTo>
                    <a:pt x="418" y="2419"/>
                  </a:lnTo>
                  <a:lnTo>
                    <a:pt x="0" y="2419"/>
                  </a:lnTo>
                  <a:lnTo>
                    <a:pt x="496" y="0"/>
                  </a:lnTo>
                  <a:lnTo>
                    <a:pt x="945" y="0"/>
                  </a:lnTo>
                  <a:lnTo>
                    <a:pt x="1445" y="2419"/>
                  </a:lnTo>
                  <a:lnTo>
                    <a:pt x="1015" y="2419"/>
                  </a:lnTo>
                  <a:lnTo>
                    <a:pt x="947" y="2020"/>
                  </a:lnTo>
                  <a:lnTo>
                    <a:pt x="947" y="202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2320" y="3913200"/>
              <a:ext cx="458640" cy="871560"/>
            </a:xfrm>
            <a:custGeom>
              <a:avLst/>
              <a:gdLst/>
              <a:ahLst/>
              <a:rect l="l" t="t" r="r" b="b"/>
              <a:pathLst>
                <a:path w="1274" h="2420">
                  <a:moveTo>
                    <a:pt x="0" y="0"/>
                  </a:moveTo>
                  <a:lnTo>
                    <a:pt x="383" y="0"/>
                  </a:lnTo>
                  <a:lnTo>
                    <a:pt x="885" y="1341"/>
                  </a:lnTo>
                  <a:lnTo>
                    <a:pt x="885" y="0"/>
                  </a:lnTo>
                  <a:lnTo>
                    <a:pt x="1273" y="0"/>
                  </a:lnTo>
                  <a:lnTo>
                    <a:pt x="1273" y="2419"/>
                  </a:lnTo>
                  <a:lnTo>
                    <a:pt x="885" y="2419"/>
                  </a:lnTo>
                  <a:lnTo>
                    <a:pt x="385" y="1082"/>
                  </a:lnTo>
                  <a:lnTo>
                    <a:pt x="385" y="2419"/>
                  </a:lnTo>
                  <a:lnTo>
                    <a:pt x="0" y="2419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70280" y="3913200"/>
              <a:ext cx="520560" cy="871560"/>
            </a:xfrm>
            <a:custGeom>
              <a:avLst/>
              <a:gdLst/>
              <a:ahLst/>
              <a:rect l="l" t="t" r="r" b="b"/>
              <a:pathLst>
                <a:path w="1446" h="2420">
                  <a:moveTo>
                    <a:pt x="0" y="0"/>
                  </a:moveTo>
                  <a:lnTo>
                    <a:pt x="455" y="0"/>
                  </a:lnTo>
                  <a:lnTo>
                    <a:pt x="725" y="814"/>
                  </a:lnTo>
                  <a:lnTo>
                    <a:pt x="992" y="0"/>
                  </a:lnTo>
                  <a:lnTo>
                    <a:pt x="1445" y="0"/>
                  </a:lnTo>
                  <a:lnTo>
                    <a:pt x="929" y="1401"/>
                  </a:lnTo>
                  <a:lnTo>
                    <a:pt x="929" y="2419"/>
                  </a:lnTo>
                  <a:lnTo>
                    <a:pt x="516" y="2419"/>
                  </a:lnTo>
                  <a:lnTo>
                    <a:pt x="516" y="1401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1080" y="3898800"/>
              <a:ext cx="465120" cy="900360"/>
            </a:xfrm>
            <a:custGeom>
              <a:avLst/>
              <a:gdLst/>
              <a:ahLst/>
              <a:rect l="l" t="t" r="r" b="b"/>
              <a:pathLst>
                <a:path w="1293" h="2500">
                  <a:moveTo>
                    <a:pt x="933" y="1466"/>
                  </a:moveTo>
                  <a:lnTo>
                    <a:pt x="1292" y="1661"/>
                  </a:lnTo>
                  <a:lnTo>
                    <a:pt x="1270" y="1796"/>
                  </a:lnTo>
                  <a:lnTo>
                    <a:pt x="1244" y="1915"/>
                  </a:lnTo>
                  <a:lnTo>
                    <a:pt x="1213" y="2020"/>
                  </a:lnTo>
                  <a:lnTo>
                    <a:pt x="1179" y="2120"/>
                  </a:lnTo>
                  <a:lnTo>
                    <a:pt x="1137" y="2205"/>
                  </a:lnTo>
                  <a:lnTo>
                    <a:pt x="1090" y="2284"/>
                  </a:lnTo>
                  <a:lnTo>
                    <a:pt x="1041" y="2349"/>
                  </a:lnTo>
                  <a:lnTo>
                    <a:pt x="986" y="2399"/>
                  </a:lnTo>
                  <a:lnTo>
                    <a:pt x="922" y="2439"/>
                  </a:lnTo>
                  <a:lnTo>
                    <a:pt x="854" y="2469"/>
                  </a:lnTo>
                  <a:lnTo>
                    <a:pt x="775" y="2484"/>
                  </a:lnTo>
                  <a:lnTo>
                    <a:pt x="690" y="2499"/>
                  </a:lnTo>
                  <a:lnTo>
                    <a:pt x="585" y="2484"/>
                  </a:lnTo>
                  <a:lnTo>
                    <a:pt x="492" y="2464"/>
                  </a:lnTo>
                  <a:lnTo>
                    <a:pt x="409" y="2429"/>
                  </a:lnTo>
                  <a:lnTo>
                    <a:pt x="336" y="2379"/>
                  </a:lnTo>
                  <a:lnTo>
                    <a:pt x="269" y="2314"/>
                  </a:lnTo>
                  <a:lnTo>
                    <a:pt x="208" y="2220"/>
                  </a:lnTo>
                  <a:lnTo>
                    <a:pt x="151" y="2110"/>
                  </a:lnTo>
                  <a:lnTo>
                    <a:pt x="100" y="1980"/>
                  </a:lnTo>
                  <a:lnTo>
                    <a:pt x="54" y="1820"/>
                  </a:lnTo>
                  <a:lnTo>
                    <a:pt x="23" y="1651"/>
                  </a:lnTo>
                  <a:lnTo>
                    <a:pt x="3" y="1456"/>
                  </a:lnTo>
                  <a:lnTo>
                    <a:pt x="0" y="1242"/>
                  </a:lnTo>
                  <a:lnTo>
                    <a:pt x="10" y="957"/>
                  </a:lnTo>
                  <a:lnTo>
                    <a:pt x="43" y="709"/>
                  </a:lnTo>
                  <a:lnTo>
                    <a:pt x="98" y="494"/>
                  </a:lnTo>
                  <a:lnTo>
                    <a:pt x="174" y="320"/>
                  </a:lnTo>
                  <a:lnTo>
                    <a:pt x="271" y="180"/>
                  </a:lnTo>
                  <a:lnTo>
                    <a:pt x="385" y="80"/>
                  </a:lnTo>
                  <a:lnTo>
                    <a:pt x="518" y="20"/>
                  </a:lnTo>
                  <a:lnTo>
                    <a:pt x="670" y="0"/>
                  </a:lnTo>
                  <a:lnTo>
                    <a:pt x="788" y="5"/>
                  </a:lnTo>
                  <a:lnTo>
                    <a:pt x="893" y="40"/>
                  </a:lnTo>
                  <a:lnTo>
                    <a:pt x="986" y="100"/>
                  </a:lnTo>
                  <a:lnTo>
                    <a:pt x="1067" y="180"/>
                  </a:lnTo>
                  <a:lnTo>
                    <a:pt x="1132" y="285"/>
                  </a:lnTo>
                  <a:lnTo>
                    <a:pt x="1189" y="415"/>
                  </a:lnTo>
                  <a:lnTo>
                    <a:pt x="1240" y="569"/>
                  </a:lnTo>
                  <a:lnTo>
                    <a:pt x="1279" y="749"/>
                  </a:lnTo>
                  <a:lnTo>
                    <a:pt x="918" y="898"/>
                  </a:lnTo>
                  <a:lnTo>
                    <a:pt x="907" y="839"/>
                  </a:lnTo>
                  <a:lnTo>
                    <a:pt x="898" y="799"/>
                  </a:lnTo>
                  <a:lnTo>
                    <a:pt x="887" y="759"/>
                  </a:lnTo>
                  <a:lnTo>
                    <a:pt x="879" y="739"/>
                  </a:lnTo>
                  <a:lnTo>
                    <a:pt x="859" y="694"/>
                  </a:lnTo>
                  <a:lnTo>
                    <a:pt x="839" y="659"/>
                  </a:lnTo>
                  <a:lnTo>
                    <a:pt x="816" y="624"/>
                  </a:lnTo>
                  <a:lnTo>
                    <a:pt x="794" y="599"/>
                  </a:lnTo>
                  <a:lnTo>
                    <a:pt x="768" y="579"/>
                  </a:lnTo>
                  <a:lnTo>
                    <a:pt x="740" y="564"/>
                  </a:lnTo>
                  <a:lnTo>
                    <a:pt x="711" y="559"/>
                  </a:lnTo>
                  <a:lnTo>
                    <a:pt x="681" y="559"/>
                  </a:lnTo>
                  <a:lnTo>
                    <a:pt x="615" y="569"/>
                  </a:lnTo>
                  <a:lnTo>
                    <a:pt x="558" y="604"/>
                  </a:lnTo>
                  <a:lnTo>
                    <a:pt x="508" y="669"/>
                  </a:lnTo>
                  <a:lnTo>
                    <a:pt x="468" y="759"/>
                  </a:lnTo>
                  <a:lnTo>
                    <a:pt x="442" y="844"/>
                  </a:lnTo>
                  <a:lnTo>
                    <a:pt x="425" y="952"/>
                  </a:lnTo>
                  <a:lnTo>
                    <a:pt x="413" y="1082"/>
                  </a:lnTo>
                  <a:lnTo>
                    <a:pt x="411" y="1237"/>
                  </a:lnTo>
                  <a:lnTo>
                    <a:pt x="413" y="1421"/>
                  </a:lnTo>
                  <a:lnTo>
                    <a:pt x="427" y="1571"/>
                  </a:lnTo>
                  <a:lnTo>
                    <a:pt x="449" y="1691"/>
                  </a:lnTo>
                  <a:lnTo>
                    <a:pt x="479" y="1781"/>
                  </a:lnTo>
                  <a:lnTo>
                    <a:pt x="514" y="1845"/>
                  </a:lnTo>
                  <a:lnTo>
                    <a:pt x="558" y="1895"/>
                  </a:lnTo>
                  <a:lnTo>
                    <a:pt x="609" y="1920"/>
                  </a:lnTo>
                  <a:lnTo>
                    <a:pt x="668" y="1935"/>
                  </a:lnTo>
                  <a:lnTo>
                    <a:pt x="723" y="1925"/>
                  </a:lnTo>
                  <a:lnTo>
                    <a:pt x="771" y="1900"/>
                  </a:lnTo>
                  <a:lnTo>
                    <a:pt x="812" y="1865"/>
                  </a:lnTo>
                  <a:lnTo>
                    <a:pt x="847" y="1815"/>
                  </a:lnTo>
                  <a:lnTo>
                    <a:pt x="873" y="1746"/>
                  </a:lnTo>
                  <a:lnTo>
                    <a:pt x="898" y="1666"/>
                  </a:lnTo>
                  <a:lnTo>
                    <a:pt x="918" y="1571"/>
                  </a:lnTo>
                  <a:lnTo>
                    <a:pt x="933" y="1466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9280" y="3913200"/>
              <a:ext cx="458640" cy="871560"/>
            </a:xfrm>
            <a:custGeom>
              <a:avLst/>
              <a:gdLst/>
              <a:ahLst/>
              <a:rect l="l" t="t" r="r" b="b"/>
              <a:pathLst>
                <a:path w="1275" h="2420">
                  <a:moveTo>
                    <a:pt x="0" y="0"/>
                  </a:moveTo>
                  <a:lnTo>
                    <a:pt x="410" y="0"/>
                  </a:lnTo>
                  <a:lnTo>
                    <a:pt x="410" y="843"/>
                  </a:lnTo>
                  <a:lnTo>
                    <a:pt x="861" y="843"/>
                  </a:lnTo>
                  <a:lnTo>
                    <a:pt x="861" y="0"/>
                  </a:lnTo>
                  <a:lnTo>
                    <a:pt x="1274" y="0"/>
                  </a:lnTo>
                  <a:lnTo>
                    <a:pt x="1274" y="2419"/>
                  </a:lnTo>
                  <a:lnTo>
                    <a:pt x="861" y="2419"/>
                  </a:lnTo>
                  <a:lnTo>
                    <a:pt x="861" y="1441"/>
                  </a:lnTo>
                  <a:lnTo>
                    <a:pt x="410" y="1441"/>
                  </a:lnTo>
                  <a:lnTo>
                    <a:pt x="410" y="2419"/>
                  </a:lnTo>
                  <a:lnTo>
                    <a:pt x="0" y="2419"/>
                  </a:lnTo>
                  <a:lnTo>
                    <a:pt x="0" y="0"/>
                  </a:lnTo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2668320" cy="2247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2438280" cy="18813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8001000" y="5943600"/>
            <a:ext cx="762120" cy="684360"/>
            <a:chOff x="8001000" y="5943600"/>
            <a:chExt cx="762120" cy="684360"/>
          </a:xfrm>
        </p:grpSpPr>
        <p:sp>
          <p:nvSpPr>
            <p:cNvPr id="115" name=""/>
            <p:cNvSpPr/>
            <p:nvPr/>
          </p:nvSpPr>
          <p:spPr>
            <a:xfrm>
              <a:off x="8001000" y="5943600"/>
              <a:ext cx="762120" cy="684360"/>
            </a:xfrm>
            <a:custGeom>
              <a:avLst/>
              <a:gdLst/>
              <a:ahLst/>
              <a:rect l="l" t="t" r="r" b="b"/>
              <a:pathLst>
                <a:path w="2118" h="1902">
                  <a:moveTo>
                    <a:pt x="0" y="0"/>
                  </a:moveTo>
                  <a:lnTo>
                    <a:pt x="2117" y="0"/>
                  </a:lnTo>
                  <a:lnTo>
                    <a:pt x="2117" y="1901"/>
                  </a:lnTo>
                  <a:lnTo>
                    <a:pt x="0" y="1901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1000" y="5943600"/>
              <a:ext cx="762120" cy="4428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0" y="0"/>
                  </a:moveTo>
                  <a:lnTo>
                    <a:pt x="2117" y="0"/>
                  </a:lnTo>
                  <a:lnTo>
                    <a:pt x="1993" y="123"/>
                  </a:lnTo>
                  <a:lnTo>
                    <a:pt x="123" y="123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71704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5" h="1902">
                  <a:moveTo>
                    <a:pt x="124" y="0"/>
                  </a:moveTo>
                  <a:lnTo>
                    <a:pt x="124" y="1901"/>
                  </a:lnTo>
                  <a:lnTo>
                    <a:pt x="0" y="1777"/>
                  </a:lnTo>
                  <a:lnTo>
                    <a:pt x="0" y="122"/>
                  </a:lnTo>
                  <a:lnTo>
                    <a:pt x="124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1000" y="6583320"/>
              <a:ext cx="762120" cy="4464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2117" y="123"/>
                  </a:moveTo>
                  <a:lnTo>
                    <a:pt x="0" y="123"/>
                  </a:lnTo>
                  <a:lnTo>
                    <a:pt x="123" y="0"/>
                  </a:lnTo>
                  <a:lnTo>
                    <a:pt x="1993" y="0"/>
                  </a:lnTo>
                  <a:lnTo>
                    <a:pt x="2117" y="123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0100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0" y="1901"/>
                  </a:moveTo>
                  <a:lnTo>
                    <a:pt x="0" y="0"/>
                  </a:lnTo>
                  <a:lnTo>
                    <a:pt x="123" y="122"/>
                  </a:lnTo>
                  <a:lnTo>
                    <a:pt x="123" y="1777"/>
                  </a:lnTo>
                  <a:lnTo>
                    <a:pt x="0" y="1901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59760" y="6064200"/>
              <a:ext cx="446040" cy="446040"/>
            </a:xfrm>
            <a:custGeom>
              <a:avLst/>
              <a:gdLst/>
              <a:ahLst/>
              <a:rect l="l" t="t" r="r" b="b"/>
              <a:pathLst>
                <a:path w="1238" h="1237">
                  <a:moveTo>
                    <a:pt x="0" y="0"/>
                  </a:moveTo>
                  <a:lnTo>
                    <a:pt x="1237" y="619"/>
                  </a:lnTo>
                  <a:lnTo>
                    <a:pt x="0" y="1236"/>
                  </a:lnTo>
                  <a:lnTo>
                    <a:pt x="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533520" y="609480"/>
            <a:ext cx="3375000" cy="698760"/>
            <a:chOff x="533520" y="609480"/>
            <a:chExt cx="3375000" cy="698760"/>
          </a:xfrm>
        </p:grpSpPr>
        <p:sp>
          <p:nvSpPr>
            <p:cNvPr id="122" name=""/>
            <p:cNvSpPr/>
            <p:nvPr/>
          </p:nvSpPr>
          <p:spPr>
            <a:xfrm>
              <a:off x="533520" y="609480"/>
              <a:ext cx="512640" cy="698760"/>
            </a:xfrm>
            <a:custGeom>
              <a:avLst/>
              <a:gdLst/>
              <a:ahLst/>
              <a:rect l="l" t="t" r="r" b="b"/>
              <a:pathLst>
                <a:path w="1423" h="1942">
                  <a:moveTo>
                    <a:pt x="0" y="0"/>
                  </a:moveTo>
                  <a:lnTo>
                    <a:pt x="1422" y="0"/>
                  </a:lnTo>
                  <a:lnTo>
                    <a:pt x="1422" y="480"/>
                  </a:lnTo>
                  <a:lnTo>
                    <a:pt x="945" y="480"/>
                  </a:lnTo>
                  <a:lnTo>
                    <a:pt x="945" y="1941"/>
                  </a:lnTo>
                  <a:lnTo>
                    <a:pt x="478" y="1941"/>
                  </a:lnTo>
                  <a:lnTo>
                    <a:pt x="478" y="480"/>
                  </a:lnTo>
                  <a:lnTo>
                    <a:pt x="0" y="480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8480" y="609480"/>
              <a:ext cx="593640" cy="698760"/>
            </a:xfrm>
            <a:custGeom>
              <a:avLst/>
              <a:gdLst/>
              <a:ahLst/>
              <a:rect l="l" t="t" r="r" b="b"/>
              <a:pathLst>
                <a:path w="1651" h="1942">
                  <a:moveTo>
                    <a:pt x="985" y="1201"/>
                  </a:moveTo>
                  <a:lnTo>
                    <a:pt x="820" y="500"/>
                  </a:lnTo>
                  <a:lnTo>
                    <a:pt x="652" y="1201"/>
                  </a:lnTo>
                  <a:lnTo>
                    <a:pt x="985" y="1201"/>
                  </a:lnTo>
                  <a:lnTo>
                    <a:pt x="985" y="1201"/>
                  </a:lnTo>
                  <a:close/>
                  <a:moveTo>
                    <a:pt x="1082" y="1621"/>
                  </a:moveTo>
                  <a:lnTo>
                    <a:pt x="554" y="1621"/>
                  </a:lnTo>
                  <a:lnTo>
                    <a:pt x="477" y="1941"/>
                  </a:lnTo>
                  <a:lnTo>
                    <a:pt x="0" y="1941"/>
                  </a:lnTo>
                  <a:lnTo>
                    <a:pt x="567" y="0"/>
                  </a:lnTo>
                  <a:lnTo>
                    <a:pt x="1080" y="0"/>
                  </a:lnTo>
                  <a:lnTo>
                    <a:pt x="1650" y="1941"/>
                  </a:lnTo>
                  <a:lnTo>
                    <a:pt x="1160" y="1941"/>
                  </a:lnTo>
                  <a:lnTo>
                    <a:pt x="1082" y="1621"/>
                  </a:lnTo>
                  <a:lnTo>
                    <a:pt x="1082" y="162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14680" y="609480"/>
              <a:ext cx="506160" cy="698760"/>
            </a:xfrm>
            <a:custGeom>
              <a:avLst/>
              <a:gdLst/>
              <a:ahLst/>
              <a:rect l="l" t="t" r="r" b="b"/>
              <a:pathLst>
                <a:path w="1406" h="1942">
                  <a:moveTo>
                    <a:pt x="474" y="760"/>
                  </a:moveTo>
                  <a:lnTo>
                    <a:pt x="679" y="760"/>
                  </a:lnTo>
                  <a:lnTo>
                    <a:pt x="729" y="760"/>
                  </a:lnTo>
                  <a:lnTo>
                    <a:pt x="772" y="748"/>
                  </a:lnTo>
                  <a:lnTo>
                    <a:pt x="804" y="732"/>
                  </a:lnTo>
                  <a:lnTo>
                    <a:pt x="831" y="713"/>
                  </a:lnTo>
                  <a:lnTo>
                    <a:pt x="848" y="685"/>
                  </a:lnTo>
                  <a:lnTo>
                    <a:pt x="860" y="653"/>
                  </a:lnTo>
                  <a:lnTo>
                    <a:pt x="868" y="613"/>
                  </a:lnTo>
                  <a:lnTo>
                    <a:pt x="873" y="572"/>
                  </a:lnTo>
                  <a:lnTo>
                    <a:pt x="868" y="532"/>
                  </a:lnTo>
                  <a:lnTo>
                    <a:pt x="860" y="496"/>
                  </a:lnTo>
                  <a:lnTo>
                    <a:pt x="848" y="468"/>
                  </a:lnTo>
                  <a:lnTo>
                    <a:pt x="831" y="440"/>
                  </a:lnTo>
                  <a:lnTo>
                    <a:pt x="807" y="420"/>
                  </a:lnTo>
                  <a:lnTo>
                    <a:pt x="772" y="404"/>
                  </a:lnTo>
                  <a:lnTo>
                    <a:pt x="732" y="392"/>
                  </a:lnTo>
                  <a:lnTo>
                    <a:pt x="682" y="392"/>
                  </a:lnTo>
                  <a:lnTo>
                    <a:pt x="474" y="392"/>
                  </a:lnTo>
                  <a:lnTo>
                    <a:pt x="474" y="760"/>
                  </a:lnTo>
                  <a:lnTo>
                    <a:pt x="474" y="760"/>
                  </a:lnTo>
                  <a:close/>
                  <a:moveTo>
                    <a:pt x="474" y="1525"/>
                  </a:moveTo>
                  <a:lnTo>
                    <a:pt x="714" y="1525"/>
                  </a:lnTo>
                  <a:lnTo>
                    <a:pt x="769" y="1521"/>
                  </a:lnTo>
                  <a:lnTo>
                    <a:pt x="817" y="1509"/>
                  </a:lnTo>
                  <a:lnTo>
                    <a:pt x="853" y="1493"/>
                  </a:lnTo>
                  <a:lnTo>
                    <a:pt x="883" y="1473"/>
                  </a:lnTo>
                  <a:lnTo>
                    <a:pt x="903" y="1437"/>
                  </a:lnTo>
                  <a:lnTo>
                    <a:pt x="918" y="1405"/>
                  </a:lnTo>
                  <a:lnTo>
                    <a:pt x="928" y="1365"/>
                  </a:lnTo>
                  <a:lnTo>
                    <a:pt x="933" y="1324"/>
                  </a:lnTo>
                  <a:lnTo>
                    <a:pt x="928" y="1280"/>
                  </a:lnTo>
                  <a:lnTo>
                    <a:pt x="920" y="1244"/>
                  </a:lnTo>
                  <a:lnTo>
                    <a:pt x="905" y="1209"/>
                  </a:lnTo>
                  <a:lnTo>
                    <a:pt x="885" y="1181"/>
                  </a:lnTo>
                  <a:lnTo>
                    <a:pt x="855" y="1157"/>
                  </a:lnTo>
                  <a:lnTo>
                    <a:pt x="817" y="1141"/>
                  </a:lnTo>
                  <a:lnTo>
                    <a:pt x="769" y="1133"/>
                  </a:lnTo>
                  <a:lnTo>
                    <a:pt x="712" y="1133"/>
                  </a:lnTo>
                  <a:lnTo>
                    <a:pt x="474" y="1133"/>
                  </a:lnTo>
                  <a:lnTo>
                    <a:pt x="474" y="1525"/>
                  </a:lnTo>
                  <a:lnTo>
                    <a:pt x="474" y="1525"/>
                  </a:lnTo>
                  <a:close/>
                  <a:moveTo>
                    <a:pt x="0" y="0"/>
                  </a:moveTo>
                  <a:lnTo>
                    <a:pt x="878" y="0"/>
                  </a:lnTo>
                  <a:lnTo>
                    <a:pt x="981" y="4"/>
                  </a:lnTo>
                  <a:lnTo>
                    <a:pt x="1075" y="32"/>
                  </a:lnTo>
                  <a:lnTo>
                    <a:pt x="1152" y="76"/>
                  </a:lnTo>
                  <a:lnTo>
                    <a:pt x="1217" y="136"/>
                  </a:lnTo>
                  <a:lnTo>
                    <a:pt x="1267" y="209"/>
                  </a:lnTo>
                  <a:lnTo>
                    <a:pt x="1304" y="288"/>
                  </a:lnTo>
                  <a:lnTo>
                    <a:pt x="1327" y="384"/>
                  </a:lnTo>
                  <a:lnTo>
                    <a:pt x="1334" y="484"/>
                  </a:lnTo>
                  <a:lnTo>
                    <a:pt x="1327" y="564"/>
                  </a:lnTo>
                  <a:lnTo>
                    <a:pt x="1312" y="645"/>
                  </a:lnTo>
                  <a:lnTo>
                    <a:pt x="1287" y="713"/>
                  </a:lnTo>
                  <a:lnTo>
                    <a:pt x="1249" y="776"/>
                  </a:lnTo>
                  <a:lnTo>
                    <a:pt x="1217" y="816"/>
                  </a:lnTo>
                  <a:lnTo>
                    <a:pt x="1180" y="852"/>
                  </a:lnTo>
                  <a:lnTo>
                    <a:pt x="1137" y="880"/>
                  </a:lnTo>
                  <a:lnTo>
                    <a:pt x="1087" y="908"/>
                  </a:lnTo>
                  <a:lnTo>
                    <a:pt x="1162" y="936"/>
                  </a:lnTo>
                  <a:lnTo>
                    <a:pt x="1227" y="973"/>
                  </a:lnTo>
                  <a:lnTo>
                    <a:pt x="1282" y="1021"/>
                  </a:lnTo>
                  <a:lnTo>
                    <a:pt x="1327" y="1081"/>
                  </a:lnTo>
                  <a:lnTo>
                    <a:pt x="1359" y="1145"/>
                  </a:lnTo>
                  <a:lnTo>
                    <a:pt x="1384" y="1216"/>
                  </a:lnTo>
                  <a:lnTo>
                    <a:pt x="1399" y="1300"/>
                  </a:lnTo>
                  <a:lnTo>
                    <a:pt x="1405" y="1389"/>
                  </a:lnTo>
                  <a:lnTo>
                    <a:pt x="1399" y="1461"/>
                  </a:lnTo>
                  <a:lnTo>
                    <a:pt x="1389" y="1533"/>
                  </a:lnTo>
                  <a:lnTo>
                    <a:pt x="1372" y="1597"/>
                  </a:lnTo>
                  <a:lnTo>
                    <a:pt x="1349" y="1661"/>
                  </a:lnTo>
                  <a:lnTo>
                    <a:pt x="1317" y="1712"/>
                  </a:lnTo>
                  <a:lnTo>
                    <a:pt x="1282" y="1765"/>
                  </a:lnTo>
                  <a:lnTo>
                    <a:pt x="1242" y="1809"/>
                  </a:lnTo>
                  <a:lnTo>
                    <a:pt x="1199" y="1853"/>
                  </a:lnTo>
                  <a:lnTo>
                    <a:pt x="1165" y="1873"/>
                  </a:lnTo>
                  <a:lnTo>
                    <a:pt x="1125" y="1889"/>
                  </a:lnTo>
                  <a:lnTo>
                    <a:pt x="1075" y="1905"/>
                  </a:lnTo>
                  <a:lnTo>
                    <a:pt x="1022" y="1917"/>
                  </a:lnTo>
                  <a:lnTo>
                    <a:pt x="946" y="1925"/>
                  </a:lnTo>
                  <a:lnTo>
                    <a:pt x="885" y="1933"/>
                  </a:lnTo>
                  <a:lnTo>
                    <a:pt x="841" y="1941"/>
                  </a:lnTo>
                  <a:lnTo>
                    <a:pt x="812" y="1941"/>
                  </a:lnTo>
                  <a:lnTo>
                    <a:pt x="0" y="19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08320" y="609480"/>
              <a:ext cx="460440" cy="698760"/>
            </a:xfrm>
            <a:custGeom>
              <a:avLst/>
              <a:gdLst/>
              <a:ahLst/>
              <a:rect l="l" t="t" r="r" b="b"/>
              <a:pathLst>
                <a:path w="1279" h="1942">
                  <a:moveTo>
                    <a:pt x="0" y="0"/>
                  </a:moveTo>
                  <a:lnTo>
                    <a:pt x="1255" y="0"/>
                  </a:lnTo>
                  <a:lnTo>
                    <a:pt x="1255" y="412"/>
                  </a:lnTo>
                  <a:lnTo>
                    <a:pt x="469" y="412"/>
                  </a:lnTo>
                  <a:lnTo>
                    <a:pt x="469" y="721"/>
                  </a:lnTo>
                  <a:lnTo>
                    <a:pt x="1198" y="721"/>
                  </a:lnTo>
                  <a:lnTo>
                    <a:pt x="1198" y="1117"/>
                  </a:lnTo>
                  <a:lnTo>
                    <a:pt x="469" y="1117"/>
                  </a:lnTo>
                  <a:lnTo>
                    <a:pt x="469" y="1505"/>
                  </a:lnTo>
                  <a:lnTo>
                    <a:pt x="1278" y="1505"/>
                  </a:lnTo>
                  <a:lnTo>
                    <a:pt x="1278" y="1941"/>
                  </a:lnTo>
                  <a:lnTo>
                    <a:pt x="0" y="1941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60560" y="609480"/>
              <a:ext cx="433440" cy="698760"/>
            </a:xfrm>
            <a:custGeom>
              <a:avLst/>
              <a:gdLst/>
              <a:ahLst/>
              <a:rect l="l" t="t" r="r" b="b"/>
              <a:pathLst>
                <a:path w="1203" h="1942">
                  <a:moveTo>
                    <a:pt x="0" y="0"/>
                  </a:moveTo>
                  <a:lnTo>
                    <a:pt x="468" y="0"/>
                  </a:lnTo>
                  <a:lnTo>
                    <a:pt x="468" y="1465"/>
                  </a:lnTo>
                  <a:lnTo>
                    <a:pt x="1202" y="1465"/>
                  </a:lnTo>
                  <a:lnTo>
                    <a:pt x="1202" y="1941"/>
                  </a:lnTo>
                  <a:lnTo>
                    <a:pt x="0" y="1941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13080" y="609480"/>
              <a:ext cx="595440" cy="698760"/>
            </a:xfrm>
            <a:custGeom>
              <a:avLst/>
              <a:gdLst/>
              <a:ahLst/>
              <a:rect l="l" t="t" r="r" b="b"/>
              <a:pathLst>
                <a:path w="1653" h="1942">
                  <a:moveTo>
                    <a:pt x="986" y="1201"/>
                  </a:moveTo>
                  <a:lnTo>
                    <a:pt x="822" y="500"/>
                  </a:lnTo>
                  <a:lnTo>
                    <a:pt x="654" y="1201"/>
                  </a:lnTo>
                  <a:lnTo>
                    <a:pt x="986" y="1201"/>
                  </a:lnTo>
                  <a:lnTo>
                    <a:pt x="986" y="1201"/>
                  </a:lnTo>
                  <a:close/>
                  <a:moveTo>
                    <a:pt x="1084" y="1621"/>
                  </a:moveTo>
                  <a:lnTo>
                    <a:pt x="556" y="1621"/>
                  </a:lnTo>
                  <a:lnTo>
                    <a:pt x="478" y="1941"/>
                  </a:lnTo>
                  <a:lnTo>
                    <a:pt x="0" y="1941"/>
                  </a:lnTo>
                  <a:lnTo>
                    <a:pt x="569" y="0"/>
                  </a:lnTo>
                  <a:lnTo>
                    <a:pt x="1081" y="0"/>
                  </a:lnTo>
                  <a:lnTo>
                    <a:pt x="1652" y="1941"/>
                  </a:lnTo>
                  <a:lnTo>
                    <a:pt x="1162" y="1941"/>
                  </a:lnTo>
                  <a:lnTo>
                    <a:pt x="1084" y="1621"/>
                  </a:lnTo>
                  <a:lnTo>
                    <a:pt x="1084" y="162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609480" y="1828800"/>
          <a:ext cx="7925040" cy="25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92504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09480" y="5105520"/>
            <a:ext cx="79250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Zestawienie danych za pomocą tabeli pozwala na czytelny sposób przedstawiania danych i sumowania wynik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001000" y="5943600"/>
            <a:ext cx="762120" cy="684360"/>
            <a:chOff x="8001000" y="5943600"/>
            <a:chExt cx="762120" cy="684360"/>
          </a:xfrm>
        </p:grpSpPr>
        <p:sp>
          <p:nvSpPr>
            <p:cNvPr id="132" name=""/>
            <p:cNvSpPr/>
            <p:nvPr/>
          </p:nvSpPr>
          <p:spPr>
            <a:xfrm>
              <a:off x="8001000" y="5943600"/>
              <a:ext cx="762120" cy="684360"/>
            </a:xfrm>
            <a:custGeom>
              <a:avLst/>
              <a:gdLst/>
              <a:ahLst/>
              <a:rect l="l" t="t" r="r" b="b"/>
              <a:pathLst>
                <a:path w="2118" h="1902">
                  <a:moveTo>
                    <a:pt x="0" y="0"/>
                  </a:moveTo>
                  <a:lnTo>
                    <a:pt x="2117" y="0"/>
                  </a:lnTo>
                  <a:lnTo>
                    <a:pt x="2117" y="1901"/>
                  </a:lnTo>
                  <a:lnTo>
                    <a:pt x="0" y="1901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01000" y="5943600"/>
              <a:ext cx="762120" cy="4428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0" y="0"/>
                  </a:moveTo>
                  <a:lnTo>
                    <a:pt x="2117" y="0"/>
                  </a:lnTo>
                  <a:lnTo>
                    <a:pt x="1993" y="123"/>
                  </a:lnTo>
                  <a:lnTo>
                    <a:pt x="123" y="123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1704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5" h="1902">
                  <a:moveTo>
                    <a:pt x="124" y="0"/>
                  </a:moveTo>
                  <a:lnTo>
                    <a:pt x="124" y="1901"/>
                  </a:lnTo>
                  <a:lnTo>
                    <a:pt x="0" y="1777"/>
                  </a:lnTo>
                  <a:lnTo>
                    <a:pt x="0" y="122"/>
                  </a:lnTo>
                  <a:lnTo>
                    <a:pt x="124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01000" y="6583320"/>
              <a:ext cx="762120" cy="4464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2117" y="123"/>
                  </a:moveTo>
                  <a:lnTo>
                    <a:pt x="0" y="123"/>
                  </a:lnTo>
                  <a:lnTo>
                    <a:pt x="123" y="0"/>
                  </a:lnTo>
                  <a:lnTo>
                    <a:pt x="1993" y="0"/>
                  </a:lnTo>
                  <a:lnTo>
                    <a:pt x="2117" y="123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100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0" y="1901"/>
                  </a:moveTo>
                  <a:lnTo>
                    <a:pt x="0" y="0"/>
                  </a:lnTo>
                  <a:lnTo>
                    <a:pt x="123" y="122"/>
                  </a:lnTo>
                  <a:lnTo>
                    <a:pt x="123" y="1777"/>
                  </a:lnTo>
                  <a:lnTo>
                    <a:pt x="0" y="1901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59760" y="6064200"/>
              <a:ext cx="446040" cy="446040"/>
            </a:xfrm>
            <a:custGeom>
              <a:avLst/>
              <a:gdLst/>
              <a:ahLst/>
              <a:rect l="l" t="t" r="r" b="b"/>
              <a:pathLst>
                <a:path w="1238" h="1237">
                  <a:moveTo>
                    <a:pt x="0" y="0"/>
                  </a:moveTo>
                  <a:lnTo>
                    <a:pt x="1237" y="619"/>
                  </a:lnTo>
                  <a:lnTo>
                    <a:pt x="0" y="1236"/>
                  </a:lnTo>
                  <a:lnTo>
                    <a:pt x="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61800" y="457200"/>
            <a:ext cx="8418600" cy="912960"/>
            <a:chOff x="361800" y="457200"/>
            <a:chExt cx="8418600" cy="912960"/>
          </a:xfrm>
        </p:grpSpPr>
        <p:sp>
          <p:nvSpPr>
            <p:cNvPr id="139" name=""/>
            <p:cNvSpPr/>
            <p:nvPr/>
          </p:nvSpPr>
          <p:spPr>
            <a:xfrm>
              <a:off x="361800" y="471600"/>
              <a:ext cx="282600" cy="884160"/>
            </a:xfrm>
            <a:custGeom>
              <a:avLst/>
              <a:gdLst/>
              <a:ahLst/>
              <a:rect l="l" t="t" r="r" b="b"/>
              <a:pathLst>
                <a:path w="785" h="2456">
                  <a:moveTo>
                    <a:pt x="263" y="551"/>
                  </a:moveTo>
                  <a:lnTo>
                    <a:pt x="263" y="1899"/>
                  </a:lnTo>
                  <a:lnTo>
                    <a:pt x="327" y="1899"/>
                  </a:lnTo>
                  <a:lnTo>
                    <a:pt x="365" y="1894"/>
                  </a:lnTo>
                  <a:lnTo>
                    <a:pt x="398" y="1884"/>
                  </a:lnTo>
                  <a:lnTo>
                    <a:pt x="424" y="1863"/>
                  </a:lnTo>
                  <a:lnTo>
                    <a:pt x="446" y="1843"/>
                  </a:lnTo>
                  <a:lnTo>
                    <a:pt x="463" y="1813"/>
                  </a:lnTo>
                  <a:lnTo>
                    <a:pt x="477" y="1767"/>
                  </a:lnTo>
                  <a:lnTo>
                    <a:pt x="489" y="1716"/>
                  </a:lnTo>
                  <a:lnTo>
                    <a:pt x="500" y="1655"/>
                  </a:lnTo>
                  <a:lnTo>
                    <a:pt x="507" y="1579"/>
                  </a:lnTo>
                  <a:lnTo>
                    <a:pt x="514" y="1489"/>
                  </a:lnTo>
                  <a:lnTo>
                    <a:pt x="518" y="1372"/>
                  </a:lnTo>
                  <a:lnTo>
                    <a:pt x="520" y="1231"/>
                  </a:lnTo>
                  <a:lnTo>
                    <a:pt x="517" y="1047"/>
                  </a:lnTo>
                  <a:lnTo>
                    <a:pt x="509" y="901"/>
                  </a:lnTo>
                  <a:lnTo>
                    <a:pt x="495" y="779"/>
                  </a:lnTo>
                  <a:lnTo>
                    <a:pt x="477" y="693"/>
                  </a:lnTo>
                  <a:lnTo>
                    <a:pt x="450" y="632"/>
                  </a:lnTo>
                  <a:lnTo>
                    <a:pt x="417" y="587"/>
                  </a:lnTo>
                  <a:lnTo>
                    <a:pt x="376" y="561"/>
                  </a:lnTo>
                  <a:lnTo>
                    <a:pt x="328" y="551"/>
                  </a:lnTo>
                  <a:lnTo>
                    <a:pt x="263" y="551"/>
                  </a:lnTo>
                  <a:lnTo>
                    <a:pt x="263" y="551"/>
                  </a:lnTo>
                  <a:close/>
                  <a:moveTo>
                    <a:pt x="0" y="0"/>
                  </a:moveTo>
                  <a:lnTo>
                    <a:pt x="390" y="0"/>
                  </a:lnTo>
                  <a:lnTo>
                    <a:pt x="446" y="0"/>
                  </a:lnTo>
                  <a:lnTo>
                    <a:pt x="495" y="20"/>
                  </a:lnTo>
                  <a:lnTo>
                    <a:pt x="540" y="45"/>
                  </a:lnTo>
                  <a:lnTo>
                    <a:pt x="579" y="86"/>
                  </a:lnTo>
                  <a:lnTo>
                    <a:pt x="611" y="136"/>
                  </a:lnTo>
                  <a:lnTo>
                    <a:pt x="642" y="197"/>
                  </a:lnTo>
                  <a:lnTo>
                    <a:pt x="670" y="263"/>
                  </a:lnTo>
                  <a:lnTo>
                    <a:pt x="695" y="343"/>
                  </a:lnTo>
                  <a:lnTo>
                    <a:pt x="716" y="429"/>
                  </a:lnTo>
                  <a:lnTo>
                    <a:pt x="735" y="531"/>
                  </a:lnTo>
                  <a:lnTo>
                    <a:pt x="750" y="632"/>
                  </a:lnTo>
                  <a:lnTo>
                    <a:pt x="763" y="739"/>
                  </a:lnTo>
                  <a:lnTo>
                    <a:pt x="771" y="855"/>
                  </a:lnTo>
                  <a:lnTo>
                    <a:pt x="778" y="971"/>
                  </a:lnTo>
                  <a:lnTo>
                    <a:pt x="782" y="1093"/>
                  </a:lnTo>
                  <a:lnTo>
                    <a:pt x="784" y="1219"/>
                  </a:lnTo>
                  <a:lnTo>
                    <a:pt x="781" y="1403"/>
                  </a:lnTo>
                  <a:lnTo>
                    <a:pt x="775" y="1569"/>
                  </a:lnTo>
                  <a:lnTo>
                    <a:pt x="766" y="1706"/>
                  </a:lnTo>
                  <a:lnTo>
                    <a:pt x="753" y="1828"/>
                  </a:lnTo>
                  <a:lnTo>
                    <a:pt x="735" y="1929"/>
                  </a:lnTo>
                  <a:lnTo>
                    <a:pt x="715" y="2026"/>
                  </a:lnTo>
                  <a:lnTo>
                    <a:pt x="692" y="2112"/>
                  </a:lnTo>
                  <a:lnTo>
                    <a:pt x="667" y="2192"/>
                  </a:lnTo>
                  <a:lnTo>
                    <a:pt x="638" y="2258"/>
                  </a:lnTo>
                  <a:lnTo>
                    <a:pt x="608" y="2313"/>
                  </a:lnTo>
                  <a:lnTo>
                    <a:pt x="579" y="2354"/>
                  </a:lnTo>
                  <a:lnTo>
                    <a:pt x="548" y="2390"/>
                  </a:lnTo>
                  <a:lnTo>
                    <a:pt x="504" y="2415"/>
                  </a:lnTo>
                  <a:lnTo>
                    <a:pt x="466" y="2435"/>
                  </a:lnTo>
                  <a:lnTo>
                    <a:pt x="426" y="2450"/>
                  </a:lnTo>
                  <a:lnTo>
                    <a:pt x="390" y="2455"/>
                  </a:lnTo>
                  <a:lnTo>
                    <a:pt x="0" y="24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6960" y="471600"/>
              <a:ext cx="95040" cy="884160"/>
            </a:xfrm>
            <a:custGeom>
              <a:avLst/>
              <a:gdLst/>
              <a:ahLst/>
              <a:rect l="l" t="t" r="r" b="b"/>
              <a:pathLst>
                <a:path w="264" h="2456">
                  <a:moveTo>
                    <a:pt x="0" y="0"/>
                  </a:moveTo>
                  <a:lnTo>
                    <a:pt x="263" y="0"/>
                  </a:lnTo>
                  <a:lnTo>
                    <a:pt x="263" y="2455"/>
                  </a:lnTo>
                  <a:lnTo>
                    <a:pt x="0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8720" y="471600"/>
              <a:ext cx="333360" cy="884160"/>
            </a:xfrm>
            <a:custGeom>
              <a:avLst/>
              <a:gdLst/>
              <a:ahLst/>
              <a:rect l="l" t="t" r="r" b="b"/>
              <a:pathLst>
                <a:path w="927" h="2456">
                  <a:moveTo>
                    <a:pt x="553" y="1520"/>
                  </a:moveTo>
                  <a:lnTo>
                    <a:pt x="460" y="632"/>
                  </a:lnTo>
                  <a:lnTo>
                    <a:pt x="366" y="1520"/>
                  </a:lnTo>
                  <a:lnTo>
                    <a:pt x="553" y="1520"/>
                  </a:lnTo>
                  <a:lnTo>
                    <a:pt x="553" y="1520"/>
                  </a:lnTo>
                  <a:close/>
                  <a:moveTo>
                    <a:pt x="608" y="2051"/>
                  </a:moveTo>
                  <a:lnTo>
                    <a:pt x="312" y="2051"/>
                  </a:lnTo>
                  <a:lnTo>
                    <a:pt x="268" y="2455"/>
                  </a:lnTo>
                  <a:lnTo>
                    <a:pt x="0" y="2455"/>
                  </a:lnTo>
                  <a:lnTo>
                    <a:pt x="319" y="0"/>
                  </a:lnTo>
                  <a:lnTo>
                    <a:pt x="606" y="0"/>
                  </a:lnTo>
                  <a:lnTo>
                    <a:pt x="926" y="2455"/>
                  </a:lnTo>
                  <a:lnTo>
                    <a:pt x="651" y="2455"/>
                  </a:lnTo>
                  <a:lnTo>
                    <a:pt x="608" y="2051"/>
                  </a:lnTo>
                  <a:lnTo>
                    <a:pt x="608" y="205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81160" y="457200"/>
              <a:ext cx="312840" cy="912960"/>
            </a:xfrm>
            <a:custGeom>
              <a:avLst/>
              <a:gdLst/>
              <a:ahLst/>
              <a:rect l="l" t="t" r="r" b="b"/>
              <a:pathLst>
                <a:path w="868" h="2537">
                  <a:moveTo>
                    <a:pt x="460" y="1609"/>
                  </a:moveTo>
                  <a:lnTo>
                    <a:pt x="460" y="1098"/>
                  </a:lnTo>
                  <a:lnTo>
                    <a:pt x="867" y="1098"/>
                  </a:lnTo>
                  <a:lnTo>
                    <a:pt x="867" y="2142"/>
                  </a:lnTo>
                  <a:lnTo>
                    <a:pt x="809" y="2247"/>
                  </a:lnTo>
                  <a:lnTo>
                    <a:pt x="758" y="2328"/>
                  </a:lnTo>
                  <a:lnTo>
                    <a:pt x="707" y="2399"/>
                  </a:lnTo>
                  <a:lnTo>
                    <a:pt x="660" y="2455"/>
                  </a:lnTo>
                  <a:lnTo>
                    <a:pt x="614" y="2485"/>
                  </a:lnTo>
                  <a:lnTo>
                    <a:pt x="563" y="2516"/>
                  </a:lnTo>
                  <a:lnTo>
                    <a:pt x="507" y="2531"/>
                  </a:lnTo>
                  <a:lnTo>
                    <a:pt x="448" y="2536"/>
                  </a:lnTo>
                  <a:lnTo>
                    <a:pt x="375" y="2526"/>
                  </a:lnTo>
                  <a:lnTo>
                    <a:pt x="309" y="2495"/>
                  </a:lnTo>
                  <a:lnTo>
                    <a:pt x="251" y="2455"/>
                  </a:lnTo>
                  <a:lnTo>
                    <a:pt x="201" y="2389"/>
                  </a:lnTo>
                  <a:lnTo>
                    <a:pt x="155" y="2303"/>
                  </a:lnTo>
                  <a:lnTo>
                    <a:pt x="116" y="2202"/>
                  </a:lnTo>
                  <a:lnTo>
                    <a:pt x="81" y="2081"/>
                  </a:lnTo>
                  <a:lnTo>
                    <a:pt x="53" y="1944"/>
                  </a:lnTo>
                  <a:lnTo>
                    <a:pt x="29" y="1787"/>
                  </a:lnTo>
                  <a:lnTo>
                    <a:pt x="13" y="1624"/>
                  </a:lnTo>
                  <a:lnTo>
                    <a:pt x="3" y="1453"/>
                  </a:lnTo>
                  <a:lnTo>
                    <a:pt x="0" y="1265"/>
                  </a:lnTo>
                  <a:lnTo>
                    <a:pt x="3" y="1073"/>
                  </a:lnTo>
                  <a:lnTo>
                    <a:pt x="14" y="891"/>
                  </a:lnTo>
                  <a:lnTo>
                    <a:pt x="32" y="719"/>
                  </a:lnTo>
                  <a:lnTo>
                    <a:pt x="57" y="567"/>
                  </a:lnTo>
                  <a:lnTo>
                    <a:pt x="89" y="425"/>
                  </a:lnTo>
                  <a:lnTo>
                    <a:pt x="128" y="304"/>
                  </a:lnTo>
                  <a:lnTo>
                    <a:pt x="172" y="203"/>
                  </a:lnTo>
                  <a:lnTo>
                    <a:pt x="226" y="117"/>
                  </a:lnTo>
                  <a:lnTo>
                    <a:pt x="271" y="61"/>
                  </a:lnTo>
                  <a:lnTo>
                    <a:pt x="327" y="25"/>
                  </a:lnTo>
                  <a:lnTo>
                    <a:pt x="389" y="0"/>
                  </a:lnTo>
                  <a:lnTo>
                    <a:pt x="459" y="0"/>
                  </a:lnTo>
                  <a:lnTo>
                    <a:pt x="525" y="0"/>
                  </a:lnTo>
                  <a:lnTo>
                    <a:pt x="583" y="15"/>
                  </a:lnTo>
                  <a:lnTo>
                    <a:pt x="630" y="41"/>
                  </a:lnTo>
                  <a:lnTo>
                    <a:pt x="671" y="71"/>
                  </a:lnTo>
                  <a:lnTo>
                    <a:pt x="703" y="112"/>
                  </a:lnTo>
                  <a:lnTo>
                    <a:pt x="733" y="162"/>
                  </a:lnTo>
                  <a:lnTo>
                    <a:pt x="762" y="223"/>
                  </a:lnTo>
                  <a:lnTo>
                    <a:pt x="787" y="299"/>
                  </a:lnTo>
                  <a:lnTo>
                    <a:pt x="806" y="379"/>
                  </a:lnTo>
                  <a:lnTo>
                    <a:pt x="826" y="476"/>
                  </a:lnTo>
                  <a:lnTo>
                    <a:pt x="841" y="577"/>
                  </a:lnTo>
                  <a:lnTo>
                    <a:pt x="856" y="694"/>
                  </a:lnTo>
                  <a:lnTo>
                    <a:pt x="603" y="825"/>
                  </a:lnTo>
                  <a:lnTo>
                    <a:pt x="593" y="754"/>
                  </a:lnTo>
                  <a:lnTo>
                    <a:pt x="582" y="699"/>
                  </a:lnTo>
                  <a:lnTo>
                    <a:pt x="567" y="653"/>
                  </a:lnTo>
                  <a:lnTo>
                    <a:pt x="549" y="612"/>
                  </a:lnTo>
                  <a:lnTo>
                    <a:pt x="528" y="577"/>
                  </a:lnTo>
                  <a:lnTo>
                    <a:pt x="506" y="552"/>
                  </a:lnTo>
                  <a:lnTo>
                    <a:pt x="481" y="541"/>
                  </a:lnTo>
                  <a:lnTo>
                    <a:pt x="453" y="536"/>
                  </a:lnTo>
                  <a:lnTo>
                    <a:pt x="411" y="547"/>
                  </a:lnTo>
                  <a:lnTo>
                    <a:pt x="375" y="577"/>
                  </a:lnTo>
                  <a:lnTo>
                    <a:pt x="342" y="633"/>
                  </a:lnTo>
                  <a:lnTo>
                    <a:pt x="315" y="709"/>
                  </a:lnTo>
                  <a:lnTo>
                    <a:pt x="292" y="805"/>
                  </a:lnTo>
                  <a:lnTo>
                    <a:pt x="277" y="932"/>
                  </a:lnTo>
                  <a:lnTo>
                    <a:pt x="266" y="1083"/>
                  </a:lnTo>
                  <a:lnTo>
                    <a:pt x="263" y="1260"/>
                  </a:lnTo>
                  <a:lnTo>
                    <a:pt x="266" y="1443"/>
                  </a:lnTo>
                  <a:lnTo>
                    <a:pt x="277" y="1594"/>
                  </a:lnTo>
                  <a:lnTo>
                    <a:pt x="292" y="1726"/>
                  </a:lnTo>
                  <a:lnTo>
                    <a:pt x="315" y="1827"/>
                  </a:lnTo>
                  <a:lnTo>
                    <a:pt x="343" y="1903"/>
                  </a:lnTo>
                  <a:lnTo>
                    <a:pt x="378" y="1954"/>
                  </a:lnTo>
                  <a:lnTo>
                    <a:pt x="415" y="1984"/>
                  </a:lnTo>
                  <a:lnTo>
                    <a:pt x="460" y="2000"/>
                  </a:lnTo>
                  <a:lnTo>
                    <a:pt x="482" y="1995"/>
                  </a:lnTo>
                  <a:lnTo>
                    <a:pt x="504" y="1984"/>
                  </a:lnTo>
                  <a:lnTo>
                    <a:pt x="525" y="1974"/>
                  </a:lnTo>
                  <a:lnTo>
                    <a:pt x="546" y="1964"/>
                  </a:lnTo>
                  <a:lnTo>
                    <a:pt x="567" y="1939"/>
                  </a:lnTo>
                  <a:lnTo>
                    <a:pt x="589" y="1908"/>
                  </a:lnTo>
                  <a:lnTo>
                    <a:pt x="611" y="1878"/>
                  </a:lnTo>
                  <a:lnTo>
                    <a:pt x="637" y="1837"/>
                  </a:lnTo>
                  <a:lnTo>
                    <a:pt x="637" y="1609"/>
                  </a:lnTo>
                  <a:lnTo>
                    <a:pt x="460" y="1609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9440" y="471600"/>
              <a:ext cx="301680" cy="884160"/>
            </a:xfrm>
            <a:custGeom>
              <a:avLst/>
              <a:gdLst/>
              <a:ahLst/>
              <a:rect l="l" t="t" r="r" b="b"/>
              <a:pathLst>
                <a:path w="838" h="2456">
                  <a:moveTo>
                    <a:pt x="264" y="991"/>
                  </a:moveTo>
                  <a:lnTo>
                    <a:pt x="375" y="991"/>
                  </a:lnTo>
                  <a:lnTo>
                    <a:pt x="386" y="986"/>
                  </a:lnTo>
                  <a:lnTo>
                    <a:pt x="401" y="981"/>
                  </a:lnTo>
                  <a:lnTo>
                    <a:pt x="421" y="971"/>
                  </a:lnTo>
                  <a:lnTo>
                    <a:pt x="446" y="961"/>
                  </a:lnTo>
                  <a:lnTo>
                    <a:pt x="457" y="946"/>
                  </a:lnTo>
                  <a:lnTo>
                    <a:pt x="468" y="930"/>
                  </a:lnTo>
                  <a:lnTo>
                    <a:pt x="478" y="906"/>
                  </a:lnTo>
                  <a:lnTo>
                    <a:pt x="488" y="881"/>
                  </a:lnTo>
                  <a:lnTo>
                    <a:pt x="495" y="845"/>
                  </a:lnTo>
                  <a:lnTo>
                    <a:pt x="500" y="815"/>
                  </a:lnTo>
                  <a:lnTo>
                    <a:pt x="504" y="774"/>
                  </a:lnTo>
                  <a:lnTo>
                    <a:pt x="505" y="739"/>
                  </a:lnTo>
                  <a:lnTo>
                    <a:pt x="503" y="678"/>
                  </a:lnTo>
                  <a:lnTo>
                    <a:pt x="497" y="632"/>
                  </a:lnTo>
                  <a:lnTo>
                    <a:pt x="489" y="592"/>
                  </a:lnTo>
                  <a:lnTo>
                    <a:pt x="479" y="551"/>
                  </a:lnTo>
                  <a:lnTo>
                    <a:pt x="463" y="526"/>
                  </a:lnTo>
                  <a:lnTo>
                    <a:pt x="440" y="506"/>
                  </a:lnTo>
                  <a:lnTo>
                    <a:pt x="413" y="490"/>
                  </a:lnTo>
                  <a:lnTo>
                    <a:pt x="379" y="490"/>
                  </a:lnTo>
                  <a:lnTo>
                    <a:pt x="264" y="490"/>
                  </a:lnTo>
                  <a:lnTo>
                    <a:pt x="264" y="991"/>
                  </a:lnTo>
                  <a:lnTo>
                    <a:pt x="264" y="991"/>
                  </a:lnTo>
                  <a:close/>
                  <a:moveTo>
                    <a:pt x="0" y="2455"/>
                  </a:moveTo>
                  <a:lnTo>
                    <a:pt x="0" y="0"/>
                  </a:lnTo>
                  <a:lnTo>
                    <a:pt x="439" y="0"/>
                  </a:lnTo>
                  <a:lnTo>
                    <a:pt x="495" y="0"/>
                  </a:lnTo>
                  <a:lnTo>
                    <a:pt x="546" y="10"/>
                  </a:lnTo>
                  <a:lnTo>
                    <a:pt x="589" y="30"/>
                  </a:lnTo>
                  <a:lnTo>
                    <a:pt x="626" y="60"/>
                  </a:lnTo>
                  <a:lnTo>
                    <a:pt x="655" y="96"/>
                  </a:lnTo>
                  <a:lnTo>
                    <a:pt x="683" y="142"/>
                  </a:lnTo>
                  <a:lnTo>
                    <a:pt x="707" y="202"/>
                  </a:lnTo>
                  <a:lnTo>
                    <a:pt x="729" y="282"/>
                  </a:lnTo>
                  <a:lnTo>
                    <a:pt x="746" y="364"/>
                  </a:lnTo>
                  <a:lnTo>
                    <a:pt x="759" y="460"/>
                  </a:lnTo>
                  <a:lnTo>
                    <a:pt x="765" y="566"/>
                  </a:lnTo>
                  <a:lnTo>
                    <a:pt x="768" y="678"/>
                  </a:lnTo>
                  <a:lnTo>
                    <a:pt x="765" y="774"/>
                  </a:lnTo>
                  <a:lnTo>
                    <a:pt x="760" y="871"/>
                  </a:lnTo>
                  <a:lnTo>
                    <a:pt x="752" y="956"/>
                  </a:lnTo>
                  <a:lnTo>
                    <a:pt x="739" y="1032"/>
                  </a:lnTo>
                  <a:lnTo>
                    <a:pt x="721" y="1103"/>
                  </a:lnTo>
                  <a:lnTo>
                    <a:pt x="702" y="1164"/>
                  </a:lnTo>
                  <a:lnTo>
                    <a:pt x="678" y="1219"/>
                  </a:lnTo>
                  <a:lnTo>
                    <a:pt x="655" y="1271"/>
                  </a:lnTo>
                  <a:lnTo>
                    <a:pt x="635" y="1302"/>
                  </a:lnTo>
                  <a:lnTo>
                    <a:pt x="615" y="1327"/>
                  </a:lnTo>
                  <a:lnTo>
                    <a:pt x="589" y="1347"/>
                  </a:lnTo>
                  <a:lnTo>
                    <a:pt x="562" y="1372"/>
                  </a:lnTo>
                  <a:lnTo>
                    <a:pt x="583" y="1393"/>
                  </a:lnTo>
                  <a:lnTo>
                    <a:pt x="602" y="1413"/>
                  </a:lnTo>
                  <a:lnTo>
                    <a:pt x="617" y="1438"/>
                  </a:lnTo>
                  <a:lnTo>
                    <a:pt x="631" y="1464"/>
                  </a:lnTo>
                  <a:lnTo>
                    <a:pt x="638" y="1479"/>
                  </a:lnTo>
                  <a:lnTo>
                    <a:pt x="648" y="1509"/>
                  </a:lnTo>
                  <a:lnTo>
                    <a:pt x="659" y="1545"/>
                  </a:lnTo>
                  <a:lnTo>
                    <a:pt x="673" y="1589"/>
                  </a:lnTo>
                  <a:lnTo>
                    <a:pt x="684" y="1635"/>
                  </a:lnTo>
                  <a:lnTo>
                    <a:pt x="696" y="1676"/>
                  </a:lnTo>
                  <a:lnTo>
                    <a:pt x="703" y="1716"/>
                  </a:lnTo>
                  <a:lnTo>
                    <a:pt x="710" y="1747"/>
                  </a:lnTo>
                  <a:lnTo>
                    <a:pt x="837" y="2455"/>
                  </a:lnTo>
                  <a:lnTo>
                    <a:pt x="540" y="2455"/>
                  </a:lnTo>
                  <a:lnTo>
                    <a:pt x="398" y="1706"/>
                  </a:lnTo>
                  <a:lnTo>
                    <a:pt x="384" y="1635"/>
                  </a:lnTo>
                  <a:lnTo>
                    <a:pt x="372" y="1584"/>
                  </a:lnTo>
                  <a:lnTo>
                    <a:pt x="361" y="1540"/>
                  </a:lnTo>
                  <a:lnTo>
                    <a:pt x="351" y="1514"/>
                  </a:lnTo>
                  <a:lnTo>
                    <a:pt x="336" y="1494"/>
                  </a:lnTo>
                  <a:lnTo>
                    <a:pt x="322" y="1474"/>
                  </a:lnTo>
                  <a:lnTo>
                    <a:pt x="304" y="1459"/>
                  </a:lnTo>
                  <a:lnTo>
                    <a:pt x="288" y="1459"/>
                  </a:lnTo>
                  <a:lnTo>
                    <a:pt x="264" y="1459"/>
                  </a:lnTo>
                  <a:lnTo>
                    <a:pt x="264" y="2455"/>
                  </a:lnTo>
                  <a:lnTo>
                    <a:pt x="0" y="2455"/>
                  </a:lnTo>
                  <a:lnTo>
                    <a:pt x="0" y="2455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51120" y="471600"/>
              <a:ext cx="333360" cy="884160"/>
            </a:xfrm>
            <a:custGeom>
              <a:avLst/>
              <a:gdLst/>
              <a:ahLst/>
              <a:rect l="l" t="t" r="r" b="b"/>
              <a:pathLst>
                <a:path w="927" h="2456">
                  <a:moveTo>
                    <a:pt x="553" y="1520"/>
                  </a:moveTo>
                  <a:lnTo>
                    <a:pt x="460" y="632"/>
                  </a:lnTo>
                  <a:lnTo>
                    <a:pt x="366" y="1520"/>
                  </a:lnTo>
                  <a:lnTo>
                    <a:pt x="553" y="1520"/>
                  </a:lnTo>
                  <a:lnTo>
                    <a:pt x="553" y="1520"/>
                  </a:lnTo>
                  <a:close/>
                  <a:moveTo>
                    <a:pt x="607" y="2051"/>
                  </a:moveTo>
                  <a:lnTo>
                    <a:pt x="311" y="2051"/>
                  </a:lnTo>
                  <a:lnTo>
                    <a:pt x="268" y="2455"/>
                  </a:lnTo>
                  <a:lnTo>
                    <a:pt x="0" y="2455"/>
                  </a:lnTo>
                  <a:lnTo>
                    <a:pt x="318" y="0"/>
                  </a:lnTo>
                  <a:lnTo>
                    <a:pt x="605" y="0"/>
                  </a:lnTo>
                  <a:lnTo>
                    <a:pt x="926" y="2455"/>
                  </a:lnTo>
                  <a:lnTo>
                    <a:pt x="651" y="2455"/>
                  </a:lnTo>
                  <a:lnTo>
                    <a:pt x="607" y="2051"/>
                  </a:lnTo>
                  <a:lnTo>
                    <a:pt x="607" y="205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12920" y="471600"/>
              <a:ext cx="344520" cy="884160"/>
            </a:xfrm>
            <a:custGeom>
              <a:avLst/>
              <a:gdLst/>
              <a:ahLst/>
              <a:rect l="l" t="t" r="r" b="b"/>
              <a:pathLst>
                <a:path w="958" h="2456">
                  <a:moveTo>
                    <a:pt x="0" y="0"/>
                  </a:moveTo>
                  <a:lnTo>
                    <a:pt x="347" y="0"/>
                  </a:lnTo>
                  <a:lnTo>
                    <a:pt x="479" y="1494"/>
                  </a:lnTo>
                  <a:lnTo>
                    <a:pt x="612" y="0"/>
                  </a:lnTo>
                  <a:lnTo>
                    <a:pt x="957" y="0"/>
                  </a:lnTo>
                  <a:lnTo>
                    <a:pt x="957" y="2455"/>
                  </a:lnTo>
                  <a:lnTo>
                    <a:pt x="742" y="2455"/>
                  </a:lnTo>
                  <a:lnTo>
                    <a:pt x="742" y="582"/>
                  </a:lnTo>
                  <a:lnTo>
                    <a:pt x="575" y="2455"/>
                  </a:lnTo>
                  <a:lnTo>
                    <a:pt x="382" y="2455"/>
                  </a:lnTo>
                  <a:lnTo>
                    <a:pt x="216" y="582"/>
                  </a:lnTo>
                  <a:lnTo>
                    <a:pt x="216" y="2455"/>
                  </a:lnTo>
                  <a:lnTo>
                    <a:pt x="0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457200"/>
              <a:ext cx="279360" cy="912960"/>
            </a:xfrm>
            <a:custGeom>
              <a:avLst/>
              <a:gdLst/>
              <a:ahLst/>
              <a:rect l="l" t="t" r="r" b="b"/>
              <a:pathLst>
                <a:path w="776" h="2537">
                  <a:moveTo>
                    <a:pt x="0" y="1680"/>
                  </a:moveTo>
                  <a:lnTo>
                    <a:pt x="249" y="1635"/>
                  </a:lnTo>
                  <a:lnTo>
                    <a:pt x="254" y="1716"/>
                  </a:lnTo>
                  <a:lnTo>
                    <a:pt x="263" y="1792"/>
                  </a:lnTo>
                  <a:lnTo>
                    <a:pt x="272" y="1853"/>
                  </a:lnTo>
                  <a:lnTo>
                    <a:pt x="285" y="1903"/>
                  </a:lnTo>
                  <a:lnTo>
                    <a:pt x="306" y="1969"/>
                  </a:lnTo>
                  <a:lnTo>
                    <a:pt x="333" y="2015"/>
                  </a:lnTo>
                  <a:lnTo>
                    <a:pt x="365" y="2045"/>
                  </a:lnTo>
                  <a:lnTo>
                    <a:pt x="401" y="2055"/>
                  </a:lnTo>
                  <a:lnTo>
                    <a:pt x="426" y="2045"/>
                  </a:lnTo>
                  <a:lnTo>
                    <a:pt x="450" y="2035"/>
                  </a:lnTo>
                  <a:lnTo>
                    <a:pt x="470" y="2010"/>
                  </a:lnTo>
                  <a:lnTo>
                    <a:pt x="488" y="1979"/>
                  </a:lnTo>
                  <a:lnTo>
                    <a:pt x="501" y="1939"/>
                  </a:lnTo>
                  <a:lnTo>
                    <a:pt x="510" y="1893"/>
                  </a:lnTo>
                  <a:lnTo>
                    <a:pt x="516" y="1847"/>
                  </a:lnTo>
                  <a:lnTo>
                    <a:pt x="520" y="1802"/>
                  </a:lnTo>
                  <a:lnTo>
                    <a:pt x="516" y="1756"/>
                  </a:lnTo>
                  <a:lnTo>
                    <a:pt x="510" y="1711"/>
                  </a:lnTo>
                  <a:lnTo>
                    <a:pt x="502" y="1670"/>
                  </a:lnTo>
                  <a:lnTo>
                    <a:pt x="489" y="1635"/>
                  </a:lnTo>
                  <a:lnTo>
                    <a:pt x="470" y="1594"/>
                  </a:lnTo>
                  <a:lnTo>
                    <a:pt x="440" y="1554"/>
                  </a:lnTo>
                  <a:lnTo>
                    <a:pt x="402" y="1524"/>
                  </a:lnTo>
                  <a:lnTo>
                    <a:pt x="354" y="1494"/>
                  </a:lnTo>
                  <a:lnTo>
                    <a:pt x="274" y="1428"/>
                  </a:lnTo>
                  <a:lnTo>
                    <a:pt x="205" y="1357"/>
                  </a:lnTo>
                  <a:lnTo>
                    <a:pt x="149" y="1276"/>
                  </a:lnTo>
                  <a:lnTo>
                    <a:pt x="107" y="1189"/>
                  </a:lnTo>
                  <a:lnTo>
                    <a:pt x="73" y="1088"/>
                  </a:lnTo>
                  <a:lnTo>
                    <a:pt x="50" y="976"/>
                  </a:lnTo>
                  <a:lnTo>
                    <a:pt x="37" y="851"/>
                  </a:lnTo>
                  <a:lnTo>
                    <a:pt x="32" y="714"/>
                  </a:lnTo>
                  <a:lnTo>
                    <a:pt x="34" y="623"/>
                  </a:lnTo>
                  <a:lnTo>
                    <a:pt x="41" y="531"/>
                  </a:lnTo>
                  <a:lnTo>
                    <a:pt x="53" y="445"/>
                  </a:lnTo>
                  <a:lnTo>
                    <a:pt x="70" y="359"/>
                  </a:lnTo>
                  <a:lnTo>
                    <a:pt x="92" y="279"/>
                  </a:lnTo>
                  <a:lnTo>
                    <a:pt x="117" y="203"/>
                  </a:lnTo>
                  <a:lnTo>
                    <a:pt x="149" y="142"/>
                  </a:lnTo>
                  <a:lnTo>
                    <a:pt x="186" y="91"/>
                  </a:lnTo>
                  <a:lnTo>
                    <a:pt x="226" y="51"/>
                  </a:lnTo>
                  <a:lnTo>
                    <a:pt x="276" y="20"/>
                  </a:lnTo>
                  <a:lnTo>
                    <a:pt x="332" y="0"/>
                  </a:lnTo>
                  <a:lnTo>
                    <a:pt x="395" y="0"/>
                  </a:lnTo>
                  <a:lnTo>
                    <a:pt x="471" y="5"/>
                  </a:lnTo>
                  <a:lnTo>
                    <a:pt x="539" y="41"/>
                  </a:lnTo>
                  <a:lnTo>
                    <a:pt x="596" y="96"/>
                  </a:lnTo>
                  <a:lnTo>
                    <a:pt x="644" y="172"/>
                  </a:lnTo>
                  <a:lnTo>
                    <a:pt x="683" y="269"/>
                  </a:lnTo>
                  <a:lnTo>
                    <a:pt x="712" y="400"/>
                  </a:lnTo>
                  <a:lnTo>
                    <a:pt x="733" y="552"/>
                  </a:lnTo>
                  <a:lnTo>
                    <a:pt x="746" y="734"/>
                  </a:lnTo>
                  <a:lnTo>
                    <a:pt x="498" y="775"/>
                  </a:lnTo>
                  <a:lnTo>
                    <a:pt x="491" y="694"/>
                  </a:lnTo>
                  <a:lnTo>
                    <a:pt x="482" y="628"/>
                  </a:lnTo>
                  <a:lnTo>
                    <a:pt x="471" y="572"/>
                  </a:lnTo>
                  <a:lnTo>
                    <a:pt x="457" y="531"/>
                  </a:lnTo>
                  <a:lnTo>
                    <a:pt x="438" y="496"/>
                  </a:lnTo>
                  <a:lnTo>
                    <a:pt x="419" y="470"/>
                  </a:lnTo>
                  <a:lnTo>
                    <a:pt x="395" y="460"/>
                  </a:lnTo>
                  <a:lnTo>
                    <a:pt x="369" y="455"/>
                  </a:lnTo>
                  <a:lnTo>
                    <a:pt x="346" y="455"/>
                  </a:lnTo>
                  <a:lnTo>
                    <a:pt x="328" y="470"/>
                  </a:lnTo>
                  <a:lnTo>
                    <a:pt x="313" y="491"/>
                  </a:lnTo>
                  <a:lnTo>
                    <a:pt x="300" y="511"/>
                  </a:lnTo>
                  <a:lnTo>
                    <a:pt x="289" y="541"/>
                  </a:lnTo>
                  <a:lnTo>
                    <a:pt x="282" y="572"/>
                  </a:lnTo>
                  <a:lnTo>
                    <a:pt x="278" y="607"/>
                  </a:lnTo>
                  <a:lnTo>
                    <a:pt x="276" y="648"/>
                  </a:lnTo>
                  <a:lnTo>
                    <a:pt x="276" y="673"/>
                  </a:lnTo>
                  <a:lnTo>
                    <a:pt x="281" y="704"/>
                  </a:lnTo>
                  <a:lnTo>
                    <a:pt x="288" y="729"/>
                  </a:lnTo>
                  <a:lnTo>
                    <a:pt x="296" y="754"/>
                  </a:lnTo>
                  <a:lnTo>
                    <a:pt x="308" y="775"/>
                  </a:lnTo>
                  <a:lnTo>
                    <a:pt x="326" y="795"/>
                  </a:lnTo>
                  <a:lnTo>
                    <a:pt x="351" y="820"/>
                  </a:lnTo>
                  <a:lnTo>
                    <a:pt x="384" y="846"/>
                  </a:lnTo>
                  <a:lnTo>
                    <a:pt x="464" y="896"/>
                  </a:lnTo>
                  <a:lnTo>
                    <a:pt x="532" y="951"/>
                  </a:lnTo>
                  <a:lnTo>
                    <a:pt x="589" y="1002"/>
                  </a:lnTo>
                  <a:lnTo>
                    <a:pt x="633" y="1063"/>
                  </a:lnTo>
                  <a:lnTo>
                    <a:pt x="667" y="1118"/>
                  </a:lnTo>
                  <a:lnTo>
                    <a:pt x="696" y="1184"/>
                  </a:lnTo>
                  <a:lnTo>
                    <a:pt x="721" y="1250"/>
                  </a:lnTo>
                  <a:lnTo>
                    <a:pt x="741" y="1331"/>
                  </a:lnTo>
                  <a:lnTo>
                    <a:pt x="756" y="1412"/>
                  </a:lnTo>
                  <a:lnTo>
                    <a:pt x="767" y="1504"/>
                  </a:lnTo>
                  <a:lnTo>
                    <a:pt x="772" y="1594"/>
                  </a:lnTo>
                  <a:lnTo>
                    <a:pt x="775" y="1695"/>
                  </a:lnTo>
                  <a:lnTo>
                    <a:pt x="771" y="1812"/>
                  </a:lnTo>
                  <a:lnTo>
                    <a:pt x="763" y="1924"/>
                  </a:lnTo>
                  <a:lnTo>
                    <a:pt x="748" y="2025"/>
                  </a:lnTo>
                  <a:lnTo>
                    <a:pt x="730" y="2131"/>
                  </a:lnTo>
                  <a:lnTo>
                    <a:pt x="703" y="2227"/>
                  </a:lnTo>
                  <a:lnTo>
                    <a:pt x="674" y="2308"/>
                  </a:lnTo>
                  <a:lnTo>
                    <a:pt x="640" y="2374"/>
                  </a:lnTo>
                  <a:lnTo>
                    <a:pt x="602" y="2435"/>
                  </a:lnTo>
                  <a:lnTo>
                    <a:pt x="559" y="2475"/>
                  </a:lnTo>
                  <a:lnTo>
                    <a:pt x="509" y="2506"/>
                  </a:lnTo>
                  <a:lnTo>
                    <a:pt x="455" y="2526"/>
                  </a:lnTo>
                  <a:lnTo>
                    <a:pt x="397" y="2536"/>
                  </a:lnTo>
                  <a:lnTo>
                    <a:pt x="296" y="2516"/>
                  </a:lnTo>
                  <a:lnTo>
                    <a:pt x="212" y="2475"/>
                  </a:lnTo>
                  <a:lnTo>
                    <a:pt x="144" y="2399"/>
                  </a:lnTo>
                  <a:lnTo>
                    <a:pt x="96" y="2293"/>
                  </a:lnTo>
                  <a:lnTo>
                    <a:pt x="57" y="2167"/>
                  </a:lnTo>
                  <a:lnTo>
                    <a:pt x="28" y="2020"/>
                  </a:lnTo>
                  <a:lnTo>
                    <a:pt x="10" y="1858"/>
                  </a:lnTo>
                  <a:lnTo>
                    <a:pt x="0" y="168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36960" y="471600"/>
              <a:ext cx="272880" cy="884160"/>
            </a:xfrm>
            <a:custGeom>
              <a:avLst/>
              <a:gdLst/>
              <a:ahLst/>
              <a:rect l="l" t="t" r="r" b="b"/>
              <a:pathLst>
                <a:path w="759" h="2456">
                  <a:moveTo>
                    <a:pt x="87" y="0"/>
                  </a:moveTo>
                  <a:lnTo>
                    <a:pt x="349" y="0"/>
                  </a:lnTo>
                  <a:lnTo>
                    <a:pt x="349" y="678"/>
                  </a:lnTo>
                  <a:lnTo>
                    <a:pt x="534" y="273"/>
                  </a:lnTo>
                  <a:lnTo>
                    <a:pt x="534" y="744"/>
                  </a:lnTo>
                  <a:lnTo>
                    <a:pt x="349" y="1148"/>
                  </a:lnTo>
                  <a:lnTo>
                    <a:pt x="349" y="1853"/>
                  </a:lnTo>
                  <a:lnTo>
                    <a:pt x="758" y="1853"/>
                  </a:lnTo>
                  <a:lnTo>
                    <a:pt x="758" y="2455"/>
                  </a:lnTo>
                  <a:lnTo>
                    <a:pt x="87" y="2455"/>
                  </a:lnTo>
                  <a:lnTo>
                    <a:pt x="87" y="1726"/>
                  </a:lnTo>
                  <a:lnTo>
                    <a:pt x="0" y="1919"/>
                  </a:lnTo>
                  <a:lnTo>
                    <a:pt x="0" y="1449"/>
                  </a:lnTo>
                  <a:lnTo>
                    <a:pt x="87" y="1256"/>
                  </a:lnTo>
                  <a:lnTo>
                    <a:pt x="87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54480" y="471600"/>
              <a:ext cx="293760" cy="898560"/>
            </a:xfrm>
            <a:custGeom>
              <a:avLst/>
              <a:gdLst/>
              <a:ahLst/>
              <a:rect l="l" t="t" r="r" b="b"/>
              <a:pathLst>
                <a:path w="816" h="2496">
                  <a:moveTo>
                    <a:pt x="553" y="0"/>
                  </a:moveTo>
                  <a:lnTo>
                    <a:pt x="815" y="0"/>
                  </a:lnTo>
                  <a:lnTo>
                    <a:pt x="815" y="1463"/>
                  </a:lnTo>
                  <a:lnTo>
                    <a:pt x="813" y="1568"/>
                  </a:lnTo>
                  <a:lnTo>
                    <a:pt x="808" y="1675"/>
                  </a:lnTo>
                  <a:lnTo>
                    <a:pt x="802" y="1776"/>
                  </a:lnTo>
                  <a:lnTo>
                    <a:pt x="792" y="1872"/>
                  </a:lnTo>
                  <a:lnTo>
                    <a:pt x="777" y="1964"/>
                  </a:lnTo>
                  <a:lnTo>
                    <a:pt x="760" y="2050"/>
                  </a:lnTo>
                  <a:lnTo>
                    <a:pt x="741" y="2131"/>
                  </a:lnTo>
                  <a:lnTo>
                    <a:pt x="719" y="2206"/>
                  </a:lnTo>
                  <a:lnTo>
                    <a:pt x="692" y="2272"/>
                  </a:lnTo>
                  <a:lnTo>
                    <a:pt x="666" y="2333"/>
                  </a:lnTo>
                  <a:lnTo>
                    <a:pt x="639" y="2378"/>
                  </a:lnTo>
                  <a:lnTo>
                    <a:pt x="612" y="2414"/>
                  </a:lnTo>
                  <a:lnTo>
                    <a:pt x="571" y="2449"/>
                  </a:lnTo>
                  <a:lnTo>
                    <a:pt x="528" y="2475"/>
                  </a:lnTo>
                  <a:lnTo>
                    <a:pt x="478" y="2490"/>
                  </a:lnTo>
                  <a:lnTo>
                    <a:pt x="429" y="2495"/>
                  </a:lnTo>
                  <a:lnTo>
                    <a:pt x="396" y="2495"/>
                  </a:lnTo>
                  <a:lnTo>
                    <a:pt x="365" y="2485"/>
                  </a:lnTo>
                  <a:lnTo>
                    <a:pt x="330" y="2475"/>
                  </a:lnTo>
                  <a:lnTo>
                    <a:pt x="294" y="2470"/>
                  </a:lnTo>
                  <a:lnTo>
                    <a:pt x="258" y="2454"/>
                  </a:lnTo>
                  <a:lnTo>
                    <a:pt x="226" y="2434"/>
                  </a:lnTo>
                  <a:lnTo>
                    <a:pt x="196" y="2404"/>
                  </a:lnTo>
                  <a:lnTo>
                    <a:pt x="171" y="2373"/>
                  </a:lnTo>
                  <a:lnTo>
                    <a:pt x="146" y="2333"/>
                  </a:lnTo>
                  <a:lnTo>
                    <a:pt x="124" y="2282"/>
                  </a:lnTo>
                  <a:lnTo>
                    <a:pt x="101" y="2226"/>
                  </a:lnTo>
                  <a:lnTo>
                    <a:pt x="81" y="2161"/>
                  </a:lnTo>
                  <a:lnTo>
                    <a:pt x="62" y="2085"/>
                  </a:lnTo>
                  <a:lnTo>
                    <a:pt x="45" y="2019"/>
                  </a:lnTo>
                  <a:lnTo>
                    <a:pt x="33" y="1943"/>
                  </a:lnTo>
                  <a:lnTo>
                    <a:pt x="24" y="1877"/>
                  </a:lnTo>
                  <a:lnTo>
                    <a:pt x="12" y="1756"/>
                  </a:lnTo>
                  <a:lnTo>
                    <a:pt x="5" y="1654"/>
                  </a:lnTo>
                  <a:lnTo>
                    <a:pt x="1" y="1553"/>
                  </a:lnTo>
                  <a:lnTo>
                    <a:pt x="0" y="1463"/>
                  </a:lnTo>
                  <a:lnTo>
                    <a:pt x="0" y="0"/>
                  </a:lnTo>
                  <a:lnTo>
                    <a:pt x="262" y="0"/>
                  </a:lnTo>
                  <a:lnTo>
                    <a:pt x="262" y="1498"/>
                  </a:lnTo>
                  <a:lnTo>
                    <a:pt x="264" y="1594"/>
                  </a:lnTo>
                  <a:lnTo>
                    <a:pt x="271" y="1675"/>
                  </a:lnTo>
                  <a:lnTo>
                    <a:pt x="283" y="1746"/>
                  </a:lnTo>
                  <a:lnTo>
                    <a:pt x="301" y="1812"/>
                  </a:lnTo>
                  <a:lnTo>
                    <a:pt x="322" y="1862"/>
                  </a:lnTo>
                  <a:lnTo>
                    <a:pt x="346" y="1898"/>
                  </a:lnTo>
                  <a:lnTo>
                    <a:pt x="374" y="1918"/>
                  </a:lnTo>
                  <a:lnTo>
                    <a:pt x="409" y="1923"/>
                  </a:lnTo>
                  <a:lnTo>
                    <a:pt x="440" y="1918"/>
                  </a:lnTo>
                  <a:lnTo>
                    <a:pt x="467" y="1898"/>
                  </a:lnTo>
                  <a:lnTo>
                    <a:pt x="492" y="1862"/>
                  </a:lnTo>
                  <a:lnTo>
                    <a:pt x="515" y="1812"/>
                  </a:lnTo>
                  <a:lnTo>
                    <a:pt x="531" y="1751"/>
                  </a:lnTo>
                  <a:lnTo>
                    <a:pt x="543" y="1675"/>
                  </a:lnTo>
                  <a:lnTo>
                    <a:pt x="550" y="1594"/>
                  </a:lnTo>
                  <a:lnTo>
                    <a:pt x="553" y="1498"/>
                  </a:lnTo>
                  <a:lnTo>
                    <a:pt x="553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10160" y="471600"/>
              <a:ext cx="260280" cy="884160"/>
            </a:xfrm>
            <a:custGeom>
              <a:avLst/>
              <a:gdLst/>
              <a:ahLst/>
              <a:rect l="l" t="t" r="r" b="b"/>
              <a:pathLst>
                <a:path w="723" h="2456">
                  <a:moveTo>
                    <a:pt x="263" y="1042"/>
                  </a:moveTo>
                  <a:lnTo>
                    <a:pt x="328" y="1042"/>
                  </a:lnTo>
                  <a:lnTo>
                    <a:pt x="363" y="1037"/>
                  </a:lnTo>
                  <a:lnTo>
                    <a:pt x="393" y="1022"/>
                  </a:lnTo>
                  <a:lnTo>
                    <a:pt x="416" y="1001"/>
                  </a:lnTo>
                  <a:lnTo>
                    <a:pt x="436" y="966"/>
                  </a:lnTo>
                  <a:lnTo>
                    <a:pt x="448" y="920"/>
                  </a:lnTo>
                  <a:lnTo>
                    <a:pt x="458" y="881"/>
                  </a:lnTo>
                  <a:lnTo>
                    <a:pt x="463" y="825"/>
                  </a:lnTo>
                  <a:lnTo>
                    <a:pt x="466" y="774"/>
                  </a:lnTo>
                  <a:lnTo>
                    <a:pt x="463" y="713"/>
                  </a:lnTo>
                  <a:lnTo>
                    <a:pt x="459" y="663"/>
                  </a:lnTo>
                  <a:lnTo>
                    <a:pt x="451" y="617"/>
                  </a:lnTo>
                  <a:lnTo>
                    <a:pt x="440" y="577"/>
                  </a:lnTo>
                  <a:lnTo>
                    <a:pt x="423" y="541"/>
                  </a:lnTo>
                  <a:lnTo>
                    <a:pt x="401" y="516"/>
                  </a:lnTo>
                  <a:lnTo>
                    <a:pt x="372" y="500"/>
                  </a:lnTo>
                  <a:lnTo>
                    <a:pt x="339" y="495"/>
                  </a:lnTo>
                  <a:lnTo>
                    <a:pt x="263" y="495"/>
                  </a:lnTo>
                  <a:lnTo>
                    <a:pt x="263" y="1042"/>
                  </a:lnTo>
                  <a:lnTo>
                    <a:pt x="263" y="1042"/>
                  </a:lnTo>
                  <a:close/>
                  <a:moveTo>
                    <a:pt x="0" y="0"/>
                  </a:moveTo>
                  <a:lnTo>
                    <a:pt x="437" y="0"/>
                  </a:lnTo>
                  <a:lnTo>
                    <a:pt x="503" y="10"/>
                  </a:lnTo>
                  <a:lnTo>
                    <a:pt x="562" y="45"/>
                  </a:lnTo>
                  <a:lnTo>
                    <a:pt x="611" y="106"/>
                  </a:lnTo>
                  <a:lnTo>
                    <a:pt x="651" y="192"/>
                  </a:lnTo>
                  <a:lnTo>
                    <a:pt x="682" y="303"/>
                  </a:lnTo>
                  <a:lnTo>
                    <a:pt x="704" y="429"/>
                  </a:lnTo>
                  <a:lnTo>
                    <a:pt x="716" y="582"/>
                  </a:lnTo>
                  <a:lnTo>
                    <a:pt x="722" y="754"/>
                  </a:lnTo>
                  <a:lnTo>
                    <a:pt x="716" y="925"/>
                  </a:lnTo>
                  <a:lnTo>
                    <a:pt x="702" y="1083"/>
                  </a:lnTo>
                  <a:lnTo>
                    <a:pt x="679" y="1214"/>
                  </a:lnTo>
                  <a:lnTo>
                    <a:pt x="644" y="1332"/>
                  </a:lnTo>
                  <a:lnTo>
                    <a:pt x="600" y="1423"/>
                  </a:lnTo>
                  <a:lnTo>
                    <a:pt x="545" y="1494"/>
                  </a:lnTo>
                  <a:lnTo>
                    <a:pt x="481" y="1530"/>
                  </a:lnTo>
                  <a:lnTo>
                    <a:pt x="408" y="1545"/>
                  </a:lnTo>
                  <a:lnTo>
                    <a:pt x="263" y="1545"/>
                  </a:lnTo>
                  <a:lnTo>
                    <a:pt x="263" y="2455"/>
                  </a:lnTo>
                  <a:lnTo>
                    <a:pt x="0" y="24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17960" y="471600"/>
              <a:ext cx="325440" cy="884160"/>
            </a:xfrm>
            <a:custGeom>
              <a:avLst/>
              <a:gdLst/>
              <a:ahLst/>
              <a:rect l="l" t="t" r="r" b="b"/>
              <a:pathLst>
                <a:path w="904" h="2456">
                  <a:moveTo>
                    <a:pt x="0" y="0"/>
                  </a:moveTo>
                  <a:lnTo>
                    <a:pt x="262" y="0"/>
                  </a:lnTo>
                  <a:lnTo>
                    <a:pt x="262" y="925"/>
                  </a:lnTo>
                  <a:lnTo>
                    <a:pt x="539" y="0"/>
                  </a:lnTo>
                  <a:lnTo>
                    <a:pt x="889" y="0"/>
                  </a:lnTo>
                  <a:lnTo>
                    <a:pt x="578" y="920"/>
                  </a:lnTo>
                  <a:lnTo>
                    <a:pt x="903" y="2455"/>
                  </a:lnTo>
                  <a:lnTo>
                    <a:pt x="579" y="2455"/>
                  </a:lnTo>
                  <a:lnTo>
                    <a:pt x="398" y="1449"/>
                  </a:lnTo>
                  <a:lnTo>
                    <a:pt x="262" y="1858"/>
                  </a:lnTo>
                  <a:lnTo>
                    <a:pt x="262" y="2455"/>
                  </a:lnTo>
                  <a:lnTo>
                    <a:pt x="0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62480" y="457200"/>
              <a:ext cx="317520" cy="912960"/>
            </a:xfrm>
            <a:custGeom>
              <a:avLst/>
              <a:gdLst/>
              <a:ahLst/>
              <a:rect l="l" t="t" r="r" b="b"/>
              <a:pathLst>
                <a:path w="883" h="2537">
                  <a:moveTo>
                    <a:pt x="262" y="1271"/>
                  </a:moveTo>
                  <a:lnTo>
                    <a:pt x="265" y="1443"/>
                  </a:lnTo>
                  <a:lnTo>
                    <a:pt x="273" y="1589"/>
                  </a:lnTo>
                  <a:lnTo>
                    <a:pt x="288" y="1711"/>
                  </a:lnTo>
                  <a:lnTo>
                    <a:pt x="311" y="1807"/>
                  </a:lnTo>
                  <a:lnTo>
                    <a:pt x="336" y="1878"/>
                  </a:lnTo>
                  <a:lnTo>
                    <a:pt x="367" y="1929"/>
                  </a:lnTo>
                  <a:lnTo>
                    <a:pt x="403" y="1959"/>
                  </a:lnTo>
                  <a:lnTo>
                    <a:pt x="441" y="1969"/>
                  </a:lnTo>
                  <a:lnTo>
                    <a:pt x="480" y="1959"/>
                  </a:lnTo>
                  <a:lnTo>
                    <a:pt x="516" y="1929"/>
                  </a:lnTo>
                  <a:lnTo>
                    <a:pt x="547" y="1883"/>
                  </a:lnTo>
                  <a:lnTo>
                    <a:pt x="573" y="1812"/>
                  </a:lnTo>
                  <a:lnTo>
                    <a:pt x="593" y="1716"/>
                  </a:lnTo>
                  <a:lnTo>
                    <a:pt x="607" y="1589"/>
                  </a:lnTo>
                  <a:lnTo>
                    <a:pt x="616" y="1433"/>
                  </a:lnTo>
                  <a:lnTo>
                    <a:pt x="620" y="1240"/>
                  </a:lnTo>
                  <a:lnTo>
                    <a:pt x="616" y="1078"/>
                  </a:lnTo>
                  <a:lnTo>
                    <a:pt x="607" y="942"/>
                  </a:lnTo>
                  <a:lnTo>
                    <a:pt x="593" y="820"/>
                  </a:lnTo>
                  <a:lnTo>
                    <a:pt x="572" y="734"/>
                  </a:lnTo>
                  <a:lnTo>
                    <a:pt x="545" y="658"/>
                  </a:lnTo>
                  <a:lnTo>
                    <a:pt x="513" y="612"/>
                  </a:lnTo>
                  <a:lnTo>
                    <a:pt x="478" y="582"/>
                  </a:lnTo>
                  <a:lnTo>
                    <a:pt x="439" y="572"/>
                  </a:lnTo>
                  <a:lnTo>
                    <a:pt x="400" y="582"/>
                  </a:lnTo>
                  <a:lnTo>
                    <a:pt x="366" y="612"/>
                  </a:lnTo>
                  <a:lnTo>
                    <a:pt x="336" y="663"/>
                  </a:lnTo>
                  <a:lnTo>
                    <a:pt x="311" y="734"/>
                  </a:lnTo>
                  <a:lnTo>
                    <a:pt x="288" y="830"/>
                  </a:lnTo>
                  <a:lnTo>
                    <a:pt x="273" y="951"/>
                  </a:lnTo>
                  <a:lnTo>
                    <a:pt x="265" y="1098"/>
                  </a:lnTo>
                  <a:lnTo>
                    <a:pt x="262" y="1271"/>
                  </a:lnTo>
                  <a:lnTo>
                    <a:pt x="262" y="1271"/>
                  </a:lnTo>
                  <a:close/>
                  <a:moveTo>
                    <a:pt x="0" y="1265"/>
                  </a:moveTo>
                  <a:lnTo>
                    <a:pt x="7" y="982"/>
                  </a:lnTo>
                  <a:lnTo>
                    <a:pt x="28" y="734"/>
                  </a:lnTo>
                  <a:lnTo>
                    <a:pt x="64" y="511"/>
                  </a:lnTo>
                  <a:lnTo>
                    <a:pt x="116" y="329"/>
                  </a:lnTo>
                  <a:lnTo>
                    <a:pt x="179" y="183"/>
                  </a:lnTo>
                  <a:lnTo>
                    <a:pt x="253" y="81"/>
                  </a:lnTo>
                  <a:lnTo>
                    <a:pt x="341" y="20"/>
                  </a:lnTo>
                  <a:lnTo>
                    <a:pt x="439" y="0"/>
                  </a:lnTo>
                  <a:lnTo>
                    <a:pt x="538" y="20"/>
                  </a:lnTo>
                  <a:lnTo>
                    <a:pt x="627" y="81"/>
                  </a:lnTo>
                  <a:lnTo>
                    <a:pt x="703" y="183"/>
                  </a:lnTo>
                  <a:lnTo>
                    <a:pt x="766" y="323"/>
                  </a:lnTo>
                  <a:lnTo>
                    <a:pt x="817" y="506"/>
                  </a:lnTo>
                  <a:lnTo>
                    <a:pt x="852" y="719"/>
                  </a:lnTo>
                  <a:lnTo>
                    <a:pt x="874" y="966"/>
                  </a:lnTo>
                  <a:lnTo>
                    <a:pt x="882" y="1245"/>
                  </a:lnTo>
                  <a:lnTo>
                    <a:pt x="878" y="1453"/>
                  </a:lnTo>
                  <a:lnTo>
                    <a:pt x="870" y="1635"/>
                  </a:lnTo>
                  <a:lnTo>
                    <a:pt x="852" y="1802"/>
                  </a:lnTo>
                  <a:lnTo>
                    <a:pt x="831" y="1954"/>
                  </a:lnTo>
                  <a:lnTo>
                    <a:pt x="804" y="2086"/>
                  </a:lnTo>
                  <a:lnTo>
                    <a:pt x="769" y="2197"/>
                  </a:lnTo>
                  <a:lnTo>
                    <a:pt x="730" y="2298"/>
                  </a:lnTo>
                  <a:lnTo>
                    <a:pt x="687" y="2384"/>
                  </a:lnTo>
                  <a:lnTo>
                    <a:pt x="636" y="2450"/>
                  </a:lnTo>
                  <a:lnTo>
                    <a:pt x="579" y="2495"/>
                  </a:lnTo>
                  <a:lnTo>
                    <a:pt x="517" y="2526"/>
                  </a:lnTo>
                  <a:lnTo>
                    <a:pt x="450" y="2536"/>
                  </a:lnTo>
                  <a:lnTo>
                    <a:pt x="379" y="2526"/>
                  </a:lnTo>
                  <a:lnTo>
                    <a:pt x="318" y="2501"/>
                  </a:lnTo>
                  <a:lnTo>
                    <a:pt x="260" y="2460"/>
                  </a:lnTo>
                  <a:lnTo>
                    <a:pt x="212" y="2404"/>
                  </a:lnTo>
                  <a:lnTo>
                    <a:pt x="165" y="2328"/>
                  </a:lnTo>
                  <a:lnTo>
                    <a:pt x="126" y="2232"/>
                  </a:lnTo>
                  <a:lnTo>
                    <a:pt x="89" y="2116"/>
                  </a:lnTo>
                  <a:lnTo>
                    <a:pt x="59" y="1984"/>
                  </a:lnTo>
                  <a:lnTo>
                    <a:pt x="32" y="1832"/>
                  </a:lnTo>
                  <a:lnTo>
                    <a:pt x="14" y="1660"/>
                  </a:lnTo>
                  <a:lnTo>
                    <a:pt x="3" y="1473"/>
                  </a:lnTo>
                  <a:lnTo>
                    <a:pt x="0" y="1265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00520" y="471600"/>
              <a:ext cx="428760" cy="884160"/>
            </a:xfrm>
            <a:custGeom>
              <a:avLst/>
              <a:gdLst/>
              <a:ahLst/>
              <a:rect l="l" t="t" r="r" b="b"/>
              <a:pathLst>
                <a:path w="1191" h="2456">
                  <a:moveTo>
                    <a:pt x="0" y="0"/>
                  </a:moveTo>
                  <a:lnTo>
                    <a:pt x="250" y="0"/>
                  </a:lnTo>
                  <a:lnTo>
                    <a:pt x="340" y="1372"/>
                  </a:lnTo>
                  <a:lnTo>
                    <a:pt x="471" y="0"/>
                  </a:lnTo>
                  <a:lnTo>
                    <a:pt x="720" y="0"/>
                  </a:lnTo>
                  <a:lnTo>
                    <a:pt x="851" y="1372"/>
                  </a:lnTo>
                  <a:lnTo>
                    <a:pt x="941" y="0"/>
                  </a:lnTo>
                  <a:lnTo>
                    <a:pt x="1190" y="0"/>
                  </a:lnTo>
                  <a:lnTo>
                    <a:pt x="1002" y="2455"/>
                  </a:lnTo>
                  <a:lnTo>
                    <a:pt x="745" y="2455"/>
                  </a:lnTo>
                  <a:lnTo>
                    <a:pt x="596" y="906"/>
                  </a:lnTo>
                  <a:lnTo>
                    <a:pt x="448" y="2455"/>
                  </a:lnTo>
                  <a:lnTo>
                    <a:pt x="189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29280" y="471600"/>
              <a:ext cx="333360" cy="884160"/>
            </a:xfrm>
            <a:custGeom>
              <a:avLst/>
              <a:gdLst/>
              <a:ahLst/>
              <a:rect l="l" t="t" r="r" b="b"/>
              <a:pathLst>
                <a:path w="926" h="2456">
                  <a:moveTo>
                    <a:pt x="0" y="0"/>
                  </a:moveTo>
                  <a:lnTo>
                    <a:pt x="292" y="0"/>
                  </a:lnTo>
                  <a:lnTo>
                    <a:pt x="464" y="825"/>
                  </a:lnTo>
                  <a:lnTo>
                    <a:pt x="635" y="0"/>
                  </a:lnTo>
                  <a:lnTo>
                    <a:pt x="925" y="0"/>
                  </a:lnTo>
                  <a:lnTo>
                    <a:pt x="595" y="1428"/>
                  </a:lnTo>
                  <a:lnTo>
                    <a:pt x="595" y="2455"/>
                  </a:lnTo>
                  <a:lnTo>
                    <a:pt x="331" y="2455"/>
                  </a:lnTo>
                  <a:lnTo>
                    <a:pt x="331" y="1428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13480" y="938160"/>
              <a:ext cx="123840" cy="190440"/>
            </a:xfrm>
            <a:custGeom>
              <a:avLst/>
              <a:gdLst/>
              <a:ahLst/>
              <a:rect l="l" t="t" r="r" b="b"/>
              <a:pathLst>
                <a:path w="343" h="528">
                  <a:moveTo>
                    <a:pt x="0" y="0"/>
                  </a:moveTo>
                  <a:lnTo>
                    <a:pt x="342" y="0"/>
                  </a:lnTo>
                  <a:lnTo>
                    <a:pt x="342" y="527"/>
                  </a:lnTo>
                  <a:lnTo>
                    <a:pt x="0" y="527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8040" y="471600"/>
              <a:ext cx="293760" cy="884160"/>
            </a:xfrm>
            <a:custGeom>
              <a:avLst/>
              <a:gdLst/>
              <a:ahLst/>
              <a:rect l="l" t="t" r="r" b="b"/>
              <a:pathLst>
                <a:path w="816" h="2456">
                  <a:moveTo>
                    <a:pt x="0" y="0"/>
                  </a:moveTo>
                  <a:lnTo>
                    <a:pt x="262" y="0"/>
                  </a:lnTo>
                  <a:lnTo>
                    <a:pt x="262" y="855"/>
                  </a:lnTo>
                  <a:lnTo>
                    <a:pt x="551" y="855"/>
                  </a:lnTo>
                  <a:lnTo>
                    <a:pt x="551" y="0"/>
                  </a:lnTo>
                  <a:lnTo>
                    <a:pt x="815" y="0"/>
                  </a:lnTo>
                  <a:lnTo>
                    <a:pt x="815" y="2455"/>
                  </a:lnTo>
                  <a:lnTo>
                    <a:pt x="551" y="2455"/>
                  </a:lnTo>
                  <a:lnTo>
                    <a:pt x="551" y="1464"/>
                  </a:lnTo>
                  <a:lnTo>
                    <a:pt x="262" y="1464"/>
                  </a:lnTo>
                  <a:lnTo>
                    <a:pt x="262" y="2455"/>
                  </a:lnTo>
                  <a:lnTo>
                    <a:pt x="0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78400" y="471600"/>
              <a:ext cx="95400" cy="884160"/>
            </a:xfrm>
            <a:custGeom>
              <a:avLst/>
              <a:gdLst/>
              <a:ahLst/>
              <a:rect l="l" t="t" r="r" b="b"/>
              <a:pathLst>
                <a:path w="265" h="2456">
                  <a:moveTo>
                    <a:pt x="0" y="0"/>
                  </a:moveTo>
                  <a:lnTo>
                    <a:pt x="264" y="0"/>
                  </a:lnTo>
                  <a:lnTo>
                    <a:pt x="264" y="2455"/>
                  </a:lnTo>
                  <a:lnTo>
                    <a:pt x="0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24560" y="457200"/>
              <a:ext cx="279360" cy="912960"/>
            </a:xfrm>
            <a:custGeom>
              <a:avLst/>
              <a:gdLst/>
              <a:ahLst/>
              <a:rect l="l" t="t" r="r" b="b"/>
              <a:pathLst>
                <a:path w="776" h="2537">
                  <a:moveTo>
                    <a:pt x="0" y="1680"/>
                  </a:moveTo>
                  <a:lnTo>
                    <a:pt x="251" y="1635"/>
                  </a:lnTo>
                  <a:lnTo>
                    <a:pt x="255" y="1716"/>
                  </a:lnTo>
                  <a:lnTo>
                    <a:pt x="264" y="1792"/>
                  </a:lnTo>
                  <a:lnTo>
                    <a:pt x="272" y="1853"/>
                  </a:lnTo>
                  <a:lnTo>
                    <a:pt x="285" y="1903"/>
                  </a:lnTo>
                  <a:lnTo>
                    <a:pt x="306" y="1969"/>
                  </a:lnTo>
                  <a:lnTo>
                    <a:pt x="333" y="2015"/>
                  </a:lnTo>
                  <a:lnTo>
                    <a:pt x="365" y="2045"/>
                  </a:lnTo>
                  <a:lnTo>
                    <a:pt x="401" y="2055"/>
                  </a:lnTo>
                  <a:lnTo>
                    <a:pt x="426" y="2045"/>
                  </a:lnTo>
                  <a:lnTo>
                    <a:pt x="451" y="2035"/>
                  </a:lnTo>
                  <a:lnTo>
                    <a:pt x="470" y="2010"/>
                  </a:lnTo>
                  <a:lnTo>
                    <a:pt x="488" y="1979"/>
                  </a:lnTo>
                  <a:lnTo>
                    <a:pt x="501" y="1939"/>
                  </a:lnTo>
                  <a:lnTo>
                    <a:pt x="510" y="1893"/>
                  </a:lnTo>
                  <a:lnTo>
                    <a:pt x="516" y="1847"/>
                  </a:lnTo>
                  <a:lnTo>
                    <a:pt x="520" y="1802"/>
                  </a:lnTo>
                  <a:lnTo>
                    <a:pt x="516" y="1756"/>
                  </a:lnTo>
                  <a:lnTo>
                    <a:pt x="510" y="1711"/>
                  </a:lnTo>
                  <a:lnTo>
                    <a:pt x="502" y="1670"/>
                  </a:lnTo>
                  <a:lnTo>
                    <a:pt x="489" y="1635"/>
                  </a:lnTo>
                  <a:lnTo>
                    <a:pt x="470" y="1594"/>
                  </a:lnTo>
                  <a:lnTo>
                    <a:pt x="441" y="1554"/>
                  </a:lnTo>
                  <a:lnTo>
                    <a:pt x="402" y="1524"/>
                  </a:lnTo>
                  <a:lnTo>
                    <a:pt x="355" y="1494"/>
                  </a:lnTo>
                  <a:lnTo>
                    <a:pt x="274" y="1428"/>
                  </a:lnTo>
                  <a:lnTo>
                    <a:pt x="205" y="1357"/>
                  </a:lnTo>
                  <a:lnTo>
                    <a:pt x="150" y="1276"/>
                  </a:lnTo>
                  <a:lnTo>
                    <a:pt x="107" y="1189"/>
                  </a:lnTo>
                  <a:lnTo>
                    <a:pt x="74" y="1088"/>
                  </a:lnTo>
                  <a:lnTo>
                    <a:pt x="51" y="976"/>
                  </a:lnTo>
                  <a:lnTo>
                    <a:pt x="37" y="851"/>
                  </a:lnTo>
                  <a:lnTo>
                    <a:pt x="32" y="714"/>
                  </a:lnTo>
                  <a:lnTo>
                    <a:pt x="34" y="623"/>
                  </a:lnTo>
                  <a:lnTo>
                    <a:pt x="41" y="531"/>
                  </a:lnTo>
                  <a:lnTo>
                    <a:pt x="54" y="445"/>
                  </a:lnTo>
                  <a:lnTo>
                    <a:pt x="71" y="359"/>
                  </a:lnTo>
                  <a:lnTo>
                    <a:pt x="92" y="279"/>
                  </a:lnTo>
                  <a:lnTo>
                    <a:pt x="117" y="203"/>
                  </a:lnTo>
                  <a:lnTo>
                    <a:pt x="150" y="142"/>
                  </a:lnTo>
                  <a:lnTo>
                    <a:pt x="186" y="91"/>
                  </a:lnTo>
                  <a:lnTo>
                    <a:pt x="226" y="51"/>
                  </a:lnTo>
                  <a:lnTo>
                    <a:pt x="276" y="20"/>
                  </a:lnTo>
                  <a:lnTo>
                    <a:pt x="332" y="0"/>
                  </a:lnTo>
                  <a:lnTo>
                    <a:pt x="395" y="0"/>
                  </a:lnTo>
                  <a:lnTo>
                    <a:pt x="471" y="5"/>
                  </a:lnTo>
                  <a:lnTo>
                    <a:pt x="540" y="41"/>
                  </a:lnTo>
                  <a:lnTo>
                    <a:pt x="596" y="96"/>
                  </a:lnTo>
                  <a:lnTo>
                    <a:pt x="645" y="172"/>
                  </a:lnTo>
                  <a:lnTo>
                    <a:pt x="683" y="269"/>
                  </a:lnTo>
                  <a:lnTo>
                    <a:pt x="712" y="400"/>
                  </a:lnTo>
                  <a:lnTo>
                    <a:pt x="734" y="552"/>
                  </a:lnTo>
                  <a:lnTo>
                    <a:pt x="747" y="734"/>
                  </a:lnTo>
                  <a:lnTo>
                    <a:pt x="498" y="775"/>
                  </a:lnTo>
                  <a:lnTo>
                    <a:pt x="491" y="694"/>
                  </a:lnTo>
                  <a:lnTo>
                    <a:pt x="482" y="628"/>
                  </a:lnTo>
                  <a:lnTo>
                    <a:pt x="471" y="572"/>
                  </a:lnTo>
                  <a:lnTo>
                    <a:pt x="458" y="531"/>
                  </a:lnTo>
                  <a:lnTo>
                    <a:pt x="439" y="496"/>
                  </a:lnTo>
                  <a:lnTo>
                    <a:pt x="419" y="470"/>
                  </a:lnTo>
                  <a:lnTo>
                    <a:pt x="395" y="460"/>
                  </a:lnTo>
                  <a:lnTo>
                    <a:pt x="369" y="455"/>
                  </a:lnTo>
                  <a:lnTo>
                    <a:pt x="347" y="455"/>
                  </a:lnTo>
                  <a:lnTo>
                    <a:pt x="328" y="470"/>
                  </a:lnTo>
                  <a:lnTo>
                    <a:pt x="313" y="491"/>
                  </a:lnTo>
                  <a:lnTo>
                    <a:pt x="300" y="511"/>
                  </a:lnTo>
                  <a:lnTo>
                    <a:pt x="289" y="541"/>
                  </a:lnTo>
                  <a:lnTo>
                    <a:pt x="282" y="572"/>
                  </a:lnTo>
                  <a:lnTo>
                    <a:pt x="278" y="607"/>
                  </a:lnTo>
                  <a:lnTo>
                    <a:pt x="276" y="648"/>
                  </a:lnTo>
                  <a:lnTo>
                    <a:pt x="276" y="673"/>
                  </a:lnTo>
                  <a:lnTo>
                    <a:pt x="281" y="704"/>
                  </a:lnTo>
                  <a:lnTo>
                    <a:pt x="288" y="729"/>
                  </a:lnTo>
                  <a:lnTo>
                    <a:pt x="296" y="754"/>
                  </a:lnTo>
                  <a:lnTo>
                    <a:pt x="308" y="775"/>
                  </a:lnTo>
                  <a:lnTo>
                    <a:pt x="326" y="795"/>
                  </a:lnTo>
                  <a:lnTo>
                    <a:pt x="352" y="820"/>
                  </a:lnTo>
                  <a:lnTo>
                    <a:pt x="384" y="846"/>
                  </a:lnTo>
                  <a:lnTo>
                    <a:pt x="464" y="896"/>
                  </a:lnTo>
                  <a:lnTo>
                    <a:pt x="533" y="951"/>
                  </a:lnTo>
                  <a:lnTo>
                    <a:pt x="589" y="1002"/>
                  </a:lnTo>
                  <a:lnTo>
                    <a:pt x="634" y="1063"/>
                  </a:lnTo>
                  <a:lnTo>
                    <a:pt x="667" y="1118"/>
                  </a:lnTo>
                  <a:lnTo>
                    <a:pt x="696" y="1184"/>
                  </a:lnTo>
                  <a:lnTo>
                    <a:pt x="721" y="1250"/>
                  </a:lnTo>
                  <a:lnTo>
                    <a:pt x="742" y="1331"/>
                  </a:lnTo>
                  <a:lnTo>
                    <a:pt x="756" y="1412"/>
                  </a:lnTo>
                  <a:lnTo>
                    <a:pt x="767" y="1504"/>
                  </a:lnTo>
                  <a:lnTo>
                    <a:pt x="772" y="1594"/>
                  </a:lnTo>
                  <a:lnTo>
                    <a:pt x="775" y="1695"/>
                  </a:lnTo>
                  <a:lnTo>
                    <a:pt x="771" y="1812"/>
                  </a:lnTo>
                  <a:lnTo>
                    <a:pt x="763" y="1924"/>
                  </a:lnTo>
                  <a:lnTo>
                    <a:pt x="749" y="2025"/>
                  </a:lnTo>
                  <a:lnTo>
                    <a:pt x="731" y="2131"/>
                  </a:lnTo>
                  <a:lnTo>
                    <a:pt x="703" y="2227"/>
                  </a:lnTo>
                  <a:lnTo>
                    <a:pt x="674" y="2308"/>
                  </a:lnTo>
                  <a:lnTo>
                    <a:pt x="641" y="2374"/>
                  </a:lnTo>
                  <a:lnTo>
                    <a:pt x="602" y="2435"/>
                  </a:lnTo>
                  <a:lnTo>
                    <a:pt x="559" y="2475"/>
                  </a:lnTo>
                  <a:lnTo>
                    <a:pt x="509" y="2506"/>
                  </a:lnTo>
                  <a:lnTo>
                    <a:pt x="456" y="2526"/>
                  </a:lnTo>
                  <a:lnTo>
                    <a:pt x="397" y="2536"/>
                  </a:lnTo>
                  <a:lnTo>
                    <a:pt x="296" y="2516"/>
                  </a:lnTo>
                  <a:lnTo>
                    <a:pt x="212" y="2475"/>
                  </a:lnTo>
                  <a:lnTo>
                    <a:pt x="145" y="2399"/>
                  </a:lnTo>
                  <a:lnTo>
                    <a:pt x="96" y="2293"/>
                  </a:lnTo>
                  <a:lnTo>
                    <a:pt x="58" y="2167"/>
                  </a:lnTo>
                  <a:lnTo>
                    <a:pt x="28" y="2020"/>
                  </a:lnTo>
                  <a:lnTo>
                    <a:pt x="10" y="1858"/>
                  </a:lnTo>
                  <a:lnTo>
                    <a:pt x="0" y="168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29480" y="471600"/>
              <a:ext cx="287280" cy="884160"/>
            </a:xfrm>
            <a:custGeom>
              <a:avLst/>
              <a:gdLst/>
              <a:ahLst/>
              <a:rect l="l" t="t" r="r" b="b"/>
              <a:pathLst>
                <a:path w="799" h="2456">
                  <a:moveTo>
                    <a:pt x="0" y="0"/>
                  </a:moveTo>
                  <a:lnTo>
                    <a:pt x="798" y="0"/>
                  </a:lnTo>
                  <a:lnTo>
                    <a:pt x="798" y="607"/>
                  </a:lnTo>
                  <a:lnTo>
                    <a:pt x="530" y="607"/>
                  </a:lnTo>
                  <a:lnTo>
                    <a:pt x="530" y="2455"/>
                  </a:lnTo>
                  <a:lnTo>
                    <a:pt x="268" y="2455"/>
                  </a:lnTo>
                  <a:lnTo>
                    <a:pt x="268" y="607"/>
                  </a:lnTo>
                  <a:lnTo>
                    <a:pt x="0" y="607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47000" y="457200"/>
              <a:ext cx="317520" cy="912960"/>
            </a:xfrm>
            <a:custGeom>
              <a:avLst/>
              <a:gdLst/>
              <a:ahLst/>
              <a:rect l="l" t="t" r="r" b="b"/>
              <a:pathLst>
                <a:path w="883" h="2537">
                  <a:moveTo>
                    <a:pt x="262" y="1271"/>
                  </a:moveTo>
                  <a:lnTo>
                    <a:pt x="265" y="1443"/>
                  </a:lnTo>
                  <a:lnTo>
                    <a:pt x="273" y="1589"/>
                  </a:lnTo>
                  <a:lnTo>
                    <a:pt x="289" y="1711"/>
                  </a:lnTo>
                  <a:lnTo>
                    <a:pt x="311" y="1807"/>
                  </a:lnTo>
                  <a:lnTo>
                    <a:pt x="336" y="1878"/>
                  </a:lnTo>
                  <a:lnTo>
                    <a:pt x="367" y="1929"/>
                  </a:lnTo>
                  <a:lnTo>
                    <a:pt x="402" y="1959"/>
                  </a:lnTo>
                  <a:lnTo>
                    <a:pt x="442" y="1969"/>
                  </a:lnTo>
                  <a:lnTo>
                    <a:pt x="481" y="1959"/>
                  </a:lnTo>
                  <a:lnTo>
                    <a:pt x="515" y="1929"/>
                  </a:lnTo>
                  <a:lnTo>
                    <a:pt x="547" y="1883"/>
                  </a:lnTo>
                  <a:lnTo>
                    <a:pt x="573" y="1812"/>
                  </a:lnTo>
                  <a:lnTo>
                    <a:pt x="593" y="1716"/>
                  </a:lnTo>
                  <a:lnTo>
                    <a:pt x="607" y="1589"/>
                  </a:lnTo>
                  <a:lnTo>
                    <a:pt x="615" y="1433"/>
                  </a:lnTo>
                  <a:lnTo>
                    <a:pt x="619" y="1240"/>
                  </a:lnTo>
                  <a:lnTo>
                    <a:pt x="615" y="1078"/>
                  </a:lnTo>
                  <a:lnTo>
                    <a:pt x="607" y="942"/>
                  </a:lnTo>
                  <a:lnTo>
                    <a:pt x="593" y="820"/>
                  </a:lnTo>
                  <a:lnTo>
                    <a:pt x="572" y="734"/>
                  </a:lnTo>
                  <a:lnTo>
                    <a:pt x="545" y="658"/>
                  </a:lnTo>
                  <a:lnTo>
                    <a:pt x="513" y="612"/>
                  </a:lnTo>
                  <a:lnTo>
                    <a:pt x="478" y="582"/>
                  </a:lnTo>
                  <a:lnTo>
                    <a:pt x="439" y="572"/>
                  </a:lnTo>
                  <a:lnTo>
                    <a:pt x="399" y="582"/>
                  </a:lnTo>
                  <a:lnTo>
                    <a:pt x="366" y="612"/>
                  </a:lnTo>
                  <a:lnTo>
                    <a:pt x="336" y="663"/>
                  </a:lnTo>
                  <a:lnTo>
                    <a:pt x="311" y="734"/>
                  </a:lnTo>
                  <a:lnTo>
                    <a:pt x="289" y="830"/>
                  </a:lnTo>
                  <a:lnTo>
                    <a:pt x="273" y="951"/>
                  </a:lnTo>
                  <a:lnTo>
                    <a:pt x="265" y="1098"/>
                  </a:lnTo>
                  <a:lnTo>
                    <a:pt x="262" y="1271"/>
                  </a:lnTo>
                  <a:lnTo>
                    <a:pt x="262" y="1271"/>
                  </a:lnTo>
                  <a:close/>
                  <a:moveTo>
                    <a:pt x="0" y="1265"/>
                  </a:moveTo>
                  <a:lnTo>
                    <a:pt x="7" y="982"/>
                  </a:lnTo>
                  <a:lnTo>
                    <a:pt x="27" y="734"/>
                  </a:lnTo>
                  <a:lnTo>
                    <a:pt x="64" y="511"/>
                  </a:lnTo>
                  <a:lnTo>
                    <a:pt x="116" y="329"/>
                  </a:lnTo>
                  <a:lnTo>
                    <a:pt x="179" y="183"/>
                  </a:lnTo>
                  <a:lnTo>
                    <a:pt x="254" y="81"/>
                  </a:lnTo>
                  <a:lnTo>
                    <a:pt x="341" y="20"/>
                  </a:lnTo>
                  <a:lnTo>
                    <a:pt x="439" y="0"/>
                  </a:lnTo>
                  <a:lnTo>
                    <a:pt x="539" y="20"/>
                  </a:lnTo>
                  <a:lnTo>
                    <a:pt x="626" y="81"/>
                  </a:lnTo>
                  <a:lnTo>
                    <a:pt x="702" y="183"/>
                  </a:lnTo>
                  <a:lnTo>
                    <a:pt x="767" y="323"/>
                  </a:lnTo>
                  <a:lnTo>
                    <a:pt x="817" y="506"/>
                  </a:lnTo>
                  <a:lnTo>
                    <a:pt x="852" y="719"/>
                  </a:lnTo>
                  <a:lnTo>
                    <a:pt x="873" y="966"/>
                  </a:lnTo>
                  <a:lnTo>
                    <a:pt x="882" y="1245"/>
                  </a:lnTo>
                  <a:lnTo>
                    <a:pt x="877" y="1453"/>
                  </a:lnTo>
                  <a:lnTo>
                    <a:pt x="869" y="1635"/>
                  </a:lnTo>
                  <a:lnTo>
                    <a:pt x="852" y="1802"/>
                  </a:lnTo>
                  <a:lnTo>
                    <a:pt x="832" y="1954"/>
                  </a:lnTo>
                  <a:lnTo>
                    <a:pt x="803" y="2086"/>
                  </a:lnTo>
                  <a:lnTo>
                    <a:pt x="770" y="2197"/>
                  </a:lnTo>
                  <a:lnTo>
                    <a:pt x="731" y="2298"/>
                  </a:lnTo>
                  <a:lnTo>
                    <a:pt x="687" y="2384"/>
                  </a:lnTo>
                  <a:lnTo>
                    <a:pt x="637" y="2450"/>
                  </a:lnTo>
                  <a:lnTo>
                    <a:pt x="579" y="2495"/>
                  </a:lnTo>
                  <a:lnTo>
                    <a:pt x="517" y="2526"/>
                  </a:lnTo>
                  <a:lnTo>
                    <a:pt x="450" y="2536"/>
                  </a:lnTo>
                  <a:lnTo>
                    <a:pt x="380" y="2526"/>
                  </a:lnTo>
                  <a:lnTo>
                    <a:pt x="318" y="2501"/>
                  </a:lnTo>
                  <a:lnTo>
                    <a:pt x="261" y="2460"/>
                  </a:lnTo>
                  <a:lnTo>
                    <a:pt x="211" y="2404"/>
                  </a:lnTo>
                  <a:lnTo>
                    <a:pt x="165" y="2328"/>
                  </a:lnTo>
                  <a:lnTo>
                    <a:pt x="126" y="2232"/>
                  </a:lnTo>
                  <a:lnTo>
                    <a:pt x="89" y="2116"/>
                  </a:lnTo>
                  <a:lnTo>
                    <a:pt x="59" y="1984"/>
                  </a:lnTo>
                  <a:lnTo>
                    <a:pt x="32" y="1832"/>
                  </a:lnTo>
                  <a:lnTo>
                    <a:pt x="14" y="1660"/>
                  </a:lnTo>
                  <a:lnTo>
                    <a:pt x="2" y="1473"/>
                  </a:lnTo>
                  <a:lnTo>
                    <a:pt x="0" y="1265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04120" y="457200"/>
              <a:ext cx="312840" cy="912960"/>
            </a:xfrm>
            <a:custGeom>
              <a:avLst/>
              <a:gdLst/>
              <a:ahLst/>
              <a:rect l="l" t="t" r="r" b="b"/>
              <a:pathLst>
                <a:path w="869" h="2537">
                  <a:moveTo>
                    <a:pt x="461" y="1609"/>
                  </a:moveTo>
                  <a:lnTo>
                    <a:pt x="461" y="1098"/>
                  </a:lnTo>
                  <a:lnTo>
                    <a:pt x="868" y="1098"/>
                  </a:lnTo>
                  <a:lnTo>
                    <a:pt x="868" y="2142"/>
                  </a:lnTo>
                  <a:lnTo>
                    <a:pt x="812" y="2247"/>
                  </a:lnTo>
                  <a:lnTo>
                    <a:pt x="759" y="2328"/>
                  </a:lnTo>
                  <a:lnTo>
                    <a:pt x="709" y="2399"/>
                  </a:lnTo>
                  <a:lnTo>
                    <a:pt x="662" y="2455"/>
                  </a:lnTo>
                  <a:lnTo>
                    <a:pt x="615" y="2485"/>
                  </a:lnTo>
                  <a:lnTo>
                    <a:pt x="563" y="2516"/>
                  </a:lnTo>
                  <a:lnTo>
                    <a:pt x="508" y="2531"/>
                  </a:lnTo>
                  <a:lnTo>
                    <a:pt x="449" y="2536"/>
                  </a:lnTo>
                  <a:lnTo>
                    <a:pt x="375" y="2526"/>
                  </a:lnTo>
                  <a:lnTo>
                    <a:pt x="309" y="2495"/>
                  </a:lnTo>
                  <a:lnTo>
                    <a:pt x="251" y="2455"/>
                  </a:lnTo>
                  <a:lnTo>
                    <a:pt x="200" y="2389"/>
                  </a:lnTo>
                  <a:lnTo>
                    <a:pt x="156" y="2303"/>
                  </a:lnTo>
                  <a:lnTo>
                    <a:pt x="116" y="2202"/>
                  </a:lnTo>
                  <a:lnTo>
                    <a:pt x="81" y="2081"/>
                  </a:lnTo>
                  <a:lnTo>
                    <a:pt x="54" y="1944"/>
                  </a:lnTo>
                  <a:lnTo>
                    <a:pt x="30" y="1787"/>
                  </a:lnTo>
                  <a:lnTo>
                    <a:pt x="12" y="1624"/>
                  </a:lnTo>
                  <a:lnTo>
                    <a:pt x="3" y="1453"/>
                  </a:lnTo>
                  <a:lnTo>
                    <a:pt x="0" y="1265"/>
                  </a:lnTo>
                  <a:lnTo>
                    <a:pt x="3" y="1073"/>
                  </a:lnTo>
                  <a:lnTo>
                    <a:pt x="14" y="891"/>
                  </a:lnTo>
                  <a:lnTo>
                    <a:pt x="33" y="719"/>
                  </a:lnTo>
                  <a:lnTo>
                    <a:pt x="58" y="567"/>
                  </a:lnTo>
                  <a:lnTo>
                    <a:pt x="88" y="425"/>
                  </a:lnTo>
                  <a:lnTo>
                    <a:pt x="128" y="304"/>
                  </a:lnTo>
                  <a:lnTo>
                    <a:pt x="173" y="203"/>
                  </a:lnTo>
                  <a:lnTo>
                    <a:pt x="226" y="117"/>
                  </a:lnTo>
                  <a:lnTo>
                    <a:pt x="272" y="61"/>
                  </a:lnTo>
                  <a:lnTo>
                    <a:pt x="328" y="25"/>
                  </a:lnTo>
                  <a:lnTo>
                    <a:pt x="389" y="0"/>
                  </a:lnTo>
                  <a:lnTo>
                    <a:pt x="460" y="0"/>
                  </a:lnTo>
                  <a:lnTo>
                    <a:pt x="526" y="0"/>
                  </a:lnTo>
                  <a:lnTo>
                    <a:pt x="584" y="15"/>
                  </a:lnTo>
                  <a:lnTo>
                    <a:pt x="632" y="41"/>
                  </a:lnTo>
                  <a:lnTo>
                    <a:pt x="672" y="71"/>
                  </a:lnTo>
                  <a:lnTo>
                    <a:pt x="705" y="112"/>
                  </a:lnTo>
                  <a:lnTo>
                    <a:pt x="736" y="162"/>
                  </a:lnTo>
                  <a:lnTo>
                    <a:pt x="763" y="223"/>
                  </a:lnTo>
                  <a:lnTo>
                    <a:pt x="788" y="299"/>
                  </a:lnTo>
                  <a:lnTo>
                    <a:pt x="809" y="379"/>
                  </a:lnTo>
                  <a:lnTo>
                    <a:pt x="828" y="476"/>
                  </a:lnTo>
                  <a:lnTo>
                    <a:pt x="843" y="577"/>
                  </a:lnTo>
                  <a:lnTo>
                    <a:pt x="857" y="694"/>
                  </a:lnTo>
                  <a:lnTo>
                    <a:pt x="604" y="825"/>
                  </a:lnTo>
                  <a:lnTo>
                    <a:pt x="593" y="754"/>
                  </a:lnTo>
                  <a:lnTo>
                    <a:pt x="582" y="699"/>
                  </a:lnTo>
                  <a:lnTo>
                    <a:pt x="566" y="653"/>
                  </a:lnTo>
                  <a:lnTo>
                    <a:pt x="549" y="612"/>
                  </a:lnTo>
                  <a:lnTo>
                    <a:pt x="529" y="577"/>
                  </a:lnTo>
                  <a:lnTo>
                    <a:pt x="506" y="552"/>
                  </a:lnTo>
                  <a:lnTo>
                    <a:pt x="480" y="541"/>
                  </a:lnTo>
                  <a:lnTo>
                    <a:pt x="454" y="536"/>
                  </a:lnTo>
                  <a:lnTo>
                    <a:pt x="412" y="547"/>
                  </a:lnTo>
                  <a:lnTo>
                    <a:pt x="375" y="577"/>
                  </a:lnTo>
                  <a:lnTo>
                    <a:pt x="343" y="633"/>
                  </a:lnTo>
                  <a:lnTo>
                    <a:pt x="317" y="709"/>
                  </a:lnTo>
                  <a:lnTo>
                    <a:pt x="292" y="805"/>
                  </a:lnTo>
                  <a:lnTo>
                    <a:pt x="276" y="932"/>
                  </a:lnTo>
                  <a:lnTo>
                    <a:pt x="266" y="1083"/>
                  </a:lnTo>
                  <a:lnTo>
                    <a:pt x="264" y="1260"/>
                  </a:lnTo>
                  <a:lnTo>
                    <a:pt x="266" y="1443"/>
                  </a:lnTo>
                  <a:lnTo>
                    <a:pt x="276" y="1594"/>
                  </a:lnTo>
                  <a:lnTo>
                    <a:pt x="292" y="1726"/>
                  </a:lnTo>
                  <a:lnTo>
                    <a:pt x="317" y="1827"/>
                  </a:lnTo>
                  <a:lnTo>
                    <a:pt x="345" y="1903"/>
                  </a:lnTo>
                  <a:lnTo>
                    <a:pt x="378" y="1954"/>
                  </a:lnTo>
                  <a:lnTo>
                    <a:pt x="417" y="1984"/>
                  </a:lnTo>
                  <a:lnTo>
                    <a:pt x="461" y="2000"/>
                  </a:lnTo>
                  <a:lnTo>
                    <a:pt x="482" y="1995"/>
                  </a:lnTo>
                  <a:lnTo>
                    <a:pt x="505" y="1984"/>
                  </a:lnTo>
                  <a:lnTo>
                    <a:pt x="526" y="1974"/>
                  </a:lnTo>
                  <a:lnTo>
                    <a:pt x="547" y="1964"/>
                  </a:lnTo>
                  <a:lnTo>
                    <a:pt x="566" y="1939"/>
                  </a:lnTo>
                  <a:lnTo>
                    <a:pt x="589" y="1908"/>
                  </a:lnTo>
                  <a:lnTo>
                    <a:pt x="613" y="1878"/>
                  </a:lnTo>
                  <a:lnTo>
                    <a:pt x="639" y="1837"/>
                  </a:lnTo>
                  <a:lnTo>
                    <a:pt x="639" y="1609"/>
                  </a:lnTo>
                  <a:lnTo>
                    <a:pt x="461" y="1609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3840" y="471600"/>
              <a:ext cx="301680" cy="884160"/>
            </a:xfrm>
            <a:custGeom>
              <a:avLst/>
              <a:gdLst/>
              <a:ahLst/>
              <a:rect l="l" t="t" r="r" b="b"/>
              <a:pathLst>
                <a:path w="838" h="2456">
                  <a:moveTo>
                    <a:pt x="264" y="991"/>
                  </a:moveTo>
                  <a:lnTo>
                    <a:pt x="374" y="991"/>
                  </a:lnTo>
                  <a:lnTo>
                    <a:pt x="385" y="986"/>
                  </a:lnTo>
                  <a:lnTo>
                    <a:pt x="401" y="981"/>
                  </a:lnTo>
                  <a:lnTo>
                    <a:pt x="420" y="971"/>
                  </a:lnTo>
                  <a:lnTo>
                    <a:pt x="446" y="961"/>
                  </a:lnTo>
                  <a:lnTo>
                    <a:pt x="457" y="946"/>
                  </a:lnTo>
                  <a:lnTo>
                    <a:pt x="468" y="930"/>
                  </a:lnTo>
                  <a:lnTo>
                    <a:pt x="478" y="906"/>
                  </a:lnTo>
                  <a:lnTo>
                    <a:pt x="487" y="881"/>
                  </a:lnTo>
                  <a:lnTo>
                    <a:pt x="494" y="845"/>
                  </a:lnTo>
                  <a:lnTo>
                    <a:pt x="500" y="815"/>
                  </a:lnTo>
                  <a:lnTo>
                    <a:pt x="503" y="774"/>
                  </a:lnTo>
                  <a:lnTo>
                    <a:pt x="504" y="739"/>
                  </a:lnTo>
                  <a:lnTo>
                    <a:pt x="501" y="678"/>
                  </a:lnTo>
                  <a:lnTo>
                    <a:pt x="497" y="632"/>
                  </a:lnTo>
                  <a:lnTo>
                    <a:pt x="489" y="592"/>
                  </a:lnTo>
                  <a:lnTo>
                    <a:pt x="479" y="551"/>
                  </a:lnTo>
                  <a:lnTo>
                    <a:pt x="462" y="526"/>
                  </a:lnTo>
                  <a:lnTo>
                    <a:pt x="439" y="506"/>
                  </a:lnTo>
                  <a:lnTo>
                    <a:pt x="412" y="490"/>
                  </a:lnTo>
                  <a:lnTo>
                    <a:pt x="378" y="490"/>
                  </a:lnTo>
                  <a:lnTo>
                    <a:pt x="264" y="490"/>
                  </a:lnTo>
                  <a:lnTo>
                    <a:pt x="264" y="991"/>
                  </a:lnTo>
                  <a:lnTo>
                    <a:pt x="264" y="991"/>
                  </a:lnTo>
                  <a:close/>
                  <a:moveTo>
                    <a:pt x="0" y="2455"/>
                  </a:moveTo>
                  <a:lnTo>
                    <a:pt x="0" y="0"/>
                  </a:lnTo>
                  <a:lnTo>
                    <a:pt x="438" y="0"/>
                  </a:lnTo>
                  <a:lnTo>
                    <a:pt x="494" y="0"/>
                  </a:lnTo>
                  <a:lnTo>
                    <a:pt x="545" y="10"/>
                  </a:lnTo>
                  <a:lnTo>
                    <a:pt x="588" y="30"/>
                  </a:lnTo>
                  <a:lnTo>
                    <a:pt x="624" y="60"/>
                  </a:lnTo>
                  <a:lnTo>
                    <a:pt x="654" y="96"/>
                  </a:lnTo>
                  <a:lnTo>
                    <a:pt x="682" y="142"/>
                  </a:lnTo>
                  <a:lnTo>
                    <a:pt x="706" y="202"/>
                  </a:lnTo>
                  <a:lnTo>
                    <a:pt x="728" y="282"/>
                  </a:lnTo>
                  <a:lnTo>
                    <a:pt x="746" y="364"/>
                  </a:lnTo>
                  <a:lnTo>
                    <a:pt x="758" y="460"/>
                  </a:lnTo>
                  <a:lnTo>
                    <a:pt x="765" y="566"/>
                  </a:lnTo>
                  <a:lnTo>
                    <a:pt x="768" y="678"/>
                  </a:lnTo>
                  <a:lnTo>
                    <a:pt x="765" y="774"/>
                  </a:lnTo>
                  <a:lnTo>
                    <a:pt x="759" y="871"/>
                  </a:lnTo>
                  <a:lnTo>
                    <a:pt x="751" y="956"/>
                  </a:lnTo>
                  <a:lnTo>
                    <a:pt x="739" y="1032"/>
                  </a:lnTo>
                  <a:lnTo>
                    <a:pt x="720" y="1103"/>
                  </a:lnTo>
                  <a:lnTo>
                    <a:pt x="700" y="1164"/>
                  </a:lnTo>
                  <a:lnTo>
                    <a:pt x="678" y="1219"/>
                  </a:lnTo>
                  <a:lnTo>
                    <a:pt x="654" y="1271"/>
                  </a:lnTo>
                  <a:lnTo>
                    <a:pt x="635" y="1302"/>
                  </a:lnTo>
                  <a:lnTo>
                    <a:pt x="613" y="1327"/>
                  </a:lnTo>
                  <a:lnTo>
                    <a:pt x="588" y="1347"/>
                  </a:lnTo>
                  <a:lnTo>
                    <a:pt x="562" y="1372"/>
                  </a:lnTo>
                  <a:lnTo>
                    <a:pt x="583" y="1393"/>
                  </a:lnTo>
                  <a:lnTo>
                    <a:pt x="601" y="1413"/>
                  </a:lnTo>
                  <a:lnTo>
                    <a:pt x="616" y="1438"/>
                  </a:lnTo>
                  <a:lnTo>
                    <a:pt x="630" y="1464"/>
                  </a:lnTo>
                  <a:lnTo>
                    <a:pt x="638" y="1479"/>
                  </a:lnTo>
                  <a:lnTo>
                    <a:pt x="647" y="1509"/>
                  </a:lnTo>
                  <a:lnTo>
                    <a:pt x="659" y="1545"/>
                  </a:lnTo>
                  <a:lnTo>
                    <a:pt x="672" y="1589"/>
                  </a:lnTo>
                  <a:lnTo>
                    <a:pt x="684" y="1635"/>
                  </a:lnTo>
                  <a:lnTo>
                    <a:pt x="695" y="1676"/>
                  </a:lnTo>
                  <a:lnTo>
                    <a:pt x="702" y="1716"/>
                  </a:lnTo>
                  <a:lnTo>
                    <a:pt x="709" y="1747"/>
                  </a:lnTo>
                  <a:lnTo>
                    <a:pt x="837" y="2455"/>
                  </a:lnTo>
                  <a:lnTo>
                    <a:pt x="540" y="2455"/>
                  </a:lnTo>
                  <a:lnTo>
                    <a:pt x="398" y="1706"/>
                  </a:lnTo>
                  <a:lnTo>
                    <a:pt x="384" y="1635"/>
                  </a:lnTo>
                  <a:lnTo>
                    <a:pt x="371" y="1584"/>
                  </a:lnTo>
                  <a:lnTo>
                    <a:pt x="360" y="1540"/>
                  </a:lnTo>
                  <a:lnTo>
                    <a:pt x="351" y="1514"/>
                  </a:lnTo>
                  <a:lnTo>
                    <a:pt x="334" y="1494"/>
                  </a:lnTo>
                  <a:lnTo>
                    <a:pt x="320" y="1474"/>
                  </a:lnTo>
                  <a:lnTo>
                    <a:pt x="304" y="1459"/>
                  </a:lnTo>
                  <a:lnTo>
                    <a:pt x="287" y="1459"/>
                  </a:lnTo>
                  <a:lnTo>
                    <a:pt x="264" y="1459"/>
                  </a:lnTo>
                  <a:lnTo>
                    <a:pt x="264" y="2455"/>
                  </a:lnTo>
                  <a:lnTo>
                    <a:pt x="0" y="2455"/>
                  </a:lnTo>
                  <a:lnTo>
                    <a:pt x="0" y="2455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4080" y="471600"/>
              <a:ext cx="333360" cy="884160"/>
            </a:xfrm>
            <a:custGeom>
              <a:avLst/>
              <a:gdLst/>
              <a:ahLst/>
              <a:rect l="l" t="t" r="r" b="b"/>
              <a:pathLst>
                <a:path w="926" h="2456">
                  <a:moveTo>
                    <a:pt x="552" y="1520"/>
                  </a:moveTo>
                  <a:lnTo>
                    <a:pt x="460" y="632"/>
                  </a:lnTo>
                  <a:lnTo>
                    <a:pt x="366" y="1520"/>
                  </a:lnTo>
                  <a:lnTo>
                    <a:pt x="552" y="1520"/>
                  </a:lnTo>
                  <a:lnTo>
                    <a:pt x="552" y="1520"/>
                  </a:lnTo>
                  <a:close/>
                  <a:moveTo>
                    <a:pt x="607" y="2051"/>
                  </a:moveTo>
                  <a:lnTo>
                    <a:pt x="312" y="2051"/>
                  </a:lnTo>
                  <a:lnTo>
                    <a:pt x="267" y="2455"/>
                  </a:lnTo>
                  <a:lnTo>
                    <a:pt x="0" y="2455"/>
                  </a:lnTo>
                  <a:lnTo>
                    <a:pt x="318" y="0"/>
                  </a:lnTo>
                  <a:lnTo>
                    <a:pt x="606" y="0"/>
                  </a:lnTo>
                  <a:lnTo>
                    <a:pt x="925" y="2455"/>
                  </a:lnTo>
                  <a:lnTo>
                    <a:pt x="650" y="2455"/>
                  </a:lnTo>
                  <a:lnTo>
                    <a:pt x="607" y="2051"/>
                  </a:lnTo>
                  <a:lnTo>
                    <a:pt x="607" y="205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35880" y="471600"/>
              <a:ext cx="344520" cy="884160"/>
            </a:xfrm>
            <a:custGeom>
              <a:avLst/>
              <a:gdLst/>
              <a:ahLst/>
              <a:rect l="l" t="t" r="r" b="b"/>
              <a:pathLst>
                <a:path w="957" h="2456">
                  <a:moveTo>
                    <a:pt x="0" y="0"/>
                  </a:moveTo>
                  <a:lnTo>
                    <a:pt x="347" y="0"/>
                  </a:lnTo>
                  <a:lnTo>
                    <a:pt x="478" y="1494"/>
                  </a:lnTo>
                  <a:lnTo>
                    <a:pt x="611" y="0"/>
                  </a:lnTo>
                  <a:lnTo>
                    <a:pt x="956" y="0"/>
                  </a:lnTo>
                  <a:lnTo>
                    <a:pt x="956" y="2455"/>
                  </a:lnTo>
                  <a:lnTo>
                    <a:pt x="742" y="2455"/>
                  </a:lnTo>
                  <a:lnTo>
                    <a:pt x="742" y="582"/>
                  </a:lnTo>
                  <a:lnTo>
                    <a:pt x="575" y="2455"/>
                  </a:lnTo>
                  <a:lnTo>
                    <a:pt x="381" y="2455"/>
                  </a:lnTo>
                  <a:lnTo>
                    <a:pt x="214" y="582"/>
                  </a:lnTo>
                  <a:lnTo>
                    <a:pt x="214" y="2455"/>
                  </a:lnTo>
                  <a:lnTo>
                    <a:pt x="0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4" name=""/>
          <p:cNvGraphicFramePr/>
          <p:nvPr/>
        </p:nvGraphicFramePr>
        <p:xfrm>
          <a:off x="1447920" y="1593720"/>
          <a:ext cx="6933960" cy="36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93720"/>
                    <a:ext cx="6933960" cy="36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04920" y="5410080"/>
            <a:ext cx="8839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Na diagramie słupkowym nie przedstawia się sumy składowych.             Na takim diagramie można porównać różne wielkości, które chcemy zaprezentowa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8381880" y="6172200"/>
            <a:ext cx="762120" cy="684360"/>
            <a:chOff x="8381880" y="6172200"/>
            <a:chExt cx="762120" cy="684360"/>
          </a:xfrm>
        </p:grpSpPr>
        <p:sp>
          <p:nvSpPr>
            <p:cNvPr id="168" name=""/>
            <p:cNvSpPr/>
            <p:nvPr/>
          </p:nvSpPr>
          <p:spPr>
            <a:xfrm>
              <a:off x="8381880" y="6172200"/>
              <a:ext cx="762120" cy="684360"/>
            </a:xfrm>
            <a:custGeom>
              <a:avLst/>
              <a:gdLst/>
              <a:ahLst/>
              <a:rect l="l" t="t" r="r" b="b"/>
              <a:pathLst>
                <a:path w="2118" h="1902">
                  <a:moveTo>
                    <a:pt x="0" y="0"/>
                  </a:moveTo>
                  <a:lnTo>
                    <a:pt x="2117" y="0"/>
                  </a:lnTo>
                  <a:lnTo>
                    <a:pt x="2117" y="1901"/>
                  </a:lnTo>
                  <a:lnTo>
                    <a:pt x="0" y="1901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1880" y="6172200"/>
              <a:ext cx="762120" cy="4428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0" y="0"/>
                  </a:moveTo>
                  <a:lnTo>
                    <a:pt x="2117" y="0"/>
                  </a:lnTo>
                  <a:lnTo>
                    <a:pt x="1993" y="123"/>
                  </a:lnTo>
                  <a:lnTo>
                    <a:pt x="123" y="123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97920" y="6172200"/>
              <a:ext cx="4464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123" y="0"/>
                  </a:moveTo>
                  <a:lnTo>
                    <a:pt x="123" y="1901"/>
                  </a:lnTo>
                  <a:lnTo>
                    <a:pt x="0" y="1777"/>
                  </a:lnTo>
                  <a:lnTo>
                    <a:pt x="0" y="122"/>
                  </a:lnTo>
                  <a:lnTo>
                    <a:pt x="123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1880" y="6811920"/>
              <a:ext cx="762120" cy="4464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2117" y="123"/>
                  </a:moveTo>
                  <a:lnTo>
                    <a:pt x="0" y="123"/>
                  </a:lnTo>
                  <a:lnTo>
                    <a:pt x="123" y="0"/>
                  </a:lnTo>
                  <a:lnTo>
                    <a:pt x="1993" y="0"/>
                  </a:lnTo>
                  <a:lnTo>
                    <a:pt x="2117" y="123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6172200"/>
              <a:ext cx="4464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0" y="1901"/>
                  </a:moveTo>
                  <a:lnTo>
                    <a:pt x="0" y="0"/>
                  </a:lnTo>
                  <a:lnTo>
                    <a:pt x="123" y="122"/>
                  </a:lnTo>
                  <a:lnTo>
                    <a:pt x="123" y="1777"/>
                  </a:lnTo>
                  <a:lnTo>
                    <a:pt x="0" y="1901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40640" y="6292800"/>
              <a:ext cx="446040" cy="446040"/>
            </a:xfrm>
            <a:custGeom>
              <a:avLst/>
              <a:gdLst/>
              <a:ahLst/>
              <a:rect l="l" t="t" r="r" b="b"/>
              <a:pathLst>
                <a:path w="1238" h="1237">
                  <a:moveTo>
                    <a:pt x="0" y="0"/>
                  </a:moveTo>
                  <a:lnTo>
                    <a:pt x="1237" y="619"/>
                  </a:lnTo>
                  <a:lnTo>
                    <a:pt x="0" y="1236"/>
                  </a:lnTo>
                  <a:lnTo>
                    <a:pt x="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762120" y="609480"/>
            <a:ext cx="3375000" cy="698760"/>
            <a:chOff x="762120" y="609480"/>
            <a:chExt cx="3375000" cy="698760"/>
          </a:xfrm>
        </p:grpSpPr>
        <p:sp>
          <p:nvSpPr>
            <p:cNvPr id="175" name=""/>
            <p:cNvSpPr/>
            <p:nvPr/>
          </p:nvSpPr>
          <p:spPr>
            <a:xfrm>
              <a:off x="762120" y="620640"/>
              <a:ext cx="704880" cy="676440"/>
            </a:xfrm>
            <a:custGeom>
              <a:avLst/>
              <a:gdLst/>
              <a:ahLst/>
              <a:rect l="l" t="t" r="r" b="b"/>
              <a:pathLst>
                <a:path w="1956" h="1880">
                  <a:moveTo>
                    <a:pt x="0" y="0"/>
                  </a:moveTo>
                  <a:lnTo>
                    <a:pt x="411" y="0"/>
                  </a:lnTo>
                  <a:lnTo>
                    <a:pt x="558" y="1050"/>
                  </a:lnTo>
                  <a:lnTo>
                    <a:pt x="774" y="0"/>
                  </a:lnTo>
                  <a:lnTo>
                    <a:pt x="1183" y="0"/>
                  </a:lnTo>
                  <a:lnTo>
                    <a:pt x="1400" y="1050"/>
                  </a:lnTo>
                  <a:lnTo>
                    <a:pt x="1547" y="0"/>
                  </a:lnTo>
                  <a:lnTo>
                    <a:pt x="1955" y="0"/>
                  </a:lnTo>
                  <a:lnTo>
                    <a:pt x="1647" y="1879"/>
                  </a:lnTo>
                  <a:lnTo>
                    <a:pt x="1224" y="1879"/>
                  </a:lnTo>
                  <a:lnTo>
                    <a:pt x="980" y="694"/>
                  </a:lnTo>
                  <a:lnTo>
                    <a:pt x="735" y="1879"/>
                  </a:lnTo>
                  <a:lnTo>
                    <a:pt x="311" y="1879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67000" y="620640"/>
              <a:ext cx="549000" cy="676440"/>
            </a:xfrm>
            <a:custGeom>
              <a:avLst/>
              <a:gdLst/>
              <a:ahLst/>
              <a:rect l="l" t="t" r="r" b="b"/>
              <a:pathLst>
                <a:path w="1524" h="1880">
                  <a:moveTo>
                    <a:pt x="0" y="0"/>
                  </a:moveTo>
                  <a:lnTo>
                    <a:pt x="480" y="0"/>
                  </a:lnTo>
                  <a:lnTo>
                    <a:pt x="764" y="632"/>
                  </a:lnTo>
                  <a:lnTo>
                    <a:pt x="1044" y="0"/>
                  </a:lnTo>
                  <a:lnTo>
                    <a:pt x="1523" y="0"/>
                  </a:lnTo>
                  <a:lnTo>
                    <a:pt x="978" y="1093"/>
                  </a:lnTo>
                  <a:lnTo>
                    <a:pt x="978" y="1879"/>
                  </a:lnTo>
                  <a:lnTo>
                    <a:pt x="545" y="1879"/>
                  </a:lnTo>
                  <a:lnTo>
                    <a:pt x="545" y="1093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65320" y="620640"/>
              <a:ext cx="534960" cy="676440"/>
            </a:xfrm>
            <a:custGeom>
              <a:avLst/>
              <a:gdLst/>
              <a:ahLst/>
              <a:rect l="l" t="t" r="r" b="b"/>
              <a:pathLst>
                <a:path w="1486" h="1880">
                  <a:moveTo>
                    <a:pt x="0" y="0"/>
                  </a:moveTo>
                  <a:lnTo>
                    <a:pt x="432" y="0"/>
                  </a:lnTo>
                  <a:lnTo>
                    <a:pt x="432" y="709"/>
                  </a:lnTo>
                  <a:lnTo>
                    <a:pt x="887" y="0"/>
                  </a:lnTo>
                  <a:lnTo>
                    <a:pt x="1462" y="0"/>
                  </a:lnTo>
                  <a:lnTo>
                    <a:pt x="948" y="705"/>
                  </a:lnTo>
                  <a:lnTo>
                    <a:pt x="1485" y="1879"/>
                  </a:lnTo>
                  <a:lnTo>
                    <a:pt x="951" y="1879"/>
                  </a:lnTo>
                  <a:lnTo>
                    <a:pt x="656" y="1108"/>
                  </a:lnTo>
                  <a:lnTo>
                    <a:pt x="432" y="1422"/>
                  </a:lnTo>
                  <a:lnTo>
                    <a:pt x="432" y="1879"/>
                  </a:lnTo>
                  <a:lnTo>
                    <a:pt x="0" y="1879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52840" y="620640"/>
              <a:ext cx="495000" cy="676440"/>
            </a:xfrm>
            <a:custGeom>
              <a:avLst/>
              <a:gdLst/>
              <a:ahLst/>
              <a:rect l="l" t="t" r="r" b="b"/>
              <a:pathLst>
                <a:path w="1374" h="1880">
                  <a:moveTo>
                    <a:pt x="432" y="759"/>
                  </a:moveTo>
                  <a:lnTo>
                    <a:pt x="614" y="759"/>
                  </a:lnTo>
                  <a:lnTo>
                    <a:pt x="632" y="755"/>
                  </a:lnTo>
                  <a:lnTo>
                    <a:pt x="659" y="751"/>
                  </a:lnTo>
                  <a:lnTo>
                    <a:pt x="688" y="743"/>
                  </a:lnTo>
                  <a:lnTo>
                    <a:pt x="729" y="736"/>
                  </a:lnTo>
                  <a:lnTo>
                    <a:pt x="748" y="724"/>
                  </a:lnTo>
                  <a:lnTo>
                    <a:pt x="767" y="712"/>
                  </a:lnTo>
                  <a:lnTo>
                    <a:pt x="783" y="694"/>
                  </a:lnTo>
                  <a:lnTo>
                    <a:pt x="799" y="675"/>
                  </a:lnTo>
                  <a:lnTo>
                    <a:pt x="811" y="647"/>
                  </a:lnTo>
                  <a:lnTo>
                    <a:pt x="820" y="624"/>
                  </a:lnTo>
                  <a:lnTo>
                    <a:pt x="824" y="593"/>
                  </a:lnTo>
                  <a:lnTo>
                    <a:pt x="827" y="566"/>
                  </a:lnTo>
                  <a:lnTo>
                    <a:pt x="822" y="519"/>
                  </a:lnTo>
                  <a:lnTo>
                    <a:pt x="815" y="484"/>
                  </a:lnTo>
                  <a:lnTo>
                    <a:pt x="801" y="453"/>
                  </a:lnTo>
                  <a:lnTo>
                    <a:pt x="785" y="422"/>
                  </a:lnTo>
                  <a:lnTo>
                    <a:pt x="758" y="403"/>
                  </a:lnTo>
                  <a:lnTo>
                    <a:pt x="720" y="387"/>
                  </a:lnTo>
                  <a:lnTo>
                    <a:pt x="677" y="376"/>
                  </a:lnTo>
                  <a:lnTo>
                    <a:pt x="621" y="376"/>
                  </a:lnTo>
                  <a:lnTo>
                    <a:pt x="432" y="376"/>
                  </a:lnTo>
                  <a:lnTo>
                    <a:pt x="432" y="759"/>
                  </a:lnTo>
                  <a:lnTo>
                    <a:pt x="432" y="759"/>
                  </a:lnTo>
                  <a:close/>
                  <a:moveTo>
                    <a:pt x="0" y="1879"/>
                  </a:moveTo>
                  <a:lnTo>
                    <a:pt x="0" y="0"/>
                  </a:lnTo>
                  <a:lnTo>
                    <a:pt x="718" y="0"/>
                  </a:lnTo>
                  <a:lnTo>
                    <a:pt x="811" y="0"/>
                  </a:lnTo>
                  <a:lnTo>
                    <a:pt x="894" y="8"/>
                  </a:lnTo>
                  <a:lnTo>
                    <a:pt x="965" y="23"/>
                  </a:lnTo>
                  <a:lnTo>
                    <a:pt x="1025" y="47"/>
                  </a:lnTo>
                  <a:lnTo>
                    <a:pt x="1073" y="74"/>
                  </a:lnTo>
                  <a:lnTo>
                    <a:pt x="1120" y="109"/>
                  </a:lnTo>
                  <a:lnTo>
                    <a:pt x="1159" y="155"/>
                  </a:lnTo>
                  <a:lnTo>
                    <a:pt x="1194" y="216"/>
                  </a:lnTo>
                  <a:lnTo>
                    <a:pt x="1223" y="279"/>
                  </a:lnTo>
                  <a:lnTo>
                    <a:pt x="1243" y="352"/>
                  </a:lnTo>
                  <a:lnTo>
                    <a:pt x="1255" y="434"/>
                  </a:lnTo>
                  <a:lnTo>
                    <a:pt x="1259" y="519"/>
                  </a:lnTo>
                  <a:lnTo>
                    <a:pt x="1255" y="593"/>
                  </a:lnTo>
                  <a:lnTo>
                    <a:pt x="1246" y="667"/>
                  </a:lnTo>
                  <a:lnTo>
                    <a:pt x="1232" y="732"/>
                  </a:lnTo>
                  <a:lnTo>
                    <a:pt x="1211" y="790"/>
                  </a:lnTo>
                  <a:lnTo>
                    <a:pt x="1182" y="844"/>
                  </a:lnTo>
                  <a:lnTo>
                    <a:pt x="1150" y="891"/>
                  </a:lnTo>
                  <a:lnTo>
                    <a:pt x="1113" y="934"/>
                  </a:lnTo>
                  <a:lnTo>
                    <a:pt x="1073" y="972"/>
                  </a:lnTo>
                  <a:lnTo>
                    <a:pt x="1041" y="996"/>
                  </a:lnTo>
                  <a:lnTo>
                    <a:pt x="1007" y="1015"/>
                  </a:lnTo>
                  <a:lnTo>
                    <a:pt x="965" y="1031"/>
                  </a:lnTo>
                  <a:lnTo>
                    <a:pt x="921" y="1050"/>
                  </a:lnTo>
                  <a:lnTo>
                    <a:pt x="956" y="1066"/>
                  </a:lnTo>
                  <a:lnTo>
                    <a:pt x="986" y="1081"/>
                  </a:lnTo>
                  <a:lnTo>
                    <a:pt x="1012" y="1101"/>
                  </a:lnTo>
                  <a:lnTo>
                    <a:pt x="1034" y="1120"/>
                  </a:lnTo>
                  <a:lnTo>
                    <a:pt x="1046" y="1132"/>
                  </a:lnTo>
                  <a:lnTo>
                    <a:pt x="1062" y="1155"/>
                  </a:lnTo>
                  <a:lnTo>
                    <a:pt x="1080" y="1182"/>
                  </a:lnTo>
                  <a:lnTo>
                    <a:pt x="1104" y="1216"/>
                  </a:lnTo>
                  <a:lnTo>
                    <a:pt x="1122" y="1251"/>
                  </a:lnTo>
                  <a:lnTo>
                    <a:pt x="1141" y="1282"/>
                  </a:lnTo>
                  <a:lnTo>
                    <a:pt x="1152" y="1313"/>
                  </a:lnTo>
                  <a:lnTo>
                    <a:pt x="1163" y="1336"/>
                  </a:lnTo>
                  <a:lnTo>
                    <a:pt x="1373" y="1879"/>
                  </a:lnTo>
                  <a:lnTo>
                    <a:pt x="885" y="1879"/>
                  </a:lnTo>
                  <a:lnTo>
                    <a:pt x="654" y="1305"/>
                  </a:lnTo>
                  <a:lnTo>
                    <a:pt x="630" y="1251"/>
                  </a:lnTo>
                  <a:lnTo>
                    <a:pt x="610" y="1212"/>
                  </a:lnTo>
                  <a:lnTo>
                    <a:pt x="591" y="1178"/>
                  </a:lnTo>
                  <a:lnTo>
                    <a:pt x="575" y="1159"/>
                  </a:lnTo>
                  <a:lnTo>
                    <a:pt x="550" y="1143"/>
                  </a:lnTo>
                  <a:lnTo>
                    <a:pt x="526" y="1128"/>
                  </a:lnTo>
                  <a:lnTo>
                    <a:pt x="499" y="1116"/>
                  </a:lnTo>
                  <a:lnTo>
                    <a:pt x="471" y="1116"/>
                  </a:lnTo>
                  <a:lnTo>
                    <a:pt x="432" y="1116"/>
                  </a:lnTo>
                  <a:lnTo>
                    <a:pt x="432" y="1879"/>
                  </a:lnTo>
                  <a:lnTo>
                    <a:pt x="0" y="1879"/>
                  </a:lnTo>
                  <a:lnTo>
                    <a:pt x="0" y="1879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98960" y="620640"/>
              <a:ext cx="425160" cy="676440"/>
            </a:xfrm>
            <a:custGeom>
              <a:avLst/>
              <a:gdLst/>
              <a:ahLst/>
              <a:rect l="l" t="t" r="r" b="b"/>
              <a:pathLst>
                <a:path w="1181" h="1880">
                  <a:moveTo>
                    <a:pt x="0" y="0"/>
                  </a:moveTo>
                  <a:lnTo>
                    <a:pt x="1160" y="0"/>
                  </a:lnTo>
                  <a:lnTo>
                    <a:pt x="1160" y="399"/>
                  </a:lnTo>
                  <a:lnTo>
                    <a:pt x="435" y="399"/>
                  </a:lnTo>
                  <a:lnTo>
                    <a:pt x="435" y="697"/>
                  </a:lnTo>
                  <a:lnTo>
                    <a:pt x="1106" y="697"/>
                  </a:lnTo>
                  <a:lnTo>
                    <a:pt x="1106" y="1081"/>
                  </a:lnTo>
                  <a:lnTo>
                    <a:pt x="435" y="1081"/>
                  </a:lnTo>
                  <a:lnTo>
                    <a:pt x="435" y="1457"/>
                  </a:lnTo>
                  <a:lnTo>
                    <a:pt x="1180" y="1457"/>
                  </a:lnTo>
                  <a:lnTo>
                    <a:pt x="1180" y="1879"/>
                  </a:lnTo>
                  <a:lnTo>
                    <a:pt x="0" y="1879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78120" y="609480"/>
              <a:ext cx="459000" cy="698760"/>
            </a:xfrm>
            <a:custGeom>
              <a:avLst/>
              <a:gdLst/>
              <a:ahLst/>
              <a:rect l="l" t="t" r="r" b="b"/>
              <a:pathLst>
                <a:path w="1274" h="1942">
                  <a:moveTo>
                    <a:pt x="0" y="1286"/>
                  </a:moveTo>
                  <a:lnTo>
                    <a:pt x="411" y="1251"/>
                  </a:lnTo>
                  <a:lnTo>
                    <a:pt x="418" y="1313"/>
                  </a:lnTo>
                  <a:lnTo>
                    <a:pt x="433" y="1371"/>
                  </a:lnTo>
                  <a:lnTo>
                    <a:pt x="447" y="1418"/>
                  </a:lnTo>
                  <a:lnTo>
                    <a:pt x="468" y="1457"/>
                  </a:lnTo>
                  <a:lnTo>
                    <a:pt x="502" y="1507"/>
                  </a:lnTo>
                  <a:lnTo>
                    <a:pt x="548" y="1542"/>
                  </a:lnTo>
                  <a:lnTo>
                    <a:pt x="599" y="1565"/>
                  </a:lnTo>
                  <a:lnTo>
                    <a:pt x="659" y="1573"/>
                  </a:lnTo>
                  <a:lnTo>
                    <a:pt x="700" y="1565"/>
                  </a:lnTo>
                  <a:lnTo>
                    <a:pt x="739" y="1558"/>
                  </a:lnTo>
                  <a:lnTo>
                    <a:pt x="771" y="1538"/>
                  </a:lnTo>
                  <a:lnTo>
                    <a:pt x="802" y="1515"/>
                  </a:lnTo>
                  <a:lnTo>
                    <a:pt x="822" y="1484"/>
                  </a:lnTo>
                  <a:lnTo>
                    <a:pt x="838" y="1449"/>
                  </a:lnTo>
                  <a:lnTo>
                    <a:pt x="847" y="1414"/>
                  </a:lnTo>
                  <a:lnTo>
                    <a:pt x="853" y="1379"/>
                  </a:lnTo>
                  <a:lnTo>
                    <a:pt x="847" y="1344"/>
                  </a:lnTo>
                  <a:lnTo>
                    <a:pt x="838" y="1309"/>
                  </a:lnTo>
                  <a:lnTo>
                    <a:pt x="824" y="1278"/>
                  </a:lnTo>
                  <a:lnTo>
                    <a:pt x="804" y="1251"/>
                  </a:lnTo>
                  <a:lnTo>
                    <a:pt x="771" y="1220"/>
                  </a:lnTo>
                  <a:lnTo>
                    <a:pt x="723" y="1190"/>
                  </a:lnTo>
                  <a:lnTo>
                    <a:pt x="661" y="1167"/>
                  </a:lnTo>
                  <a:lnTo>
                    <a:pt x="583" y="1143"/>
                  </a:lnTo>
                  <a:lnTo>
                    <a:pt x="450" y="1093"/>
                  </a:lnTo>
                  <a:lnTo>
                    <a:pt x="338" y="1038"/>
                  </a:lnTo>
                  <a:lnTo>
                    <a:pt x="245" y="976"/>
                  </a:lnTo>
                  <a:lnTo>
                    <a:pt x="176" y="910"/>
                  </a:lnTo>
                  <a:lnTo>
                    <a:pt x="121" y="833"/>
                  </a:lnTo>
                  <a:lnTo>
                    <a:pt x="83" y="747"/>
                  </a:lnTo>
                  <a:lnTo>
                    <a:pt x="60" y="651"/>
                  </a:lnTo>
                  <a:lnTo>
                    <a:pt x="54" y="546"/>
                  </a:lnTo>
                  <a:lnTo>
                    <a:pt x="56" y="477"/>
                  </a:lnTo>
                  <a:lnTo>
                    <a:pt x="67" y="407"/>
                  </a:lnTo>
                  <a:lnTo>
                    <a:pt x="88" y="341"/>
                  </a:lnTo>
                  <a:lnTo>
                    <a:pt x="116" y="275"/>
                  </a:lnTo>
                  <a:lnTo>
                    <a:pt x="151" y="214"/>
                  </a:lnTo>
                  <a:lnTo>
                    <a:pt x="192" y="155"/>
                  </a:lnTo>
                  <a:lnTo>
                    <a:pt x="245" y="109"/>
                  </a:lnTo>
                  <a:lnTo>
                    <a:pt x="305" y="70"/>
                  </a:lnTo>
                  <a:lnTo>
                    <a:pt x="372" y="39"/>
                  </a:lnTo>
                  <a:lnTo>
                    <a:pt x="454" y="16"/>
                  </a:lnTo>
                  <a:lnTo>
                    <a:pt x="546" y="0"/>
                  </a:lnTo>
                  <a:lnTo>
                    <a:pt x="650" y="0"/>
                  </a:lnTo>
                  <a:lnTo>
                    <a:pt x="773" y="4"/>
                  </a:lnTo>
                  <a:lnTo>
                    <a:pt x="885" y="31"/>
                  </a:lnTo>
                  <a:lnTo>
                    <a:pt x="977" y="74"/>
                  </a:lnTo>
                  <a:lnTo>
                    <a:pt x="1058" y="132"/>
                  </a:lnTo>
                  <a:lnTo>
                    <a:pt x="1121" y="206"/>
                  </a:lnTo>
                  <a:lnTo>
                    <a:pt x="1169" y="306"/>
                  </a:lnTo>
                  <a:lnTo>
                    <a:pt x="1203" y="422"/>
                  </a:lnTo>
                  <a:lnTo>
                    <a:pt x="1227" y="562"/>
                  </a:lnTo>
                  <a:lnTo>
                    <a:pt x="818" y="593"/>
                  </a:lnTo>
                  <a:lnTo>
                    <a:pt x="806" y="531"/>
                  </a:lnTo>
                  <a:lnTo>
                    <a:pt x="792" y="480"/>
                  </a:lnTo>
                  <a:lnTo>
                    <a:pt x="773" y="438"/>
                  </a:lnTo>
                  <a:lnTo>
                    <a:pt x="750" y="407"/>
                  </a:lnTo>
                  <a:lnTo>
                    <a:pt x="721" y="379"/>
                  </a:lnTo>
                  <a:lnTo>
                    <a:pt x="688" y="360"/>
                  </a:lnTo>
                  <a:lnTo>
                    <a:pt x="650" y="352"/>
                  </a:lnTo>
                  <a:lnTo>
                    <a:pt x="606" y="348"/>
                  </a:lnTo>
                  <a:lnTo>
                    <a:pt x="570" y="348"/>
                  </a:lnTo>
                  <a:lnTo>
                    <a:pt x="539" y="360"/>
                  </a:lnTo>
                  <a:lnTo>
                    <a:pt x="514" y="376"/>
                  </a:lnTo>
                  <a:lnTo>
                    <a:pt x="493" y="391"/>
                  </a:lnTo>
                  <a:lnTo>
                    <a:pt x="475" y="414"/>
                  </a:lnTo>
                  <a:lnTo>
                    <a:pt x="463" y="438"/>
                  </a:lnTo>
                  <a:lnTo>
                    <a:pt x="456" y="465"/>
                  </a:lnTo>
                  <a:lnTo>
                    <a:pt x="454" y="496"/>
                  </a:lnTo>
                  <a:lnTo>
                    <a:pt x="454" y="515"/>
                  </a:lnTo>
                  <a:lnTo>
                    <a:pt x="461" y="539"/>
                  </a:lnTo>
                  <a:lnTo>
                    <a:pt x="473" y="558"/>
                  </a:lnTo>
                  <a:lnTo>
                    <a:pt x="486" y="577"/>
                  </a:lnTo>
                  <a:lnTo>
                    <a:pt x="507" y="593"/>
                  </a:lnTo>
                  <a:lnTo>
                    <a:pt x="537" y="609"/>
                  </a:lnTo>
                  <a:lnTo>
                    <a:pt x="579" y="628"/>
                  </a:lnTo>
                  <a:lnTo>
                    <a:pt x="631" y="647"/>
                  </a:lnTo>
                  <a:lnTo>
                    <a:pt x="762" y="686"/>
                  </a:lnTo>
                  <a:lnTo>
                    <a:pt x="873" y="728"/>
                  </a:lnTo>
                  <a:lnTo>
                    <a:pt x="966" y="767"/>
                  </a:lnTo>
                  <a:lnTo>
                    <a:pt x="1040" y="813"/>
                  </a:lnTo>
                  <a:lnTo>
                    <a:pt x="1095" y="856"/>
                  </a:lnTo>
                  <a:lnTo>
                    <a:pt x="1144" y="906"/>
                  </a:lnTo>
                  <a:lnTo>
                    <a:pt x="1185" y="957"/>
                  </a:lnTo>
                  <a:lnTo>
                    <a:pt x="1217" y="1019"/>
                  </a:lnTo>
                  <a:lnTo>
                    <a:pt x="1241" y="1081"/>
                  </a:lnTo>
                  <a:lnTo>
                    <a:pt x="1259" y="1151"/>
                  </a:lnTo>
                  <a:lnTo>
                    <a:pt x="1269" y="1220"/>
                  </a:lnTo>
                  <a:lnTo>
                    <a:pt x="1273" y="1298"/>
                  </a:lnTo>
                  <a:lnTo>
                    <a:pt x="1266" y="1387"/>
                  </a:lnTo>
                  <a:lnTo>
                    <a:pt x="1253" y="1472"/>
                  </a:lnTo>
                  <a:lnTo>
                    <a:pt x="1230" y="1550"/>
                  </a:lnTo>
                  <a:lnTo>
                    <a:pt x="1199" y="1631"/>
                  </a:lnTo>
                  <a:lnTo>
                    <a:pt x="1155" y="1704"/>
                  </a:lnTo>
                  <a:lnTo>
                    <a:pt x="1106" y="1766"/>
                  </a:lnTo>
                  <a:lnTo>
                    <a:pt x="1052" y="1817"/>
                  </a:lnTo>
                  <a:lnTo>
                    <a:pt x="989" y="1863"/>
                  </a:lnTo>
                  <a:lnTo>
                    <a:pt x="918" y="1894"/>
                  </a:lnTo>
                  <a:lnTo>
                    <a:pt x="836" y="1918"/>
                  </a:lnTo>
                  <a:lnTo>
                    <a:pt x="748" y="1933"/>
                  </a:lnTo>
                  <a:lnTo>
                    <a:pt x="652" y="1941"/>
                  </a:lnTo>
                  <a:lnTo>
                    <a:pt x="486" y="1925"/>
                  </a:lnTo>
                  <a:lnTo>
                    <a:pt x="349" y="1894"/>
                  </a:lnTo>
                  <a:lnTo>
                    <a:pt x="239" y="1836"/>
                  </a:lnTo>
                  <a:lnTo>
                    <a:pt x="157" y="1755"/>
                  </a:lnTo>
                  <a:lnTo>
                    <a:pt x="95" y="1659"/>
                  </a:lnTo>
                  <a:lnTo>
                    <a:pt x="47" y="1546"/>
                  </a:lnTo>
                  <a:lnTo>
                    <a:pt x="17" y="1422"/>
                  </a:lnTo>
                  <a:lnTo>
                    <a:pt x="0" y="1286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1" name=""/>
          <p:cNvGraphicFramePr/>
          <p:nvPr/>
        </p:nvGraphicFramePr>
        <p:xfrm>
          <a:off x="1676520" y="1717560"/>
          <a:ext cx="6453000" cy="342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17560"/>
                    <a:ext cx="64530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38080" y="5486400"/>
            <a:ext cx="7391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Dane na wykresie nie zawsze są czytelne. Te wykresy najlepiej służą do ilustrowania tendencji wzrostowych          i spadkowych dla zbiorów da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001000" y="5943600"/>
            <a:ext cx="762120" cy="684360"/>
            <a:chOff x="8001000" y="5943600"/>
            <a:chExt cx="762120" cy="684360"/>
          </a:xfrm>
        </p:grpSpPr>
        <p:sp>
          <p:nvSpPr>
            <p:cNvPr id="185" name=""/>
            <p:cNvSpPr/>
            <p:nvPr/>
          </p:nvSpPr>
          <p:spPr>
            <a:xfrm>
              <a:off x="8001000" y="5943600"/>
              <a:ext cx="762120" cy="684360"/>
            </a:xfrm>
            <a:custGeom>
              <a:avLst/>
              <a:gdLst/>
              <a:ahLst/>
              <a:rect l="l" t="t" r="r" b="b"/>
              <a:pathLst>
                <a:path w="2118" h="1902">
                  <a:moveTo>
                    <a:pt x="0" y="0"/>
                  </a:moveTo>
                  <a:lnTo>
                    <a:pt x="2117" y="0"/>
                  </a:lnTo>
                  <a:lnTo>
                    <a:pt x="2117" y="1901"/>
                  </a:lnTo>
                  <a:lnTo>
                    <a:pt x="0" y="1901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01000" y="5943600"/>
              <a:ext cx="762120" cy="4428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0" y="0"/>
                  </a:moveTo>
                  <a:lnTo>
                    <a:pt x="2117" y="0"/>
                  </a:lnTo>
                  <a:lnTo>
                    <a:pt x="1993" y="123"/>
                  </a:lnTo>
                  <a:lnTo>
                    <a:pt x="123" y="123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1704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5" h="1902">
                  <a:moveTo>
                    <a:pt x="124" y="0"/>
                  </a:moveTo>
                  <a:lnTo>
                    <a:pt x="124" y="1901"/>
                  </a:lnTo>
                  <a:lnTo>
                    <a:pt x="0" y="1777"/>
                  </a:lnTo>
                  <a:lnTo>
                    <a:pt x="0" y="122"/>
                  </a:lnTo>
                  <a:lnTo>
                    <a:pt x="124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01000" y="6583320"/>
              <a:ext cx="762120" cy="4464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2117" y="123"/>
                  </a:moveTo>
                  <a:lnTo>
                    <a:pt x="0" y="123"/>
                  </a:lnTo>
                  <a:lnTo>
                    <a:pt x="123" y="0"/>
                  </a:lnTo>
                  <a:lnTo>
                    <a:pt x="1993" y="0"/>
                  </a:lnTo>
                  <a:lnTo>
                    <a:pt x="2117" y="123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0100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0" y="1901"/>
                  </a:moveTo>
                  <a:lnTo>
                    <a:pt x="0" y="0"/>
                  </a:lnTo>
                  <a:lnTo>
                    <a:pt x="123" y="122"/>
                  </a:lnTo>
                  <a:lnTo>
                    <a:pt x="123" y="1777"/>
                  </a:lnTo>
                  <a:lnTo>
                    <a:pt x="0" y="1901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59760" y="6064200"/>
              <a:ext cx="446040" cy="446040"/>
            </a:xfrm>
            <a:custGeom>
              <a:avLst/>
              <a:gdLst/>
              <a:ahLst/>
              <a:rect l="l" t="t" r="r" b="b"/>
              <a:pathLst>
                <a:path w="1238" h="1237">
                  <a:moveTo>
                    <a:pt x="0" y="0"/>
                  </a:moveTo>
                  <a:lnTo>
                    <a:pt x="1237" y="619"/>
                  </a:lnTo>
                  <a:lnTo>
                    <a:pt x="0" y="1236"/>
                  </a:lnTo>
                  <a:lnTo>
                    <a:pt x="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04920" y="609480"/>
            <a:ext cx="7923240" cy="698760"/>
            <a:chOff x="304920" y="609480"/>
            <a:chExt cx="7923240" cy="698760"/>
          </a:xfrm>
        </p:grpSpPr>
        <p:sp>
          <p:nvSpPr>
            <p:cNvPr id="192" name=""/>
            <p:cNvSpPr/>
            <p:nvPr/>
          </p:nvSpPr>
          <p:spPr>
            <a:xfrm>
              <a:off x="304920" y="620640"/>
              <a:ext cx="498240" cy="676440"/>
            </a:xfrm>
            <a:custGeom>
              <a:avLst/>
              <a:gdLst/>
              <a:ahLst/>
              <a:rect l="l" t="t" r="r" b="b"/>
              <a:pathLst>
                <a:path w="1384" h="1880">
                  <a:moveTo>
                    <a:pt x="463" y="422"/>
                  </a:moveTo>
                  <a:lnTo>
                    <a:pt x="463" y="1453"/>
                  </a:lnTo>
                  <a:lnTo>
                    <a:pt x="577" y="1453"/>
                  </a:lnTo>
                  <a:lnTo>
                    <a:pt x="644" y="1449"/>
                  </a:lnTo>
                  <a:lnTo>
                    <a:pt x="701" y="1441"/>
                  </a:lnTo>
                  <a:lnTo>
                    <a:pt x="749" y="1426"/>
                  </a:lnTo>
                  <a:lnTo>
                    <a:pt x="786" y="1410"/>
                  </a:lnTo>
                  <a:lnTo>
                    <a:pt x="815" y="1387"/>
                  </a:lnTo>
                  <a:lnTo>
                    <a:pt x="840" y="1352"/>
                  </a:lnTo>
                  <a:lnTo>
                    <a:pt x="863" y="1313"/>
                  </a:lnTo>
                  <a:lnTo>
                    <a:pt x="882" y="1267"/>
                  </a:lnTo>
                  <a:lnTo>
                    <a:pt x="895" y="1208"/>
                  </a:lnTo>
                  <a:lnTo>
                    <a:pt x="907" y="1139"/>
                  </a:lnTo>
                  <a:lnTo>
                    <a:pt x="914" y="1050"/>
                  </a:lnTo>
                  <a:lnTo>
                    <a:pt x="917" y="941"/>
                  </a:lnTo>
                  <a:lnTo>
                    <a:pt x="912" y="802"/>
                  </a:lnTo>
                  <a:lnTo>
                    <a:pt x="897" y="690"/>
                  </a:lnTo>
                  <a:lnTo>
                    <a:pt x="872" y="597"/>
                  </a:lnTo>
                  <a:lnTo>
                    <a:pt x="840" y="531"/>
                  </a:lnTo>
                  <a:lnTo>
                    <a:pt x="793" y="484"/>
                  </a:lnTo>
                  <a:lnTo>
                    <a:pt x="735" y="449"/>
                  </a:lnTo>
                  <a:lnTo>
                    <a:pt x="664" y="430"/>
                  </a:lnTo>
                  <a:lnTo>
                    <a:pt x="580" y="422"/>
                  </a:lnTo>
                  <a:lnTo>
                    <a:pt x="463" y="422"/>
                  </a:lnTo>
                  <a:lnTo>
                    <a:pt x="463" y="422"/>
                  </a:lnTo>
                  <a:close/>
                  <a:moveTo>
                    <a:pt x="0" y="0"/>
                  </a:moveTo>
                  <a:lnTo>
                    <a:pt x="689" y="0"/>
                  </a:lnTo>
                  <a:lnTo>
                    <a:pt x="786" y="0"/>
                  </a:lnTo>
                  <a:lnTo>
                    <a:pt x="872" y="16"/>
                  </a:lnTo>
                  <a:lnTo>
                    <a:pt x="952" y="35"/>
                  </a:lnTo>
                  <a:lnTo>
                    <a:pt x="1021" y="66"/>
                  </a:lnTo>
                  <a:lnTo>
                    <a:pt x="1078" y="105"/>
                  </a:lnTo>
                  <a:lnTo>
                    <a:pt x="1132" y="151"/>
                  </a:lnTo>
                  <a:lnTo>
                    <a:pt x="1182" y="202"/>
                  </a:lnTo>
                  <a:lnTo>
                    <a:pt x="1226" y="263"/>
                  </a:lnTo>
                  <a:lnTo>
                    <a:pt x="1264" y="329"/>
                  </a:lnTo>
                  <a:lnTo>
                    <a:pt x="1296" y="407"/>
                  </a:lnTo>
                  <a:lnTo>
                    <a:pt x="1323" y="484"/>
                  </a:lnTo>
                  <a:lnTo>
                    <a:pt x="1346" y="566"/>
                  </a:lnTo>
                  <a:lnTo>
                    <a:pt x="1361" y="655"/>
                  </a:lnTo>
                  <a:lnTo>
                    <a:pt x="1373" y="743"/>
                  </a:lnTo>
                  <a:lnTo>
                    <a:pt x="1381" y="837"/>
                  </a:lnTo>
                  <a:lnTo>
                    <a:pt x="1383" y="934"/>
                  </a:lnTo>
                  <a:lnTo>
                    <a:pt x="1378" y="1073"/>
                  </a:lnTo>
                  <a:lnTo>
                    <a:pt x="1368" y="1201"/>
                  </a:lnTo>
                  <a:lnTo>
                    <a:pt x="1351" y="1305"/>
                  </a:lnTo>
                  <a:lnTo>
                    <a:pt x="1328" y="1399"/>
                  </a:lnTo>
                  <a:lnTo>
                    <a:pt x="1296" y="1476"/>
                  </a:lnTo>
                  <a:lnTo>
                    <a:pt x="1262" y="1550"/>
                  </a:lnTo>
                  <a:lnTo>
                    <a:pt x="1222" y="1616"/>
                  </a:lnTo>
                  <a:lnTo>
                    <a:pt x="1177" y="1677"/>
                  </a:lnTo>
                  <a:lnTo>
                    <a:pt x="1125" y="1728"/>
                  </a:lnTo>
                  <a:lnTo>
                    <a:pt x="1073" y="1770"/>
                  </a:lnTo>
                  <a:lnTo>
                    <a:pt x="1021" y="1801"/>
                  </a:lnTo>
                  <a:lnTo>
                    <a:pt x="967" y="1828"/>
                  </a:lnTo>
                  <a:lnTo>
                    <a:pt x="890" y="1848"/>
                  </a:lnTo>
                  <a:lnTo>
                    <a:pt x="820" y="1863"/>
                  </a:lnTo>
                  <a:lnTo>
                    <a:pt x="751" y="1875"/>
                  </a:lnTo>
                  <a:lnTo>
                    <a:pt x="689" y="1879"/>
                  </a:lnTo>
                  <a:lnTo>
                    <a:pt x="0" y="18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96760" y="620640"/>
              <a:ext cx="168480" cy="676440"/>
            </a:xfrm>
            <a:custGeom>
              <a:avLst/>
              <a:gdLst/>
              <a:ahLst/>
              <a:rect l="l" t="t" r="r" b="b"/>
              <a:pathLst>
                <a:path w="468" h="1880">
                  <a:moveTo>
                    <a:pt x="0" y="0"/>
                  </a:moveTo>
                  <a:lnTo>
                    <a:pt x="467" y="0"/>
                  </a:lnTo>
                  <a:lnTo>
                    <a:pt x="467" y="1879"/>
                  </a:lnTo>
                  <a:lnTo>
                    <a:pt x="0" y="1879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30400" y="620640"/>
              <a:ext cx="588960" cy="676440"/>
            </a:xfrm>
            <a:custGeom>
              <a:avLst/>
              <a:gdLst/>
              <a:ahLst/>
              <a:rect l="l" t="t" r="r" b="b"/>
              <a:pathLst>
                <a:path w="1636" h="1880">
                  <a:moveTo>
                    <a:pt x="976" y="1163"/>
                  </a:moveTo>
                  <a:lnTo>
                    <a:pt x="812" y="484"/>
                  </a:lnTo>
                  <a:lnTo>
                    <a:pt x="646" y="1163"/>
                  </a:lnTo>
                  <a:lnTo>
                    <a:pt x="976" y="1163"/>
                  </a:lnTo>
                  <a:lnTo>
                    <a:pt x="976" y="1163"/>
                  </a:lnTo>
                  <a:close/>
                  <a:moveTo>
                    <a:pt x="1073" y="1569"/>
                  </a:moveTo>
                  <a:lnTo>
                    <a:pt x="550" y="1569"/>
                  </a:lnTo>
                  <a:lnTo>
                    <a:pt x="473" y="1879"/>
                  </a:lnTo>
                  <a:lnTo>
                    <a:pt x="0" y="1879"/>
                  </a:lnTo>
                  <a:lnTo>
                    <a:pt x="562" y="0"/>
                  </a:lnTo>
                  <a:lnTo>
                    <a:pt x="1070" y="0"/>
                  </a:lnTo>
                  <a:lnTo>
                    <a:pt x="1635" y="1879"/>
                  </a:lnTo>
                  <a:lnTo>
                    <a:pt x="1150" y="1879"/>
                  </a:lnTo>
                  <a:lnTo>
                    <a:pt x="1073" y="1569"/>
                  </a:lnTo>
                  <a:lnTo>
                    <a:pt x="1073" y="1569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52480" y="609480"/>
              <a:ext cx="552600" cy="698760"/>
            </a:xfrm>
            <a:custGeom>
              <a:avLst/>
              <a:gdLst/>
              <a:ahLst/>
              <a:rect l="l" t="t" r="r" b="b"/>
              <a:pathLst>
                <a:path w="1535" h="1942">
                  <a:moveTo>
                    <a:pt x="816" y="1232"/>
                  </a:moveTo>
                  <a:lnTo>
                    <a:pt x="816" y="840"/>
                  </a:lnTo>
                  <a:lnTo>
                    <a:pt x="1534" y="840"/>
                  </a:lnTo>
                  <a:lnTo>
                    <a:pt x="1534" y="1639"/>
                  </a:lnTo>
                  <a:lnTo>
                    <a:pt x="1433" y="1720"/>
                  </a:lnTo>
                  <a:lnTo>
                    <a:pt x="1341" y="1782"/>
                  </a:lnTo>
                  <a:lnTo>
                    <a:pt x="1251" y="1836"/>
                  </a:lnTo>
                  <a:lnTo>
                    <a:pt x="1169" y="1879"/>
                  </a:lnTo>
                  <a:lnTo>
                    <a:pt x="1085" y="1902"/>
                  </a:lnTo>
                  <a:lnTo>
                    <a:pt x="996" y="1925"/>
                  </a:lnTo>
                  <a:lnTo>
                    <a:pt x="896" y="1937"/>
                  </a:lnTo>
                  <a:lnTo>
                    <a:pt x="792" y="1941"/>
                  </a:lnTo>
                  <a:lnTo>
                    <a:pt x="663" y="1933"/>
                  </a:lnTo>
                  <a:lnTo>
                    <a:pt x="546" y="1910"/>
                  </a:lnTo>
                  <a:lnTo>
                    <a:pt x="445" y="1879"/>
                  </a:lnTo>
                  <a:lnTo>
                    <a:pt x="355" y="1828"/>
                  </a:lnTo>
                  <a:lnTo>
                    <a:pt x="276" y="1762"/>
                  </a:lnTo>
                  <a:lnTo>
                    <a:pt x="206" y="1686"/>
                  </a:lnTo>
                  <a:lnTo>
                    <a:pt x="145" y="1593"/>
                  </a:lnTo>
                  <a:lnTo>
                    <a:pt x="95" y="1488"/>
                  </a:lnTo>
                  <a:lnTo>
                    <a:pt x="53" y="1367"/>
                  </a:lnTo>
                  <a:lnTo>
                    <a:pt x="24" y="1243"/>
                  </a:lnTo>
                  <a:lnTo>
                    <a:pt x="5" y="1112"/>
                  </a:lnTo>
                  <a:lnTo>
                    <a:pt x="0" y="969"/>
                  </a:lnTo>
                  <a:lnTo>
                    <a:pt x="5" y="821"/>
                  </a:lnTo>
                  <a:lnTo>
                    <a:pt x="26" y="682"/>
                  </a:lnTo>
                  <a:lnTo>
                    <a:pt x="58" y="550"/>
                  </a:lnTo>
                  <a:lnTo>
                    <a:pt x="102" y="434"/>
                  </a:lnTo>
                  <a:lnTo>
                    <a:pt x="157" y="325"/>
                  </a:lnTo>
                  <a:lnTo>
                    <a:pt x="227" y="233"/>
                  </a:lnTo>
                  <a:lnTo>
                    <a:pt x="305" y="155"/>
                  </a:lnTo>
                  <a:lnTo>
                    <a:pt x="400" y="89"/>
                  </a:lnTo>
                  <a:lnTo>
                    <a:pt x="482" y="47"/>
                  </a:lnTo>
                  <a:lnTo>
                    <a:pt x="578" y="19"/>
                  </a:lnTo>
                  <a:lnTo>
                    <a:pt x="687" y="0"/>
                  </a:lnTo>
                  <a:lnTo>
                    <a:pt x="813" y="0"/>
                  </a:lnTo>
                  <a:lnTo>
                    <a:pt x="929" y="0"/>
                  </a:lnTo>
                  <a:lnTo>
                    <a:pt x="1031" y="12"/>
                  </a:lnTo>
                  <a:lnTo>
                    <a:pt x="1115" y="31"/>
                  </a:lnTo>
                  <a:lnTo>
                    <a:pt x="1187" y="54"/>
                  </a:lnTo>
                  <a:lnTo>
                    <a:pt x="1244" y="85"/>
                  </a:lnTo>
                  <a:lnTo>
                    <a:pt x="1298" y="124"/>
                  </a:lnTo>
                  <a:lnTo>
                    <a:pt x="1348" y="171"/>
                  </a:lnTo>
                  <a:lnTo>
                    <a:pt x="1392" y="229"/>
                  </a:lnTo>
                  <a:lnTo>
                    <a:pt x="1428" y="290"/>
                  </a:lnTo>
                  <a:lnTo>
                    <a:pt x="1462" y="364"/>
                  </a:lnTo>
                  <a:lnTo>
                    <a:pt x="1489" y="442"/>
                  </a:lnTo>
                  <a:lnTo>
                    <a:pt x="1515" y="531"/>
                  </a:lnTo>
                  <a:lnTo>
                    <a:pt x="1065" y="632"/>
                  </a:lnTo>
                  <a:lnTo>
                    <a:pt x="1048" y="577"/>
                  </a:lnTo>
                  <a:lnTo>
                    <a:pt x="1029" y="535"/>
                  </a:lnTo>
                  <a:lnTo>
                    <a:pt x="1001" y="500"/>
                  </a:lnTo>
                  <a:lnTo>
                    <a:pt x="971" y="469"/>
                  </a:lnTo>
                  <a:lnTo>
                    <a:pt x="934" y="442"/>
                  </a:lnTo>
                  <a:lnTo>
                    <a:pt x="894" y="422"/>
                  </a:lnTo>
                  <a:lnTo>
                    <a:pt x="850" y="414"/>
                  </a:lnTo>
                  <a:lnTo>
                    <a:pt x="802" y="411"/>
                  </a:lnTo>
                  <a:lnTo>
                    <a:pt x="728" y="418"/>
                  </a:lnTo>
                  <a:lnTo>
                    <a:pt x="663" y="442"/>
                  </a:lnTo>
                  <a:lnTo>
                    <a:pt x="605" y="484"/>
                  </a:lnTo>
                  <a:lnTo>
                    <a:pt x="559" y="543"/>
                  </a:lnTo>
                  <a:lnTo>
                    <a:pt x="517" y="616"/>
                  </a:lnTo>
                  <a:lnTo>
                    <a:pt x="489" y="713"/>
                  </a:lnTo>
                  <a:lnTo>
                    <a:pt x="472" y="829"/>
                  </a:lnTo>
                  <a:lnTo>
                    <a:pt x="467" y="965"/>
                  </a:lnTo>
                  <a:lnTo>
                    <a:pt x="472" y="1104"/>
                  </a:lnTo>
                  <a:lnTo>
                    <a:pt x="489" y="1220"/>
                  </a:lnTo>
                  <a:lnTo>
                    <a:pt x="517" y="1321"/>
                  </a:lnTo>
                  <a:lnTo>
                    <a:pt x="559" y="1398"/>
                  </a:lnTo>
                  <a:lnTo>
                    <a:pt x="608" y="1457"/>
                  </a:lnTo>
                  <a:lnTo>
                    <a:pt x="668" y="1496"/>
                  </a:lnTo>
                  <a:lnTo>
                    <a:pt x="735" y="1519"/>
                  </a:lnTo>
                  <a:lnTo>
                    <a:pt x="816" y="1530"/>
                  </a:lnTo>
                  <a:lnTo>
                    <a:pt x="852" y="1527"/>
                  </a:lnTo>
                  <a:lnTo>
                    <a:pt x="892" y="1519"/>
                  </a:lnTo>
                  <a:lnTo>
                    <a:pt x="929" y="1511"/>
                  </a:lnTo>
                  <a:lnTo>
                    <a:pt x="966" y="1503"/>
                  </a:lnTo>
                  <a:lnTo>
                    <a:pt x="1001" y="1484"/>
                  </a:lnTo>
                  <a:lnTo>
                    <a:pt x="1041" y="1461"/>
                  </a:lnTo>
                  <a:lnTo>
                    <a:pt x="1080" y="1437"/>
                  </a:lnTo>
                  <a:lnTo>
                    <a:pt x="1128" y="1406"/>
                  </a:lnTo>
                  <a:lnTo>
                    <a:pt x="1128" y="1232"/>
                  </a:lnTo>
                  <a:lnTo>
                    <a:pt x="816" y="1232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06600" y="620640"/>
              <a:ext cx="531720" cy="676440"/>
            </a:xfrm>
            <a:custGeom>
              <a:avLst/>
              <a:gdLst/>
              <a:ahLst/>
              <a:rect l="l" t="t" r="r" b="b"/>
              <a:pathLst>
                <a:path w="1478" h="1880">
                  <a:moveTo>
                    <a:pt x="465" y="759"/>
                  </a:moveTo>
                  <a:lnTo>
                    <a:pt x="661" y="759"/>
                  </a:lnTo>
                  <a:lnTo>
                    <a:pt x="681" y="755"/>
                  </a:lnTo>
                  <a:lnTo>
                    <a:pt x="709" y="751"/>
                  </a:lnTo>
                  <a:lnTo>
                    <a:pt x="741" y="743"/>
                  </a:lnTo>
                  <a:lnTo>
                    <a:pt x="785" y="736"/>
                  </a:lnTo>
                  <a:lnTo>
                    <a:pt x="806" y="724"/>
                  </a:lnTo>
                  <a:lnTo>
                    <a:pt x="825" y="712"/>
                  </a:lnTo>
                  <a:lnTo>
                    <a:pt x="843" y="694"/>
                  </a:lnTo>
                  <a:lnTo>
                    <a:pt x="860" y="675"/>
                  </a:lnTo>
                  <a:lnTo>
                    <a:pt x="872" y="647"/>
                  </a:lnTo>
                  <a:lnTo>
                    <a:pt x="882" y="624"/>
                  </a:lnTo>
                  <a:lnTo>
                    <a:pt x="888" y="593"/>
                  </a:lnTo>
                  <a:lnTo>
                    <a:pt x="890" y="566"/>
                  </a:lnTo>
                  <a:lnTo>
                    <a:pt x="884" y="519"/>
                  </a:lnTo>
                  <a:lnTo>
                    <a:pt x="877" y="484"/>
                  </a:lnTo>
                  <a:lnTo>
                    <a:pt x="862" y="453"/>
                  </a:lnTo>
                  <a:lnTo>
                    <a:pt x="845" y="422"/>
                  </a:lnTo>
                  <a:lnTo>
                    <a:pt x="816" y="403"/>
                  </a:lnTo>
                  <a:lnTo>
                    <a:pt x="775" y="387"/>
                  </a:lnTo>
                  <a:lnTo>
                    <a:pt x="729" y="376"/>
                  </a:lnTo>
                  <a:lnTo>
                    <a:pt x="669" y="376"/>
                  </a:lnTo>
                  <a:lnTo>
                    <a:pt x="465" y="376"/>
                  </a:lnTo>
                  <a:lnTo>
                    <a:pt x="465" y="759"/>
                  </a:lnTo>
                  <a:lnTo>
                    <a:pt x="465" y="759"/>
                  </a:lnTo>
                  <a:close/>
                  <a:moveTo>
                    <a:pt x="0" y="1879"/>
                  </a:moveTo>
                  <a:lnTo>
                    <a:pt x="0" y="0"/>
                  </a:lnTo>
                  <a:lnTo>
                    <a:pt x="773" y="0"/>
                  </a:lnTo>
                  <a:lnTo>
                    <a:pt x="872" y="0"/>
                  </a:lnTo>
                  <a:lnTo>
                    <a:pt x="961" y="8"/>
                  </a:lnTo>
                  <a:lnTo>
                    <a:pt x="1038" y="23"/>
                  </a:lnTo>
                  <a:lnTo>
                    <a:pt x="1103" y="47"/>
                  </a:lnTo>
                  <a:lnTo>
                    <a:pt x="1155" y="74"/>
                  </a:lnTo>
                  <a:lnTo>
                    <a:pt x="1205" y="109"/>
                  </a:lnTo>
                  <a:lnTo>
                    <a:pt x="1247" y="155"/>
                  </a:lnTo>
                  <a:lnTo>
                    <a:pt x="1287" y="216"/>
                  </a:lnTo>
                  <a:lnTo>
                    <a:pt x="1316" y="279"/>
                  </a:lnTo>
                  <a:lnTo>
                    <a:pt x="1338" y="352"/>
                  </a:lnTo>
                  <a:lnTo>
                    <a:pt x="1351" y="434"/>
                  </a:lnTo>
                  <a:lnTo>
                    <a:pt x="1356" y="519"/>
                  </a:lnTo>
                  <a:lnTo>
                    <a:pt x="1351" y="593"/>
                  </a:lnTo>
                  <a:lnTo>
                    <a:pt x="1341" y="667"/>
                  </a:lnTo>
                  <a:lnTo>
                    <a:pt x="1326" y="732"/>
                  </a:lnTo>
                  <a:lnTo>
                    <a:pt x="1304" y="790"/>
                  </a:lnTo>
                  <a:lnTo>
                    <a:pt x="1271" y="844"/>
                  </a:lnTo>
                  <a:lnTo>
                    <a:pt x="1237" y="891"/>
                  </a:lnTo>
                  <a:lnTo>
                    <a:pt x="1198" y="934"/>
                  </a:lnTo>
                  <a:lnTo>
                    <a:pt x="1155" y="972"/>
                  </a:lnTo>
                  <a:lnTo>
                    <a:pt x="1120" y="996"/>
                  </a:lnTo>
                  <a:lnTo>
                    <a:pt x="1083" y="1015"/>
                  </a:lnTo>
                  <a:lnTo>
                    <a:pt x="1038" y="1031"/>
                  </a:lnTo>
                  <a:lnTo>
                    <a:pt x="992" y="1050"/>
                  </a:lnTo>
                  <a:lnTo>
                    <a:pt x="1029" y="1066"/>
                  </a:lnTo>
                  <a:lnTo>
                    <a:pt x="1061" y="1081"/>
                  </a:lnTo>
                  <a:lnTo>
                    <a:pt x="1089" y="1101"/>
                  </a:lnTo>
                  <a:lnTo>
                    <a:pt x="1113" y="1120"/>
                  </a:lnTo>
                  <a:lnTo>
                    <a:pt x="1125" y="1132"/>
                  </a:lnTo>
                  <a:lnTo>
                    <a:pt x="1143" y="1155"/>
                  </a:lnTo>
                  <a:lnTo>
                    <a:pt x="1162" y="1182"/>
                  </a:lnTo>
                  <a:lnTo>
                    <a:pt x="1188" y="1216"/>
                  </a:lnTo>
                  <a:lnTo>
                    <a:pt x="1207" y="1251"/>
                  </a:lnTo>
                  <a:lnTo>
                    <a:pt x="1227" y="1282"/>
                  </a:lnTo>
                  <a:lnTo>
                    <a:pt x="1239" y="1313"/>
                  </a:lnTo>
                  <a:lnTo>
                    <a:pt x="1251" y="1336"/>
                  </a:lnTo>
                  <a:lnTo>
                    <a:pt x="1477" y="1879"/>
                  </a:lnTo>
                  <a:lnTo>
                    <a:pt x="952" y="1879"/>
                  </a:lnTo>
                  <a:lnTo>
                    <a:pt x="704" y="1305"/>
                  </a:lnTo>
                  <a:lnTo>
                    <a:pt x="679" y="1251"/>
                  </a:lnTo>
                  <a:lnTo>
                    <a:pt x="656" y="1212"/>
                  </a:lnTo>
                  <a:lnTo>
                    <a:pt x="637" y="1178"/>
                  </a:lnTo>
                  <a:lnTo>
                    <a:pt x="620" y="1159"/>
                  </a:lnTo>
                  <a:lnTo>
                    <a:pt x="593" y="1143"/>
                  </a:lnTo>
                  <a:lnTo>
                    <a:pt x="567" y="1128"/>
                  </a:lnTo>
                  <a:lnTo>
                    <a:pt x="538" y="1116"/>
                  </a:lnTo>
                  <a:lnTo>
                    <a:pt x="508" y="1116"/>
                  </a:lnTo>
                  <a:lnTo>
                    <a:pt x="465" y="1116"/>
                  </a:lnTo>
                  <a:lnTo>
                    <a:pt x="465" y="1879"/>
                  </a:lnTo>
                  <a:lnTo>
                    <a:pt x="0" y="1879"/>
                  </a:lnTo>
                  <a:lnTo>
                    <a:pt x="0" y="1879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36880" y="620640"/>
              <a:ext cx="588960" cy="676440"/>
            </a:xfrm>
            <a:custGeom>
              <a:avLst/>
              <a:gdLst/>
              <a:ahLst/>
              <a:rect l="l" t="t" r="r" b="b"/>
              <a:pathLst>
                <a:path w="1636" h="1880">
                  <a:moveTo>
                    <a:pt x="975" y="1163"/>
                  </a:moveTo>
                  <a:lnTo>
                    <a:pt x="813" y="484"/>
                  </a:lnTo>
                  <a:lnTo>
                    <a:pt x="647" y="1163"/>
                  </a:lnTo>
                  <a:lnTo>
                    <a:pt x="975" y="1163"/>
                  </a:lnTo>
                  <a:lnTo>
                    <a:pt x="975" y="1163"/>
                  </a:lnTo>
                  <a:close/>
                  <a:moveTo>
                    <a:pt x="1072" y="1569"/>
                  </a:moveTo>
                  <a:lnTo>
                    <a:pt x="550" y="1569"/>
                  </a:lnTo>
                  <a:lnTo>
                    <a:pt x="473" y="1879"/>
                  </a:lnTo>
                  <a:lnTo>
                    <a:pt x="0" y="1879"/>
                  </a:lnTo>
                  <a:lnTo>
                    <a:pt x="563" y="0"/>
                  </a:lnTo>
                  <a:lnTo>
                    <a:pt x="1070" y="0"/>
                  </a:lnTo>
                  <a:lnTo>
                    <a:pt x="1635" y="1879"/>
                  </a:lnTo>
                  <a:lnTo>
                    <a:pt x="1149" y="1879"/>
                  </a:lnTo>
                  <a:lnTo>
                    <a:pt x="1072" y="1569"/>
                  </a:lnTo>
                  <a:lnTo>
                    <a:pt x="1072" y="1569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78400" y="620640"/>
              <a:ext cx="607680" cy="676440"/>
            </a:xfrm>
            <a:custGeom>
              <a:avLst/>
              <a:gdLst/>
              <a:ahLst/>
              <a:rect l="l" t="t" r="r" b="b"/>
              <a:pathLst>
                <a:path w="1689" h="1880">
                  <a:moveTo>
                    <a:pt x="0" y="0"/>
                  </a:moveTo>
                  <a:lnTo>
                    <a:pt x="611" y="0"/>
                  </a:lnTo>
                  <a:lnTo>
                    <a:pt x="844" y="1143"/>
                  </a:lnTo>
                  <a:lnTo>
                    <a:pt x="1079" y="0"/>
                  </a:lnTo>
                  <a:lnTo>
                    <a:pt x="1688" y="0"/>
                  </a:lnTo>
                  <a:lnTo>
                    <a:pt x="1688" y="1879"/>
                  </a:lnTo>
                  <a:lnTo>
                    <a:pt x="1309" y="1879"/>
                  </a:lnTo>
                  <a:lnTo>
                    <a:pt x="1309" y="446"/>
                  </a:lnTo>
                  <a:lnTo>
                    <a:pt x="1014" y="1879"/>
                  </a:lnTo>
                  <a:lnTo>
                    <a:pt x="673" y="1879"/>
                  </a:lnTo>
                  <a:lnTo>
                    <a:pt x="378" y="446"/>
                  </a:lnTo>
                  <a:lnTo>
                    <a:pt x="378" y="1879"/>
                  </a:lnTo>
                  <a:lnTo>
                    <a:pt x="0" y="1879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45000" y="620640"/>
              <a:ext cx="574560" cy="676440"/>
            </a:xfrm>
            <a:custGeom>
              <a:avLst/>
              <a:gdLst/>
              <a:ahLst/>
              <a:rect l="l" t="t" r="r" b="b"/>
              <a:pathLst>
                <a:path w="1596" h="1880">
                  <a:moveTo>
                    <a:pt x="0" y="0"/>
                  </a:moveTo>
                  <a:lnTo>
                    <a:pt x="464" y="0"/>
                  </a:lnTo>
                  <a:lnTo>
                    <a:pt x="464" y="709"/>
                  </a:lnTo>
                  <a:lnTo>
                    <a:pt x="954" y="0"/>
                  </a:lnTo>
                  <a:lnTo>
                    <a:pt x="1571" y="0"/>
                  </a:lnTo>
                  <a:lnTo>
                    <a:pt x="1020" y="705"/>
                  </a:lnTo>
                  <a:lnTo>
                    <a:pt x="1595" y="1879"/>
                  </a:lnTo>
                  <a:lnTo>
                    <a:pt x="1023" y="1879"/>
                  </a:lnTo>
                  <a:lnTo>
                    <a:pt x="704" y="1108"/>
                  </a:lnTo>
                  <a:lnTo>
                    <a:pt x="464" y="1422"/>
                  </a:lnTo>
                  <a:lnTo>
                    <a:pt x="464" y="1879"/>
                  </a:lnTo>
                  <a:lnTo>
                    <a:pt x="0" y="1879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53040" y="609480"/>
              <a:ext cx="561960" cy="698760"/>
            </a:xfrm>
            <a:custGeom>
              <a:avLst/>
              <a:gdLst/>
              <a:ahLst/>
              <a:rect l="l" t="t" r="r" b="b"/>
              <a:pathLst>
                <a:path w="1560" h="1942">
                  <a:moveTo>
                    <a:pt x="462" y="972"/>
                  </a:moveTo>
                  <a:lnTo>
                    <a:pt x="467" y="1104"/>
                  </a:lnTo>
                  <a:lnTo>
                    <a:pt x="482" y="1216"/>
                  </a:lnTo>
                  <a:lnTo>
                    <a:pt x="509" y="1309"/>
                  </a:lnTo>
                  <a:lnTo>
                    <a:pt x="549" y="1383"/>
                  </a:lnTo>
                  <a:lnTo>
                    <a:pt x="594" y="1437"/>
                  </a:lnTo>
                  <a:lnTo>
                    <a:pt x="649" y="1476"/>
                  </a:lnTo>
                  <a:lnTo>
                    <a:pt x="710" y="1499"/>
                  </a:lnTo>
                  <a:lnTo>
                    <a:pt x="781" y="1507"/>
                  </a:lnTo>
                  <a:lnTo>
                    <a:pt x="850" y="1499"/>
                  </a:lnTo>
                  <a:lnTo>
                    <a:pt x="912" y="1476"/>
                  </a:lnTo>
                  <a:lnTo>
                    <a:pt x="967" y="1441"/>
                  </a:lnTo>
                  <a:lnTo>
                    <a:pt x="1013" y="1387"/>
                  </a:lnTo>
                  <a:lnTo>
                    <a:pt x="1049" y="1313"/>
                  </a:lnTo>
                  <a:lnTo>
                    <a:pt x="1073" y="1216"/>
                  </a:lnTo>
                  <a:lnTo>
                    <a:pt x="1088" y="1097"/>
                  </a:lnTo>
                  <a:lnTo>
                    <a:pt x="1095" y="949"/>
                  </a:lnTo>
                  <a:lnTo>
                    <a:pt x="1088" y="825"/>
                  </a:lnTo>
                  <a:lnTo>
                    <a:pt x="1073" y="721"/>
                  </a:lnTo>
                  <a:lnTo>
                    <a:pt x="1049" y="628"/>
                  </a:lnTo>
                  <a:lnTo>
                    <a:pt x="1011" y="562"/>
                  </a:lnTo>
                  <a:lnTo>
                    <a:pt x="964" y="504"/>
                  </a:lnTo>
                  <a:lnTo>
                    <a:pt x="907" y="469"/>
                  </a:lnTo>
                  <a:lnTo>
                    <a:pt x="845" y="445"/>
                  </a:lnTo>
                  <a:lnTo>
                    <a:pt x="775" y="438"/>
                  </a:lnTo>
                  <a:lnTo>
                    <a:pt x="705" y="445"/>
                  </a:lnTo>
                  <a:lnTo>
                    <a:pt x="646" y="469"/>
                  </a:lnTo>
                  <a:lnTo>
                    <a:pt x="594" y="508"/>
                  </a:lnTo>
                  <a:lnTo>
                    <a:pt x="549" y="562"/>
                  </a:lnTo>
                  <a:lnTo>
                    <a:pt x="509" y="636"/>
                  </a:lnTo>
                  <a:lnTo>
                    <a:pt x="482" y="728"/>
                  </a:lnTo>
                  <a:lnTo>
                    <a:pt x="467" y="840"/>
                  </a:lnTo>
                  <a:lnTo>
                    <a:pt x="462" y="972"/>
                  </a:lnTo>
                  <a:lnTo>
                    <a:pt x="462" y="972"/>
                  </a:lnTo>
                  <a:close/>
                  <a:moveTo>
                    <a:pt x="0" y="969"/>
                  </a:moveTo>
                  <a:lnTo>
                    <a:pt x="12" y="751"/>
                  </a:lnTo>
                  <a:lnTo>
                    <a:pt x="50" y="562"/>
                  </a:lnTo>
                  <a:lnTo>
                    <a:pt x="113" y="391"/>
                  </a:lnTo>
                  <a:lnTo>
                    <a:pt x="205" y="251"/>
                  </a:lnTo>
                  <a:lnTo>
                    <a:pt x="316" y="140"/>
                  </a:lnTo>
                  <a:lnTo>
                    <a:pt x="448" y="62"/>
                  </a:lnTo>
                  <a:lnTo>
                    <a:pt x="601" y="16"/>
                  </a:lnTo>
                  <a:lnTo>
                    <a:pt x="775" y="0"/>
                  </a:lnTo>
                  <a:lnTo>
                    <a:pt x="952" y="16"/>
                  </a:lnTo>
                  <a:lnTo>
                    <a:pt x="1108" y="62"/>
                  </a:lnTo>
                  <a:lnTo>
                    <a:pt x="1242" y="140"/>
                  </a:lnTo>
                  <a:lnTo>
                    <a:pt x="1356" y="247"/>
                  </a:lnTo>
                  <a:lnTo>
                    <a:pt x="1445" y="387"/>
                  </a:lnTo>
                  <a:lnTo>
                    <a:pt x="1507" y="550"/>
                  </a:lnTo>
                  <a:lnTo>
                    <a:pt x="1545" y="740"/>
                  </a:lnTo>
                  <a:lnTo>
                    <a:pt x="1559" y="953"/>
                  </a:lnTo>
                  <a:lnTo>
                    <a:pt x="1552" y="1112"/>
                  </a:lnTo>
                  <a:lnTo>
                    <a:pt x="1537" y="1251"/>
                  </a:lnTo>
                  <a:lnTo>
                    <a:pt x="1507" y="1379"/>
                  </a:lnTo>
                  <a:lnTo>
                    <a:pt x="1470" y="1496"/>
                  </a:lnTo>
                  <a:lnTo>
                    <a:pt x="1420" y="1596"/>
                  </a:lnTo>
                  <a:lnTo>
                    <a:pt x="1361" y="1682"/>
                  </a:lnTo>
                  <a:lnTo>
                    <a:pt x="1291" y="1759"/>
                  </a:lnTo>
                  <a:lnTo>
                    <a:pt x="1214" y="1825"/>
                  </a:lnTo>
                  <a:lnTo>
                    <a:pt x="1126" y="1875"/>
                  </a:lnTo>
                  <a:lnTo>
                    <a:pt x="1023" y="1910"/>
                  </a:lnTo>
                  <a:lnTo>
                    <a:pt x="914" y="1933"/>
                  </a:lnTo>
                  <a:lnTo>
                    <a:pt x="795" y="1941"/>
                  </a:lnTo>
                  <a:lnTo>
                    <a:pt x="671" y="1933"/>
                  </a:lnTo>
                  <a:lnTo>
                    <a:pt x="562" y="1914"/>
                  </a:lnTo>
                  <a:lnTo>
                    <a:pt x="460" y="1883"/>
                  </a:lnTo>
                  <a:lnTo>
                    <a:pt x="373" y="1840"/>
                  </a:lnTo>
                  <a:lnTo>
                    <a:pt x="291" y="1782"/>
                  </a:lnTo>
                  <a:lnTo>
                    <a:pt x="222" y="1708"/>
                  </a:lnTo>
                  <a:lnTo>
                    <a:pt x="159" y="1620"/>
                  </a:lnTo>
                  <a:lnTo>
                    <a:pt x="104" y="1519"/>
                  </a:lnTo>
                  <a:lnTo>
                    <a:pt x="57" y="1402"/>
                  </a:lnTo>
                  <a:lnTo>
                    <a:pt x="24" y="1270"/>
                  </a:lnTo>
                  <a:lnTo>
                    <a:pt x="4" y="1128"/>
                  </a:lnTo>
                  <a:lnTo>
                    <a:pt x="0" y="969"/>
                  </a:lnTo>
                  <a:lnTo>
                    <a:pt x="0" y="969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480" y="620640"/>
              <a:ext cx="482400" cy="676440"/>
            </a:xfrm>
            <a:custGeom>
              <a:avLst/>
              <a:gdLst/>
              <a:ahLst/>
              <a:rect l="l" t="t" r="r" b="b"/>
              <a:pathLst>
                <a:path w="1342" h="1880">
                  <a:moveTo>
                    <a:pt x="153" y="0"/>
                  </a:moveTo>
                  <a:lnTo>
                    <a:pt x="617" y="0"/>
                  </a:lnTo>
                  <a:lnTo>
                    <a:pt x="617" y="519"/>
                  </a:lnTo>
                  <a:lnTo>
                    <a:pt x="944" y="210"/>
                  </a:lnTo>
                  <a:lnTo>
                    <a:pt x="944" y="570"/>
                  </a:lnTo>
                  <a:lnTo>
                    <a:pt x="617" y="879"/>
                  </a:lnTo>
                  <a:lnTo>
                    <a:pt x="617" y="1418"/>
                  </a:lnTo>
                  <a:lnTo>
                    <a:pt x="1341" y="1418"/>
                  </a:lnTo>
                  <a:lnTo>
                    <a:pt x="1341" y="1879"/>
                  </a:lnTo>
                  <a:lnTo>
                    <a:pt x="153" y="1879"/>
                  </a:lnTo>
                  <a:lnTo>
                    <a:pt x="153" y="1321"/>
                  </a:lnTo>
                  <a:lnTo>
                    <a:pt x="0" y="1468"/>
                  </a:lnTo>
                  <a:lnTo>
                    <a:pt x="0" y="1108"/>
                  </a:lnTo>
                  <a:lnTo>
                    <a:pt x="153" y="961"/>
                  </a:lnTo>
                  <a:lnTo>
                    <a:pt x="153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86680" y="609480"/>
              <a:ext cx="561960" cy="698760"/>
            </a:xfrm>
            <a:custGeom>
              <a:avLst/>
              <a:gdLst/>
              <a:ahLst/>
              <a:rect l="l" t="t" r="r" b="b"/>
              <a:pathLst>
                <a:path w="1561" h="1942">
                  <a:moveTo>
                    <a:pt x="463" y="972"/>
                  </a:moveTo>
                  <a:lnTo>
                    <a:pt x="469" y="1104"/>
                  </a:lnTo>
                  <a:lnTo>
                    <a:pt x="484" y="1216"/>
                  </a:lnTo>
                  <a:lnTo>
                    <a:pt x="511" y="1309"/>
                  </a:lnTo>
                  <a:lnTo>
                    <a:pt x="550" y="1383"/>
                  </a:lnTo>
                  <a:lnTo>
                    <a:pt x="595" y="1437"/>
                  </a:lnTo>
                  <a:lnTo>
                    <a:pt x="649" y="1476"/>
                  </a:lnTo>
                  <a:lnTo>
                    <a:pt x="711" y="1499"/>
                  </a:lnTo>
                  <a:lnTo>
                    <a:pt x="782" y="1507"/>
                  </a:lnTo>
                  <a:lnTo>
                    <a:pt x="851" y="1499"/>
                  </a:lnTo>
                  <a:lnTo>
                    <a:pt x="913" y="1476"/>
                  </a:lnTo>
                  <a:lnTo>
                    <a:pt x="968" y="1441"/>
                  </a:lnTo>
                  <a:lnTo>
                    <a:pt x="1015" y="1387"/>
                  </a:lnTo>
                  <a:lnTo>
                    <a:pt x="1049" y="1313"/>
                  </a:lnTo>
                  <a:lnTo>
                    <a:pt x="1075" y="1216"/>
                  </a:lnTo>
                  <a:lnTo>
                    <a:pt x="1089" y="1097"/>
                  </a:lnTo>
                  <a:lnTo>
                    <a:pt x="1097" y="949"/>
                  </a:lnTo>
                  <a:lnTo>
                    <a:pt x="1089" y="825"/>
                  </a:lnTo>
                  <a:lnTo>
                    <a:pt x="1075" y="721"/>
                  </a:lnTo>
                  <a:lnTo>
                    <a:pt x="1049" y="628"/>
                  </a:lnTo>
                  <a:lnTo>
                    <a:pt x="1012" y="562"/>
                  </a:lnTo>
                  <a:lnTo>
                    <a:pt x="966" y="504"/>
                  </a:lnTo>
                  <a:lnTo>
                    <a:pt x="908" y="469"/>
                  </a:lnTo>
                  <a:lnTo>
                    <a:pt x="846" y="445"/>
                  </a:lnTo>
                  <a:lnTo>
                    <a:pt x="776" y="438"/>
                  </a:lnTo>
                  <a:lnTo>
                    <a:pt x="706" y="445"/>
                  </a:lnTo>
                  <a:lnTo>
                    <a:pt x="647" y="469"/>
                  </a:lnTo>
                  <a:lnTo>
                    <a:pt x="595" y="508"/>
                  </a:lnTo>
                  <a:lnTo>
                    <a:pt x="550" y="562"/>
                  </a:lnTo>
                  <a:lnTo>
                    <a:pt x="511" y="636"/>
                  </a:lnTo>
                  <a:lnTo>
                    <a:pt x="484" y="728"/>
                  </a:lnTo>
                  <a:lnTo>
                    <a:pt x="469" y="840"/>
                  </a:lnTo>
                  <a:lnTo>
                    <a:pt x="463" y="972"/>
                  </a:lnTo>
                  <a:lnTo>
                    <a:pt x="463" y="972"/>
                  </a:lnTo>
                  <a:close/>
                  <a:moveTo>
                    <a:pt x="0" y="969"/>
                  </a:moveTo>
                  <a:lnTo>
                    <a:pt x="12" y="751"/>
                  </a:lnTo>
                  <a:lnTo>
                    <a:pt x="49" y="562"/>
                  </a:lnTo>
                  <a:lnTo>
                    <a:pt x="114" y="391"/>
                  </a:lnTo>
                  <a:lnTo>
                    <a:pt x="206" y="251"/>
                  </a:lnTo>
                  <a:lnTo>
                    <a:pt x="317" y="140"/>
                  </a:lnTo>
                  <a:lnTo>
                    <a:pt x="448" y="62"/>
                  </a:lnTo>
                  <a:lnTo>
                    <a:pt x="602" y="16"/>
                  </a:lnTo>
                  <a:lnTo>
                    <a:pt x="776" y="0"/>
                  </a:lnTo>
                  <a:lnTo>
                    <a:pt x="952" y="16"/>
                  </a:lnTo>
                  <a:lnTo>
                    <a:pt x="1109" y="62"/>
                  </a:lnTo>
                  <a:lnTo>
                    <a:pt x="1243" y="140"/>
                  </a:lnTo>
                  <a:lnTo>
                    <a:pt x="1357" y="247"/>
                  </a:lnTo>
                  <a:lnTo>
                    <a:pt x="1446" y="387"/>
                  </a:lnTo>
                  <a:lnTo>
                    <a:pt x="1508" y="550"/>
                  </a:lnTo>
                  <a:lnTo>
                    <a:pt x="1545" y="740"/>
                  </a:lnTo>
                  <a:lnTo>
                    <a:pt x="1560" y="953"/>
                  </a:lnTo>
                  <a:lnTo>
                    <a:pt x="1552" y="1112"/>
                  </a:lnTo>
                  <a:lnTo>
                    <a:pt x="1538" y="1251"/>
                  </a:lnTo>
                  <a:lnTo>
                    <a:pt x="1508" y="1379"/>
                  </a:lnTo>
                  <a:lnTo>
                    <a:pt x="1471" y="1496"/>
                  </a:lnTo>
                  <a:lnTo>
                    <a:pt x="1421" y="1596"/>
                  </a:lnTo>
                  <a:lnTo>
                    <a:pt x="1361" y="1682"/>
                  </a:lnTo>
                  <a:lnTo>
                    <a:pt x="1293" y="1759"/>
                  </a:lnTo>
                  <a:lnTo>
                    <a:pt x="1216" y="1825"/>
                  </a:lnTo>
                  <a:lnTo>
                    <a:pt x="1126" y="1875"/>
                  </a:lnTo>
                  <a:lnTo>
                    <a:pt x="1025" y="1910"/>
                  </a:lnTo>
                  <a:lnTo>
                    <a:pt x="916" y="1933"/>
                  </a:lnTo>
                  <a:lnTo>
                    <a:pt x="797" y="1941"/>
                  </a:lnTo>
                  <a:lnTo>
                    <a:pt x="672" y="1933"/>
                  </a:lnTo>
                  <a:lnTo>
                    <a:pt x="562" y="1914"/>
                  </a:lnTo>
                  <a:lnTo>
                    <a:pt x="460" y="1883"/>
                  </a:lnTo>
                  <a:lnTo>
                    <a:pt x="375" y="1840"/>
                  </a:lnTo>
                  <a:lnTo>
                    <a:pt x="293" y="1782"/>
                  </a:lnTo>
                  <a:lnTo>
                    <a:pt x="223" y="1708"/>
                  </a:lnTo>
                  <a:lnTo>
                    <a:pt x="158" y="1620"/>
                  </a:lnTo>
                  <a:lnTo>
                    <a:pt x="104" y="1519"/>
                  </a:lnTo>
                  <a:lnTo>
                    <a:pt x="56" y="1402"/>
                  </a:lnTo>
                  <a:lnTo>
                    <a:pt x="25" y="1270"/>
                  </a:lnTo>
                  <a:lnTo>
                    <a:pt x="5" y="1128"/>
                  </a:lnTo>
                  <a:lnTo>
                    <a:pt x="0" y="969"/>
                  </a:lnTo>
                  <a:lnTo>
                    <a:pt x="0" y="969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80320" y="620640"/>
              <a:ext cx="757080" cy="676440"/>
            </a:xfrm>
            <a:custGeom>
              <a:avLst/>
              <a:gdLst/>
              <a:ahLst/>
              <a:rect l="l" t="t" r="r" b="b"/>
              <a:pathLst>
                <a:path w="2103" h="1880">
                  <a:moveTo>
                    <a:pt x="0" y="0"/>
                  </a:moveTo>
                  <a:lnTo>
                    <a:pt x="442" y="0"/>
                  </a:lnTo>
                  <a:lnTo>
                    <a:pt x="600" y="1050"/>
                  </a:lnTo>
                  <a:lnTo>
                    <a:pt x="834" y="0"/>
                  </a:lnTo>
                  <a:lnTo>
                    <a:pt x="1271" y="0"/>
                  </a:lnTo>
                  <a:lnTo>
                    <a:pt x="1505" y="1050"/>
                  </a:lnTo>
                  <a:lnTo>
                    <a:pt x="1663" y="0"/>
                  </a:lnTo>
                  <a:lnTo>
                    <a:pt x="2102" y="0"/>
                  </a:lnTo>
                  <a:lnTo>
                    <a:pt x="1769" y="1879"/>
                  </a:lnTo>
                  <a:lnTo>
                    <a:pt x="1316" y="1879"/>
                  </a:lnTo>
                  <a:lnTo>
                    <a:pt x="1053" y="694"/>
                  </a:lnTo>
                  <a:lnTo>
                    <a:pt x="791" y="1879"/>
                  </a:lnTo>
                  <a:lnTo>
                    <a:pt x="335" y="1879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39200" y="620640"/>
              <a:ext cx="588960" cy="676440"/>
            </a:xfrm>
            <a:custGeom>
              <a:avLst/>
              <a:gdLst/>
              <a:ahLst/>
              <a:rect l="l" t="t" r="r" b="b"/>
              <a:pathLst>
                <a:path w="1637" h="1880">
                  <a:moveTo>
                    <a:pt x="0" y="0"/>
                  </a:moveTo>
                  <a:lnTo>
                    <a:pt x="515" y="0"/>
                  </a:lnTo>
                  <a:lnTo>
                    <a:pt x="820" y="632"/>
                  </a:lnTo>
                  <a:lnTo>
                    <a:pt x="1123" y="0"/>
                  </a:lnTo>
                  <a:lnTo>
                    <a:pt x="1636" y="0"/>
                  </a:lnTo>
                  <a:lnTo>
                    <a:pt x="1050" y="1093"/>
                  </a:lnTo>
                  <a:lnTo>
                    <a:pt x="1050" y="1879"/>
                  </a:lnTo>
                  <a:lnTo>
                    <a:pt x="584" y="1879"/>
                  </a:lnTo>
                  <a:lnTo>
                    <a:pt x="584" y="1093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1954080" y="2039760"/>
          <a:ext cx="581832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4080" y="2039760"/>
                    <a:ext cx="581832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304920" y="5410080"/>
            <a:ext cx="8839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Na wykresie kołowym, tak jak na histogramie, łatwo jest porównać dane.Dla ułatwienia odczytywania danych, części koła są pomalowane różnymi kolor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1880" y="6172200"/>
            <a:ext cx="762120" cy="684360"/>
            <a:chOff x="8381880" y="6172200"/>
            <a:chExt cx="762120" cy="684360"/>
          </a:xfrm>
        </p:grpSpPr>
        <p:sp>
          <p:nvSpPr>
            <p:cNvPr id="209" name=""/>
            <p:cNvSpPr/>
            <p:nvPr/>
          </p:nvSpPr>
          <p:spPr>
            <a:xfrm>
              <a:off x="8381880" y="6172200"/>
              <a:ext cx="762120" cy="684360"/>
            </a:xfrm>
            <a:custGeom>
              <a:avLst/>
              <a:gdLst/>
              <a:ahLst/>
              <a:rect l="l" t="t" r="r" b="b"/>
              <a:pathLst>
                <a:path w="2118" h="1902">
                  <a:moveTo>
                    <a:pt x="0" y="0"/>
                  </a:moveTo>
                  <a:lnTo>
                    <a:pt x="2117" y="0"/>
                  </a:lnTo>
                  <a:lnTo>
                    <a:pt x="2117" y="1901"/>
                  </a:lnTo>
                  <a:lnTo>
                    <a:pt x="0" y="1901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1880" y="6172200"/>
              <a:ext cx="762120" cy="4428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0" y="0"/>
                  </a:moveTo>
                  <a:lnTo>
                    <a:pt x="2117" y="0"/>
                  </a:lnTo>
                  <a:lnTo>
                    <a:pt x="1993" y="123"/>
                  </a:lnTo>
                  <a:lnTo>
                    <a:pt x="123" y="123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97920" y="6172200"/>
              <a:ext cx="4464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123" y="0"/>
                  </a:moveTo>
                  <a:lnTo>
                    <a:pt x="123" y="1901"/>
                  </a:lnTo>
                  <a:lnTo>
                    <a:pt x="0" y="1777"/>
                  </a:lnTo>
                  <a:lnTo>
                    <a:pt x="0" y="122"/>
                  </a:lnTo>
                  <a:lnTo>
                    <a:pt x="123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1880" y="6811920"/>
              <a:ext cx="762120" cy="4464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2117" y="123"/>
                  </a:moveTo>
                  <a:lnTo>
                    <a:pt x="0" y="123"/>
                  </a:lnTo>
                  <a:lnTo>
                    <a:pt x="123" y="0"/>
                  </a:lnTo>
                  <a:lnTo>
                    <a:pt x="1993" y="0"/>
                  </a:lnTo>
                  <a:lnTo>
                    <a:pt x="2117" y="123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1880" y="6172200"/>
              <a:ext cx="4464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0" y="1901"/>
                  </a:moveTo>
                  <a:lnTo>
                    <a:pt x="0" y="0"/>
                  </a:lnTo>
                  <a:lnTo>
                    <a:pt x="123" y="122"/>
                  </a:lnTo>
                  <a:lnTo>
                    <a:pt x="123" y="1777"/>
                  </a:lnTo>
                  <a:lnTo>
                    <a:pt x="0" y="1901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40640" y="6292800"/>
              <a:ext cx="446040" cy="446040"/>
            </a:xfrm>
            <a:custGeom>
              <a:avLst/>
              <a:gdLst/>
              <a:ahLst/>
              <a:rect l="l" t="t" r="r" b="b"/>
              <a:pathLst>
                <a:path w="1238" h="1237">
                  <a:moveTo>
                    <a:pt x="0" y="0"/>
                  </a:moveTo>
                  <a:lnTo>
                    <a:pt x="1237" y="619"/>
                  </a:lnTo>
                  <a:lnTo>
                    <a:pt x="0" y="1236"/>
                  </a:lnTo>
                  <a:lnTo>
                    <a:pt x="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457200" y="533520"/>
            <a:ext cx="8228160" cy="912600"/>
            <a:chOff x="457200" y="533520"/>
            <a:chExt cx="8228160" cy="912600"/>
          </a:xfrm>
        </p:grpSpPr>
        <p:sp>
          <p:nvSpPr>
            <p:cNvPr id="216" name=""/>
            <p:cNvSpPr/>
            <p:nvPr/>
          </p:nvSpPr>
          <p:spPr>
            <a:xfrm>
              <a:off x="457200" y="547560"/>
              <a:ext cx="289080" cy="884520"/>
            </a:xfrm>
            <a:custGeom>
              <a:avLst/>
              <a:gdLst/>
              <a:ahLst/>
              <a:rect l="l" t="t" r="r" b="b"/>
              <a:pathLst>
                <a:path w="803" h="2456">
                  <a:moveTo>
                    <a:pt x="269" y="551"/>
                  </a:moveTo>
                  <a:lnTo>
                    <a:pt x="269" y="1899"/>
                  </a:lnTo>
                  <a:lnTo>
                    <a:pt x="335" y="1899"/>
                  </a:lnTo>
                  <a:lnTo>
                    <a:pt x="374" y="1894"/>
                  </a:lnTo>
                  <a:lnTo>
                    <a:pt x="406" y="1884"/>
                  </a:lnTo>
                  <a:lnTo>
                    <a:pt x="433" y="1863"/>
                  </a:lnTo>
                  <a:lnTo>
                    <a:pt x="455" y="1843"/>
                  </a:lnTo>
                  <a:lnTo>
                    <a:pt x="473" y="1813"/>
                  </a:lnTo>
                  <a:lnTo>
                    <a:pt x="487" y="1767"/>
                  </a:lnTo>
                  <a:lnTo>
                    <a:pt x="500" y="1717"/>
                  </a:lnTo>
                  <a:lnTo>
                    <a:pt x="511" y="1656"/>
                  </a:lnTo>
                  <a:lnTo>
                    <a:pt x="518" y="1579"/>
                  </a:lnTo>
                  <a:lnTo>
                    <a:pt x="525" y="1488"/>
                  </a:lnTo>
                  <a:lnTo>
                    <a:pt x="530" y="1371"/>
                  </a:lnTo>
                  <a:lnTo>
                    <a:pt x="531" y="1230"/>
                  </a:lnTo>
                  <a:lnTo>
                    <a:pt x="528" y="1048"/>
                  </a:lnTo>
                  <a:lnTo>
                    <a:pt x="520" y="901"/>
                  </a:lnTo>
                  <a:lnTo>
                    <a:pt x="506" y="778"/>
                  </a:lnTo>
                  <a:lnTo>
                    <a:pt x="487" y="693"/>
                  </a:lnTo>
                  <a:lnTo>
                    <a:pt x="459" y="632"/>
                  </a:lnTo>
                  <a:lnTo>
                    <a:pt x="426" y="587"/>
                  </a:lnTo>
                  <a:lnTo>
                    <a:pt x="385" y="561"/>
                  </a:lnTo>
                  <a:lnTo>
                    <a:pt x="337" y="551"/>
                  </a:lnTo>
                  <a:lnTo>
                    <a:pt x="269" y="551"/>
                  </a:lnTo>
                  <a:lnTo>
                    <a:pt x="269" y="551"/>
                  </a:lnTo>
                  <a:close/>
                  <a:moveTo>
                    <a:pt x="0" y="0"/>
                  </a:moveTo>
                  <a:lnTo>
                    <a:pt x="399" y="0"/>
                  </a:lnTo>
                  <a:lnTo>
                    <a:pt x="455" y="0"/>
                  </a:lnTo>
                  <a:lnTo>
                    <a:pt x="506" y="20"/>
                  </a:lnTo>
                  <a:lnTo>
                    <a:pt x="552" y="45"/>
                  </a:lnTo>
                  <a:lnTo>
                    <a:pt x="592" y="86"/>
                  </a:lnTo>
                  <a:lnTo>
                    <a:pt x="626" y="136"/>
                  </a:lnTo>
                  <a:lnTo>
                    <a:pt x="657" y="197"/>
                  </a:lnTo>
                  <a:lnTo>
                    <a:pt x="685" y="262"/>
                  </a:lnTo>
                  <a:lnTo>
                    <a:pt x="711" y="343"/>
                  </a:lnTo>
                  <a:lnTo>
                    <a:pt x="733" y="429"/>
                  </a:lnTo>
                  <a:lnTo>
                    <a:pt x="752" y="531"/>
                  </a:lnTo>
                  <a:lnTo>
                    <a:pt x="768" y="632"/>
                  </a:lnTo>
                  <a:lnTo>
                    <a:pt x="780" y="738"/>
                  </a:lnTo>
                  <a:lnTo>
                    <a:pt x="789" y="855"/>
                  </a:lnTo>
                  <a:lnTo>
                    <a:pt x="796" y="972"/>
                  </a:lnTo>
                  <a:lnTo>
                    <a:pt x="800" y="1094"/>
                  </a:lnTo>
                  <a:lnTo>
                    <a:pt x="802" y="1220"/>
                  </a:lnTo>
                  <a:lnTo>
                    <a:pt x="799" y="1402"/>
                  </a:lnTo>
                  <a:lnTo>
                    <a:pt x="793" y="1569"/>
                  </a:lnTo>
                  <a:lnTo>
                    <a:pt x="783" y="1707"/>
                  </a:lnTo>
                  <a:lnTo>
                    <a:pt x="770" y="1828"/>
                  </a:lnTo>
                  <a:lnTo>
                    <a:pt x="752" y="1929"/>
                  </a:lnTo>
                  <a:lnTo>
                    <a:pt x="732" y="2026"/>
                  </a:lnTo>
                  <a:lnTo>
                    <a:pt x="708" y="2112"/>
                  </a:lnTo>
                  <a:lnTo>
                    <a:pt x="683" y="2193"/>
                  </a:lnTo>
                  <a:lnTo>
                    <a:pt x="653" y="2258"/>
                  </a:lnTo>
                  <a:lnTo>
                    <a:pt x="623" y="2313"/>
                  </a:lnTo>
                  <a:lnTo>
                    <a:pt x="592" y="2354"/>
                  </a:lnTo>
                  <a:lnTo>
                    <a:pt x="561" y="2390"/>
                  </a:lnTo>
                  <a:lnTo>
                    <a:pt x="516" y="2415"/>
                  </a:lnTo>
                  <a:lnTo>
                    <a:pt x="476" y="2435"/>
                  </a:lnTo>
                  <a:lnTo>
                    <a:pt x="435" y="2450"/>
                  </a:lnTo>
                  <a:lnTo>
                    <a:pt x="399" y="2455"/>
                  </a:lnTo>
                  <a:lnTo>
                    <a:pt x="0" y="24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480" y="547560"/>
              <a:ext cx="96840" cy="884520"/>
            </a:xfrm>
            <a:custGeom>
              <a:avLst/>
              <a:gdLst/>
              <a:ahLst/>
              <a:rect l="l" t="t" r="r" b="b"/>
              <a:pathLst>
                <a:path w="270" h="2456">
                  <a:moveTo>
                    <a:pt x="0" y="0"/>
                  </a:moveTo>
                  <a:lnTo>
                    <a:pt x="269" y="0"/>
                  </a:lnTo>
                  <a:lnTo>
                    <a:pt x="269" y="2455"/>
                  </a:lnTo>
                  <a:lnTo>
                    <a:pt x="0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34920" y="547560"/>
              <a:ext cx="341280" cy="884520"/>
            </a:xfrm>
            <a:custGeom>
              <a:avLst/>
              <a:gdLst/>
              <a:ahLst/>
              <a:rect l="l" t="t" r="r" b="b"/>
              <a:pathLst>
                <a:path w="948" h="2456">
                  <a:moveTo>
                    <a:pt x="565" y="1519"/>
                  </a:moveTo>
                  <a:lnTo>
                    <a:pt x="471" y="632"/>
                  </a:lnTo>
                  <a:lnTo>
                    <a:pt x="375" y="1519"/>
                  </a:lnTo>
                  <a:lnTo>
                    <a:pt x="565" y="1519"/>
                  </a:lnTo>
                  <a:lnTo>
                    <a:pt x="565" y="1519"/>
                  </a:lnTo>
                  <a:close/>
                  <a:moveTo>
                    <a:pt x="622" y="2051"/>
                  </a:moveTo>
                  <a:lnTo>
                    <a:pt x="318" y="2051"/>
                  </a:lnTo>
                  <a:lnTo>
                    <a:pt x="274" y="2455"/>
                  </a:lnTo>
                  <a:lnTo>
                    <a:pt x="0" y="2455"/>
                  </a:lnTo>
                  <a:lnTo>
                    <a:pt x="325" y="0"/>
                  </a:lnTo>
                  <a:lnTo>
                    <a:pt x="620" y="0"/>
                  </a:lnTo>
                  <a:lnTo>
                    <a:pt x="947" y="2455"/>
                  </a:lnTo>
                  <a:lnTo>
                    <a:pt x="666" y="2455"/>
                  </a:lnTo>
                  <a:lnTo>
                    <a:pt x="622" y="2051"/>
                  </a:lnTo>
                  <a:lnTo>
                    <a:pt x="622" y="205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3840" y="533520"/>
              <a:ext cx="318960" cy="912600"/>
            </a:xfrm>
            <a:custGeom>
              <a:avLst/>
              <a:gdLst/>
              <a:ahLst/>
              <a:rect l="l" t="t" r="r" b="b"/>
              <a:pathLst>
                <a:path w="887" h="2536">
                  <a:moveTo>
                    <a:pt x="470" y="1609"/>
                  </a:moveTo>
                  <a:lnTo>
                    <a:pt x="470" y="1098"/>
                  </a:lnTo>
                  <a:lnTo>
                    <a:pt x="886" y="1098"/>
                  </a:lnTo>
                  <a:lnTo>
                    <a:pt x="886" y="2141"/>
                  </a:lnTo>
                  <a:lnTo>
                    <a:pt x="828" y="2247"/>
                  </a:lnTo>
                  <a:lnTo>
                    <a:pt x="774" y="2327"/>
                  </a:lnTo>
                  <a:lnTo>
                    <a:pt x="723" y="2398"/>
                  </a:lnTo>
                  <a:lnTo>
                    <a:pt x="676" y="2454"/>
                  </a:lnTo>
                  <a:lnTo>
                    <a:pt x="626" y="2484"/>
                  </a:lnTo>
                  <a:lnTo>
                    <a:pt x="575" y="2515"/>
                  </a:lnTo>
                  <a:lnTo>
                    <a:pt x="518" y="2530"/>
                  </a:lnTo>
                  <a:lnTo>
                    <a:pt x="457" y="2535"/>
                  </a:lnTo>
                  <a:lnTo>
                    <a:pt x="382" y="2525"/>
                  </a:lnTo>
                  <a:lnTo>
                    <a:pt x="315" y="2494"/>
                  </a:lnTo>
                  <a:lnTo>
                    <a:pt x="257" y="2454"/>
                  </a:lnTo>
                  <a:lnTo>
                    <a:pt x="205" y="2388"/>
                  </a:lnTo>
                  <a:lnTo>
                    <a:pt x="159" y="2302"/>
                  </a:lnTo>
                  <a:lnTo>
                    <a:pt x="118" y="2201"/>
                  </a:lnTo>
                  <a:lnTo>
                    <a:pt x="83" y="2080"/>
                  </a:lnTo>
                  <a:lnTo>
                    <a:pt x="54" y="1943"/>
                  </a:lnTo>
                  <a:lnTo>
                    <a:pt x="30" y="1786"/>
                  </a:lnTo>
                  <a:lnTo>
                    <a:pt x="13" y="1624"/>
                  </a:lnTo>
                  <a:lnTo>
                    <a:pt x="3" y="1452"/>
                  </a:lnTo>
                  <a:lnTo>
                    <a:pt x="0" y="1265"/>
                  </a:lnTo>
                  <a:lnTo>
                    <a:pt x="3" y="1073"/>
                  </a:lnTo>
                  <a:lnTo>
                    <a:pt x="15" y="890"/>
                  </a:lnTo>
                  <a:lnTo>
                    <a:pt x="33" y="719"/>
                  </a:lnTo>
                  <a:lnTo>
                    <a:pt x="59" y="567"/>
                  </a:lnTo>
                  <a:lnTo>
                    <a:pt x="90" y="425"/>
                  </a:lnTo>
                  <a:lnTo>
                    <a:pt x="131" y="303"/>
                  </a:lnTo>
                  <a:lnTo>
                    <a:pt x="176" y="203"/>
                  </a:lnTo>
                  <a:lnTo>
                    <a:pt x="230" y="117"/>
                  </a:lnTo>
                  <a:lnTo>
                    <a:pt x="278" y="61"/>
                  </a:lnTo>
                  <a:lnTo>
                    <a:pt x="334" y="25"/>
                  </a:lnTo>
                  <a:lnTo>
                    <a:pt x="398" y="0"/>
                  </a:lnTo>
                  <a:lnTo>
                    <a:pt x="469" y="0"/>
                  </a:lnTo>
                  <a:lnTo>
                    <a:pt x="537" y="0"/>
                  </a:lnTo>
                  <a:lnTo>
                    <a:pt x="595" y="15"/>
                  </a:lnTo>
                  <a:lnTo>
                    <a:pt x="643" y="41"/>
                  </a:lnTo>
                  <a:lnTo>
                    <a:pt x="686" y="71"/>
                  </a:lnTo>
                  <a:lnTo>
                    <a:pt x="718" y="112"/>
                  </a:lnTo>
                  <a:lnTo>
                    <a:pt x="750" y="162"/>
                  </a:lnTo>
                  <a:lnTo>
                    <a:pt x="778" y="223"/>
                  </a:lnTo>
                  <a:lnTo>
                    <a:pt x="805" y="298"/>
                  </a:lnTo>
                  <a:lnTo>
                    <a:pt x="825" y="379"/>
                  </a:lnTo>
                  <a:lnTo>
                    <a:pt x="845" y="476"/>
                  </a:lnTo>
                  <a:lnTo>
                    <a:pt x="860" y="577"/>
                  </a:lnTo>
                  <a:lnTo>
                    <a:pt x="875" y="694"/>
                  </a:lnTo>
                  <a:lnTo>
                    <a:pt x="615" y="824"/>
                  </a:lnTo>
                  <a:lnTo>
                    <a:pt x="605" y="754"/>
                  </a:lnTo>
                  <a:lnTo>
                    <a:pt x="594" y="699"/>
                  </a:lnTo>
                  <a:lnTo>
                    <a:pt x="578" y="653"/>
                  </a:lnTo>
                  <a:lnTo>
                    <a:pt x="561" y="612"/>
                  </a:lnTo>
                  <a:lnTo>
                    <a:pt x="539" y="577"/>
                  </a:lnTo>
                  <a:lnTo>
                    <a:pt x="517" y="552"/>
                  </a:lnTo>
                  <a:lnTo>
                    <a:pt x="490" y="541"/>
                  </a:lnTo>
                  <a:lnTo>
                    <a:pt x="463" y="536"/>
                  </a:lnTo>
                  <a:lnTo>
                    <a:pt x="420" y="547"/>
                  </a:lnTo>
                  <a:lnTo>
                    <a:pt x="382" y="577"/>
                  </a:lnTo>
                  <a:lnTo>
                    <a:pt x="350" y="633"/>
                  </a:lnTo>
                  <a:lnTo>
                    <a:pt x="323" y="709"/>
                  </a:lnTo>
                  <a:lnTo>
                    <a:pt x="298" y="804"/>
                  </a:lnTo>
                  <a:lnTo>
                    <a:pt x="283" y="931"/>
                  </a:lnTo>
                  <a:lnTo>
                    <a:pt x="273" y="1083"/>
                  </a:lnTo>
                  <a:lnTo>
                    <a:pt x="270" y="1260"/>
                  </a:lnTo>
                  <a:lnTo>
                    <a:pt x="273" y="1442"/>
                  </a:lnTo>
                  <a:lnTo>
                    <a:pt x="283" y="1594"/>
                  </a:lnTo>
                  <a:lnTo>
                    <a:pt x="298" y="1726"/>
                  </a:lnTo>
                  <a:lnTo>
                    <a:pt x="323" y="1826"/>
                  </a:lnTo>
                  <a:lnTo>
                    <a:pt x="351" y="1902"/>
                  </a:lnTo>
                  <a:lnTo>
                    <a:pt x="386" y="1953"/>
                  </a:lnTo>
                  <a:lnTo>
                    <a:pt x="425" y="1983"/>
                  </a:lnTo>
                  <a:lnTo>
                    <a:pt x="470" y="1999"/>
                  </a:lnTo>
                  <a:lnTo>
                    <a:pt x="492" y="1994"/>
                  </a:lnTo>
                  <a:lnTo>
                    <a:pt x="514" y="1983"/>
                  </a:lnTo>
                  <a:lnTo>
                    <a:pt x="537" y="1973"/>
                  </a:lnTo>
                  <a:lnTo>
                    <a:pt x="558" y="1963"/>
                  </a:lnTo>
                  <a:lnTo>
                    <a:pt x="578" y="1938"/>
                  </a:lnTo>
                  <a:lnTo>
                    <a:pt x="601" y="1907"/>
                  </a:lnTo>
                  <a:lnTo>
                    <a:pt x="623" y="1877"/>
                  </a:lnTo>
                  <a:lnTo>
                    <a:pt x="652" y="1836"/>
                  </a:lnTo>
                  <a:lnTo>
                    <a:pt x="652" y="1609"/>
                  </a:lnTo>
                  <a:lnTo>
                    <a:pt x="470" y="1609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3280" y="547560"/>
              <a:ext cx="307800" cy="884520"/>
            </a:xfrm>
            <a:custGeom>
              <a:avLst/>
              <a:gdLst/>
              <a:ahLst/>
              <a:rect l="l" t="t" r="r" b="b"/>
              <a:pathLst>
                <a:path w="855" h="2456">
                  <a:moveTo>
                    <a:pt x="270" y="992"/>
                  </a:moveTo>
                  <a:lnTo>
                    <a:pt x="382" y="992"/>
                  </a:lnTo>
                  <a:lnTo>
                    <a:pt x="395" y="987"/>
                  </a:lnTo>
                  <a:lnTo>
                    <a:pt x="410" y="982"/>
                  </a:lnTo>
                  <a:lnTo>
                    <a:pt x="429" y="972"/>
                  </a:lnTo>
                  <a:lnTo>
                    <a:pt x="453" y="962"/>
                  </a:lnTo>
                  <a:lnTo>
                    <a:pt x="465" y="947"/>
                  </a:lnTo>
                  <a:lnTo>
                    <a:pt x="476" y="931"/>
                  </a:lnTo>
                  <a:lnTo>
                    <a:pt x="486" y="906"/>
                  </a:lnTo>
                  <a:lnTo>
                    <a:pt x="496" y="881"/>
                  </a:lnTo>
                  <a:lnTo>
                    <a:pt x="503" y="845"/>
                  </a:lnTo>
                  <a:lnTo>
                    <a:pt x="509" y="814"/>
                  </a:lnTo>
                  <a:lnTo>
                    <a:pt x="512" y="773"/>
                  </a:lnTo>
                  <a:lnTo>
                    <a:pt x="513" y="738"/>
                  </a:lnTo>
                  <a:lnTo>
                    <a:pt x="510" y="678"/>
                  </a:lnTo>
                  <a:lnTo>
                    <a:pt x="506" y="632"/>
                  </a:lnTo>
                  <a:lnTo>
                    <a:pt x="498" y="592"/>
                  </a:lnTo>
                  <a:lnTo>
                    <a:pt x="488" y="551"/>
                  </a:lnTo>
                  <a:lnTo>
                    <a:pt x="471" y="526"/>
                  </a:lnTo>
                  <a:lnTo>
                    <a:pt x="448" y="506"/>
                  </a:lnTo>
                  <a:lnTo>
                    <a:pt x="422" y="490"/>
                  </a:lnTo>
                  <a:lnTo>
                    <a:pt x="387" y="490"/>
                  </a:lnTo>
                  <a:lnTo>
                    <a:pt x="270" y="490"/>
                  </a:lnTo>
                  <a:lnTo>
                    <a:pt x="270" y="992"/>
                  </a:lnTo>
                  <a:lnTo>
                    <a:pt x="270" y="992"/>
                  </a:lnTo>
                  <a:close/>
                  <a:moveTo>
                    <a:pt x="0" y="2455"/>
                  </a:moveTo>
                  <a:lnTo>
                    <a:pt x="0" y="0"/>
                  </a:lnTo>
                  <a:lnTo>
                    <a:pt x="446" y="0"/>
                  </a:lnTo>
                  <a:lnTo>
                    <a:pt x="503" y="0"/>
                  </a:lnTo>
                  <a:lnTo>
                    <a:pt x="556" y="10"/>
                  </a:lnTo>
                  <a:lnTo>
                    <a:pt x="600" y="30"/>
                  </a:lnTo>
                  <a:lnTo>
                    <a:pt x="637" y="60"/>
                  </a:lnTo>
                  <a:lnTo>
                    <a:pt x="668" y="96"/>
                  </a:lnTo>
                  <a:lnTo>
                    <a:pt x="696" y="142"/>
                  </a:lnTo>
                  <a:lnTo>
                    <a:pt x="720" y="202"/>
                  </a:lnTo>
                  <a:lnTo>
                    <a:pt x="743" y="282"/>
                  </a:lnTo>
                  <a:lnTo>
                    <a:pt x="760" y="364"/>
                  </a:lnTo>
                  <a:lnTo>
                    <a:pt x="773" y="460"/>
                  </a:lnTo>
                  <a:lnTo>
                    <a:pt x="780" y="566"/>
                  </a:lnTo>
                  <a:lnTo>
                    <a:pt x="783" y="678"/>
                  </a:lnTo>
                  <a:lnTo>
                    <a:pt x="780" y="773"/>
                  </a:lnTo>
                  <a:lnTo>
                    <a:pt x="774" y="871"/>
                  </a:lnTo>
                  <a:lnTo>
                    <a:pt x="766" y="957"/>
                  </a:lnTo>
                  <a:lnTo>
                    <a:pt x="753" y="1033"/>
                  </a:lnTo>
                  <a:lnTo>
                    <a:pt x="734" y="1104"/>
                  </a:lnTo>
                  <a:lnTo>
                    <a:pt x="715" y="1165"/>
                  </a:lnTo>
                  <a:lnTo>
                    <a:pt x="692" y="1220"/>
                  </a:lnTo>
                  <a:lnTo>
                    <a:pt x="668" y="1270"/>
                  </a:lnTo>
                  <a:lnTo>
                    <a:pt x="647" y="1301"/>
                  </a:lnTo>
                  <a:lnTo>
                    <a:pt x="625" y="1326"/>
                  </a:lnTo>
                  <a:lnTo>
                    <a:pt x="600" y="1346"/>
                  </a:lnTo>
                  <a:lnTo>
                    <a:pt x="573" y="1371"/>
                  </a:lnTo>
                  <a:lnTo>
                    <a:pt x="594" y="1392"/>
                  </a:lnTo>
                  <a:lnTo>
                    <a:pt x="612" y="1412"/>
                  </a:lnTo>
                  <a:lnTo>
                    <a:pt x="628" y="1437"/>
                  </a:lnTo>
                  <a:lnTo>
                    <a:pt x="642" y="1463"/>
                  </a:lnTo>
                  <a:lnTo>
                    <a:pt x="649" y="1478"/>
                  </a:lnTo>
                  <a:lnTo>
                    <a:pt x="660" y="1508"/>
                  </a:lnTo>
                  <a:lnTo>
                    <a:pt x="672" y="1544"/>
                  </a:lnTo>
                  <a:lnTo>
                    <a:pt x="686" y="1589"/>
                  </a:lnTo>
                  <a:lnTo>
                    <a:pt x="697" y="1635"/>
                  </a:lnTo>
                  <a:lnTo>
                    <a:pt x="709" y="1677"/>
                  </a:lnTo>
                  <a:lnTo>
                    <a:pt x="716" y="1717"/>
                  </a:lnTo>
                  <a:lnTo>
                    <a:pt x="723" y="1747"/>
                  </a:lnTo>
                  <a:lnTo>
                    <a:pt x="854" y="2455"/>
                  </a:lnTo>
                  <a:lnTo>
                    <a:pt x="550" y="2455"/>
                  </a:lnTo>
                  <a:lnTo>
                    <a:pt x="407" y="1707"/>
                  </a:lnTo>
                  <a:lnTo>
                    <a:pt x="393" y="1635"/>
                  </a:lnTo>
                  <a:lnTo>
                    <a:pt x="379" y="1584"/>
                  </a:lnTo>
                  <a:lnTo>
                    <a:pt x="368" y="1539"/>
                  </a:lnTo>
                  <a:lnTo>
                    <a:pt x="358" y="1513"/>
                  </a:lnTo>
                  <a:lnTo>
                    <a:pt x="342" y="1493"/>
                  </a:lnTo>
                  <a:lnTo>
                    <a:pt x="328" y="1473"/>
                  </a:lnTo>
                  <a:lnTo>
                    <a:pt x="311" y="1458"/>
                  </a:lnTo>
                  <a:lnTo>
                    <a:pt x="294" y="1458"/>
                  </a:lnTo>
                  <a:lnTo>
                    <a:pt x="270" y="1458"/>
                  </a:lnTo>
                  <a:lnTo>
                    <a:pt x="270" y="2455"/>
                  </a:lnTo>
                  <a:lnTo>
                    <a:pt x="0" y="2455"/>
                  </a:lnTo>
                  <a:lnTo>
                    <a:pt x="0" y="2455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79640" y="547560"/>
              <a:ext cx="341280" cy="884520"/>
            </a:xfrm>
            <a:custGeom>
              <a:avLst/>
              <a:gdLst/>
              <a:ahLst/>
              <a:rect l="l" t="t" r="r" b="b"/>
              <a:pathLst>
                <a:path w="948" h="2456">
                  <a:moveTo>
                    <a:pt x="565" y="1519"/>
                  </a:moveTo>
                  <a:lnTo>
                    <a:pt x="471" y="632"/>
                  </a:lnTo>
                  <a:lnTo>
                    <a:pt x="375" y="1519"/>
                  </a:lnTo>
                  <a:lnTo>
                    <a:pt x="565" y="1519"/>
                  </a:lnTo>
                  <a:lnTo>
                    <a:pt x="565" y="1519"/>
                  </a:lnTo>
                  <a:close/>
                  <a:moveTo>
                    <a:pt x="622" y="2051"/>
                  </a:moveTo>
                  <a:lnTo>
                    <a:pt x="318" y="2051"/>
                  </a:lnTo>
                  <a:lnTo>
                    <a:pt x="274" y="2455"/>
                  </a:lnTo>
                  <a:lnTo>
                    <a:pt x="0" y="2455"/>
                  </a:lnTo>
                  <a:lnTo>
                    <a:pt x="325" y="0"/>
                  </a:lnTo>
                  <a:lnTo>
                    <a:pt x="620" y="0"/>
                  </a:lnTo>
                  <a:lnTo>
                    <a:pt x="947" y="2455"/>
                  </a:lnTo>
                  <a:lnTo>
                    <a:pt x="666" y="2455"/>
                  </a:lnTo>
                  <a:lnTo>
                    <a:pt x="622" y="2051"/>
                  </a:lnTo>
                  <a:lnTo>
                    <a:pt x="622" y="205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51160" y="547560"/>
              <a:ext cx="352440" cy="884520"/>
            </a:xfrm>
            <a:custGeom>
              <a:avLst/>
              <a:gdLst/>
              <a:ahLst/>
              <a:rect l="l" t="t" r="r" b="b"/>
              <a:pathLst>
                <a:path w="979" h="2456">
                  <a:moveTo>
                    <a:pt x="0" y="0"/>
                  </a:moveTo>
                  <a:lnTo>
                    <a:pt x="354" y="0"/>
                  </a:lnTo>
                  <a:lnTo>
                    <a:pt x="490" y="1493"/>
                  </a:lnTo>
                  <a:lnTo>
                    <a:pt x="626" y="0"/>
                  </a:lnTo>
                  <a:lnTo>
                    <a:pt x="978" y="0"/>
                  </a:lnTo>
                  <a:lnTo>
                    <a:pt x="978" y="2455"/>
                  </a:lnTo>
                  <a:lnTo>
                    <a:pt x="759" y="2455"/>
                  </a:lnTo>
                  <a:lnTo>
                    <a:pt x="759" y="582"/>
                  </a:lnTo>
                  <a:lnTo>
                    <a:pt x="588" y="2455"/>
                  </a:lnTo>
                  <a:lnTo>
                    <a:pt x="390" y="2455"/>
                  </a:lnTo>
                  <a:lnTo>
                    <a:pt x="219" y="582"/>
                  </a:lnTo>
                  <a:lnTo>
                    <a:pt x="219" y="2455"/>
                  </a:lnTo>
                  <a:lnTo>
                    <a:pt x="0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9880" y="547560"/>
              <a:ext cx="331920" cy="884520"/>
            </a:xfrm>
            <a:custGeom>
              <a:avLst/>
              <a:gdLst/>
              <a:ahLst/>
              <a:rect l="l" t="t" r="r" b="b"/>
              <a:pathLst>
                <a:path w="923" h="2456">
                  <a:moveTo>
                    <a:pt x="0" y="0"/>
                  </a:moveTo>
                  <a:lnTo>
                    <a:pt x="268" y="0"/>
                  </a:lnTo>
                  <a:lnTo>
                    <a:pt x="268" y="926"/>
                  </a:lnTo>
                  <a:lnTo>
                    <a:pt x="551" y="0"/>
                  </a:lnTo>
                  <a:lnTo>
                    <a:pt x="907" y="0"/>
                  </a:lnTo>
                  <a:lnTo>
                    <a:pt x="589" y="921"/>
                  </a:lnTo>
                  <a:lnTo>
                    <a:pt x="922" y="2455"/>
                  </a:lnTo>
                  <a:lnTo>
                    <a:pt x="591" y="2455"/>
                  </a:lnTo>
                  <a:lnTo>
                    <a:pt x="407" y="1448"/>
                  </a:lnTo>
                  <a:lnTo>
                    <a:pt x="268" y="1858"/>
                  </a:lnTo>
                  <a:lnTo>
                    <a:pt x="268" y="2455"/>
                  </a:lnTo>
                  <a:lnTo>
                    <a:pt x="0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62320" y="533520"/>
              <a:ext cx="325440" cy="912600"/>
            </a:xfrm>
            <a:custGeom>
              <a:avLst/>
              <a:gdLst/>
              <a:ahLst/>
              <a:rect l="l" t="t" r="r" b="b"/>
              <a:pathLst>
                <a:path w="904" h="2536">
                  <a:moveTo>
                    <a:pt x="269" y="1270"/>
                  </a:moveTo>
                  <a:lnTo>
                    <a:pt x="272" y="1442"/>
                  </a:lnTo>
                  <a:lnTo>
                    <a:pt x="280" y="1589"/>
                  </a:lnTo>
                  <a:lnTo>
                    <a:pt x="296" y="1711"/>
                  </a:lnTo>
                  <a:lnTo>
                    <a:pt x="318" y="1806"/>
                  </a:lnTo>
                  <a:lnTo>
                    <a:pt x="345" y="1877"/>
                  </a:lnTo>
                  <a:lnTo>
                    <a:pt x="376" y="1928"/>
                  </a:lnTo>
                  <a:lnTo>
                    <a:pt x="412" y="1958"/>
                  </a:lnTo>
                  <a:lnTo>
                    <a:pt x="452" y="1968"/>
                  </a:lnTo>
                  <a:lnTo>
                    <a:pt x="493" y="1958"/>
                  </a:lnTo>
                  <a:lnTo>
                    <a:pt x="528" y="1928"/>
                  </a:lnTo>
                  <a:lnTo>
                    <a:pt x="560" y="1882"/>
                  </a:lnTo>
                  <a:lnTo>
                    <a:pt x="587" y="1811"/>
                  </a:lnTo>
                  <a:lnTo>
                    <a:pt x="608" y="1716"/>
                  </a:lnTo>
                  <a:lnTo>
                    <a:pt x="622" y="1589"/>
                  </a:lnTo>
                  <a:lnTo>
                    <a:pt x="630" y="1432"/>
                  </a:lnTo>
                  <a:lnTo>
                    <a:pt x="635" y="1240"/>
                  </a:lnTo>
                  <a:lnTo>
                    <a:pt x="630" y="1078"/>
                  </a:lnTo>
                  <a:lnTo>
                    <a:pt x="622" y="941"/>
                  </a:lnTo>
                  <a:lnTo>
                    <a:pt x="608" y="819"/>
                  </a:lnTo>
                  <a:lnTo>
                    <a:pt x="585" y="734"/>
                  </a:lnTo>
                  <a:lnTo>
                    <a:pt x="558" y="658"/>
                  </a:lnTo>
                  <a:lnTo>
                    <a:pt x="525" y="612"/>
                  </a:lnTo>
                  <a:lnTo>
                    <a:pt x="490" y="582"/>
                  </a:lnTo>
                  <a:lnTo>
                    <a:pt x="449" y="572"/>
                  </a:lnTo>
                  <a:lnTo>
                    <a:pt x="409" y="582"/>
                  </a:lnTo>
                  <a:lnTo>
                    <a:pt x="375" y="612"/>
                  </a:lnTo>
                  <a:lnTo>
                    <a:pt x="345" y="663"/>
                  </a:lnTo>
                  <a:lnTo>
                    <a:pt x="318" y="734"/>
                  </a:lnTo>
                  <a:lnTo>
                    <a:pt x="296" y="829"/>
                  </a:lnTo>
                  <a:lnTo>
                    <a:pt x="280" y="951"/>
                  </a:lnTo>
                  <a:lnTo>
                    <a:pt x="272" y="1098"/>
                  </a:lnTo>
                  <a:lnTo>
                    <a:pt x="269" y="1270"/>
                  </a:lnTo>
                  <a:lnTo>
                    <a:pt x="269" y="1270"/>
                  </a:lnTo>
                  <a:close/>
                  <a:moveTo>
                    <a:pt x="0" y="1265"/>
                  </a:moveTo>
                  <a:lnTo>
                    <a:pt x="8" y="982"/>
                  </a:lnTo>
                  <a:lnTo>
                    <a:pt x="29" y="734"/>
                  </a:lnTo>
                  <a:lnTo>
                    <a:pt x="66" y="511"/>
                  </a:lnTo>
                  <a:lnTo>
                    <a:pt x="120" y="329"/>
                  </a:lnTo>
                  <a:lnTo>
                    <a:pt x="184" y="183"/>
                  </a:lnTo>
                  <a:lnTo>
                    <a:pt x="260" y="81"/>
                  </a:lnTo>
                  <a:lnTo>
                    <a:pt x="349" y="20"/>
                  </a:lnTo>
                  <a:lnTo>
                    <a:pt x="449" y="0"/>
                  </a:lnTo>
                  <a:lnTo>
                    <a:pt x="551" y="20"/>
                  </a:lnTo>
                  <a:lnTo>
                    <a:pt x="642" y="81"/>
                  </a:lnTo>
                  <a:lnTo>
                    <a:pt x="719" y="183"/>
                  </a:lnTo>
                  <a:lnTo>
                    <a:pt x="785" y="323"/>
                  </a:lnTo>
                  <a:lnTo>
                    <a:pt x="836" y="506"/>
                  </a:lnTo>
                  <a:lnTo>
                    <a:pt x="873" y="719"/>
                  </a:lnTo>
                  <a:lnTo>
                    <a:pt x="894" y="966"/>
                  </a:lnTo>
                  <a:lnTo>
                    <a:pt x="903" y="1245"/>
                  </a:lnTo>
                  <a:lnTo>
                    <a:pt x="899" y="1452"/>
                  </a:lnTo>
                  <a:lnTo>
                    <a:pt x="890" y="1635"/>
                  </a:lnTo>
                  <a:lnTo>
                    <a:pt x="873" y="1801"/>
                  </a:lnTo>
                  <a:lnTo>
                    <a:pt x="851" y="1953"/>
                  </a:lnTo>
                  <a:lnTo>
                    <a:pt x="822" y="2085"/>
                  </a:lnTo>
                  <a:lnTo>
                    <a:pt x="788" y="2196"/>
                  </a:lnTo>
                  <a:lnTo>
                    <a:pt x="748" y="2297"/>
                  </a:lnTo>
                  <a:lnTo>
                    <a:pt x="703" y="2383"/>
                  </a:lnTo>
                  <a:lnTo>
                    <a:pt x="652" y="2449"/>
                  </a:lnTo>
                  <a:lnTo>
                    <a:pt x="592" y="2494"/>
                  </a:lnTo>
                  <a:lnTo>
                    <a:pt x="530" y="2525"/>
                  </a:lnTo>
                  <a:lnTo>
                    <a:pt x="460" y="2535"/>
                  </a:lnTo>
                  <a:lnTo>
                    <a:pt x="389" y="2525"/>
                  </a:lnTo>
                  <a:lnTo>
                    <a:pt x="326" y="2500"/>
                  </a:lnTo>
                  <a:lnTo>
                    <a:pt x="267" y="2459"/>
                  </a:lnTo>
                  <a:lnTo>
                    <a:pt x="217" y="2403"/>
                  </a:lnTo>
                  <a:lnTo>
                    <a:pt x="169" y="2327"/>
                  </a:lnTo>
                  <a:lnTo>
                    <a:pt x="130" y="2232"/>
                  </a:lnTo>
                  <a:lnTo>
                    <a:pt x="93" y="2115"/>
                  </a:lnTo>
                  <a:lnTo>
                    <a:pt x="60" y="1983"/>
                  </a:lnTo>
                  <a:lnTo>
                    <a:pt x="33" y="1831"/>
                  </a:lnTo>
                  <a:lnTo>
                    <a:pt x="15" y="1660"/>
                  </a:lnTo>
                  <a:lnTo>
                    <a:pt x="3" y="1472"/>
                  </a:lnTo>
                  <a:lnTo>
                    <a:pt x="0" y="1265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06840" y="547560"/>
              <a:ext cx="279360" cy="884520"/>
            </a:xfrm>
            <a:custGeom>
              <a:avLst/>
              <a:gdLst/>
              <a:ahLst/>
              <a:rect l="l" t="t" r="r" b="b"/>
              <a:pathLst>
                <a:path w="777" h="2456">
                  <a:moveTo>
                    <a:pt x="90" y="0"/>
                  </a:moveTo>
                  <a:lnTo>
                    <a:pt x="358" y="0"/>
                  </a:lnTo>
                  <a:lnTo>
                    <a:pt x="358" y="678"/>
                  </a:lnTo>
                  <a:lnTo>
                    <a:pt x="547" y="272"/>
                  </a:lnTo>
                  <a:lnTo>
                    <a:pt x="547" y="743"/>
                  </a:lnTo>
                  <a:lnTo>
                    <a:pt x="358" y="1149"/>
                  </a:lnTo>
                  <a:lnTo>
                    <a:pt x="358" y="1853"/>
                  </a:lnTo>
                  <a:lnTo>
                    <a:pt x="776" y="1853"/>
                  </a:lnTo>
                  <a:lnTo>
                    <a:pt x="776" y="2455"/>
                  </a:lnTo>
                  <a:lnTo>
                    <a:pt x="90" y="2455"/>
                  </a:lnTo>
                  <a:lnTo>
                    <a:pt x="90" y="1727"/>
                  </a:lnTo>
                  <a:lnTo>
                    <a:pt x="0" y="1919"/>
                  </a:lnTo>
                  <a:lnTo>
                    <a:pt x="0" y="1448"/>
                  </a:lnTo>
                  <a:lnTo>
                    <a:pt x="90" y="1255"/>
                  </a:lnTo>
                  <a:lnTo>
                    <a:pt x="9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17880" y="533520"/>
              <a:ext cx="325440" cy="912600"/>
            </a:xfrm>
            <a:custGeom>
              <a:avLst/>
              <a:gdLst/>
              <a:ahLst/>
              <a:rect l="l" t="t" r="r" b="b"/>
              <a:pathLst>
                <a:path w="904" h="2536">
                  <a:moveTo>
                    <a:pt x="268" y="1270"/>
                  </a:moveTo>
                  <a:lnTo>
                    <a:pt x="271" y="1442"/>
                  </a:lnTo>
                  <a:lnTo>
                    <a:pt x="279" y="1589"/>
                  </a:lnTo>
                  <a:lnTo>
                    <a:pt x="295" y="1711"/>
                  </a:lnTo>
                  <a:lnTo>
                    <a:pt x="318" y="1806"/>
                  </a:lnTo>
                  <a:lnTo>
                    <a:pt x="343" y="1877"/>
                  </a:lnTo>
                  <a:lnTo>
                    <a:pt x="376" y="1928"/>
                  </a:lnTo>
                  <a:lnTo>
                    <a:pt x="411" y="1958"/>
                  </a:lnTo>
                  <a:lnTo>
                    <a:pt x="451" y="1968"/>
                  </a:lnTo>
                  <a:lnTo>
                    <a:pt x="492" y="1958"/>
                  </a:lnTo>
                  <a:lnTo>
                    <a:pt x="528" y="1928"/>
                  </a:lnTo>
                  <a:lnTo>
                    <a:pt x="560" y="1882"/>
                  </a:lnTo>
                  <a:lnTo>
                    <a:pt x="587" y="1811"/>
                  </a:lnTo>
                  <a:lnTo>
                    <a:pt x="607" y="1716"/>
                  </a:lnTo>
                  <a:lnTo>
                    <a:pt x="621" y="1589"/>
                  </a:lnTo>
                  <a:lnTo>
                    <a:pt x="631" y="1432"/>
                  </a:lnTo>
                  <a:lnTo>
                    <a:pt x="635" y="1240"/>
                  </a:lnTo>
                  <a:lnTo>
                    <a:pt x="631" y="1078"/>
                  </a:lnTo>
                  <a:lnTo>
                    <a:pt x="621" y="941"/>
                  </a:lnTo>
                  <a:lnTo>
                    <a:pt x="607" y="819"/>
                  </a:lnTo>
                  <a:lnTo>
                    <a:pt x="585" y="734"/>
                  </a:lnTo>
                  <a:lnTo>
                    <a:pt x="558" y="658"/>
                  </a:lnTo>
                  <a:lnTo>
                    <a:pt x="526" y="612"/>
                  </a:lnTo>
                  <a:lnTo>
                    <a:pt x="489" y="582"/>
                  </a:lnTo>
                  <a:lnTo>
                    <a:pt x="448" y="572"/>
                  </a:lnTo>
                  <a:lnTo>
                    <a:pt x="408" y="582"/>
                  </a:lnTo>
                  <a:lnTo>
                    <a:pt x="374" y="612"/>
                  </a:lnTo>
                  <a:lnTo>
                    <a:pt x="343" y="663"/>
                  </a:lnTo>
                  <a:lnTo>
                    <a:pt x="318" y="734"/>
                  </a:lnTo>
                  <a:lnTo>
                    <a:pt x="295" y="829"/>
                  </a:lnTo>
                  <a:lnTo>
                    <a:pt x="279" y="951"/>
                  </a:lnTo>
                  <a:lnTo>
                    <a:pt x="271" y="1098"/>
                  </a:lnTo>
                  <a:lnTo>
                    <a:pt x="268" y="1270"/>
                  </a:lnTo>
                  <a:lnTo>
                    <a:pt x="268" y="1270"/>
                  </a:lnTo>
                  <a:close/>
                  <a:moveTo>
                    <a:pt x="0" y="1265"/>
                  </a:moveTo>
                  <a:lnTo>
                    <a:pt x="7" y="982"/>
                  </a:lnTo>
                  <a:lnTo>
                    <a:pt x="28" y="734"/>
                  </a:lnTo>
                  <a:lnTo>
                    <a:pt x="65" y="511"/>
                  </a:lnTo>
                  <a:lnTo>
                    <a:pt x="119" y="329"/>
                  </a:lnTo>
                  <a:lnTo>
                    <a:pt x="183" y="183"/>
                  </a:lnTo>
                  <a:lnTo>
                    <a:pt x="259" y="81"/>
                  </a:lnTo>
                  <a:lnTo>
                    <a:pt x="348" y="20"/>
                  </a:lnTo>
                  <a:lnTo>
                    <a:pt x="448" y="0"/>
                  </a:lnTo>
                  <a:lnTo>
                    <a:pt x="551" y="20"/>
                  </a:lnTo>
                  <a:lnTo>
                    <a:pt x="642" y="81"/>
                  </a:lnTo>
                  <a:lnTo>
                    <a:pt x="719" y="183"/>
                  </a:lnTo>
                  <a:lnTo>
                    <a:pt x="785" y="323"/>
                  </a:lnTo>
                  <a:lnTo>
                    <a:pt x="837" y="506"/>
                  </a:lnTo>
                  <a:lnTo>
                    <a:pt x="872" y="719"/>
                  </a:lnTo>
                  <a:lnTo>
                    <a:pt x="894" y="966"/>
                  </a:lnTo>
                  <a:lnTo>
                    <a:pt x="903" y="1245"/>
                  </a:lnTo>
                  <a:lnTo>
                    <a:pt x="899" y="1452"/>
                  </a:lnTo>
                  <a:lnTo>
                    <a:pt x="889" y="1635"/>
                  </a:lnTo>
                  <a:lnTo>
                    <a:pt x="872" y="1801"/>
                  </a:lnTo>
                  <a:lnTo>
                    <a:pt x="851" y="1953"/>
                  </a:lnTo>
                  <a:lnTo>
                    <a:pt x="822" y="2085"/>
                  </a:lnTo>
                  <a:lnTo>
                    <a:pt x="788" y="2196"/>
                  </a:lnTo>
                  <a:lnTo>
                    <a:pt x="747" y="2297"/>
                  </a:lnTo>
                  <a:lnTo>
                    <a:pt x="703" y="2383"/>
                  </a:lnTo>
                  <a:lnTo>
                    <a:pt x="652" y="2449"/>
                  </a:lnTo>
                  <a:lnTo>
                    <a:pt x="593" y="2494"/>
                  </a:lnTo>
                  <a:lnTo>
                    <a:pt x="530" y="2525"/>
                  </a:lnTo>
                  <a:lnTo>
                    <a:pt x="461" y="2535"/>
                  </a:lnTo>
                  <a:lnTo>
                    <a:pt x="388" y="2525"/>
                  </a:lnTo>
                  <a:lnTo>
                    <a:pt x="325" y="2500"/>
                  </a:lnTo>
                  <a:lnTo>
                    <a:pt x="266" y="2459"/>
                  </a:lnTo>
                  <a:lnTo>
                    <a:pt x="216" y="2403"/>
                  </a:lnTo>
                  <a:lnTo>
                    <a:pt x="169" y="2327"/>
                  </a:lnTo>
                  <a:lnTo>
                    <a:pt x="129" y="2232"/>
                  </a:lnTo>
                  <a:lnTo>
                    <a:pt x="91" y="2115"/>
                  </a:lnTo>
                  <a:lnTo>
                    <a:pt x="59" y="1983"/>
                  </a:lnTo>
                  <a:lnTo>
                    <a:pt x="32" y="1831"/>
                  </a:lnTo>
                  <a:lnTo>
                    <a:pt x="14" y="1660"/>
                  </a:lnTo>
                  <a:lnTo>
                    <a:pt x="3" y="1472"/>
                  </a:lnTo>
                  <a:lnTo>
                    <a:pt x="0" y="1265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62400" y="547560"/>
              <a:ext cx="438120" cy="884520"/>
            </a:xfrm>
            <a:custGeom>
              <a:avLst/>
              <a:gdLst/>
              <a:ahLst/>
              <a:rect l="l" t="t" r="r" b="b"/>
              <a:pathLst>
                <a:path w="1216" h="2456">
                  <a:moveTo>
                    <a:pt x="0" y="0"/>
                  </a:moveTo>
                  <a:lnTo>
                    <a:pt x="255" y="0"/>
                  </a:lnTo>
                  <a:lnTo>
                    <a:pt x="348" y="1371"/>
                  </a:lnTo>
                  <a:lnTo>
                    <a:pt x="482" y="0"/>
                  </a:lnTo>
                  <a:lnTo>
                    <a:pt x="736" y="0"/>
                  </a:lnTo>
                  <a:lnTo>
                    <a:pt x="870" y="1371"/>
                  </a:lnTo>
                  <a:lnTo>
                    <a:pt x="961" y="0"/>
                  </a:lnTo>
                  <a:lnTo>
                    <a:pt x="1215" y="0"/>
                  </a:lnTo>
                  <a:lnTo>
                    <a:pt x="1023" y="2455"/>
                  </a:lnTo>
                  <a:lnTo>
                    <a:pt x="762" y="2455"/>
                  </a:lnTo>
                  <a:lnTo>
                    <a:pt x="610" y="906"/>
                  </a:lnTo>
                  <a:lnTo>
                    <a:pt x="457" y="2455"/>
                  </a:lnTo>
                  <a:lnTo>
                    <a:pt x="193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00520" y="547560"/>
              <a:ext cx="341280" cy="884520"/>
            </a:xfrm>
            <a:custGeom>
              <a:avLst/>
              <a:gdLst/>
              <a:ahLst/>
              <a:rect l="l" t="t" r="r" b="b"/>
              <a:pathLst>
                <a:path w="948" h="2456">
                  <a:moveTo>
                    <a:pt x="0" y="0"/>
                  </a:moveTo>
                  <a:lnTo>
                    <a:pt x="298" y="0"/>
                  </a:lnTo>
                  <a:lnTo>
                    <a:pt x="476" y="825"/>
                  </a:lnTo>
                  <a:lnTo>
                    <a:pt x="650" y="0"/>
                  </a:lnTo>
                  <a:lnTo>
                    <a:pt x="947" y="0"/>
                  </a:lnTo>
                  <a:lnTo>
                    <a:pt x="609" y="1427"/>
                  </a:lnTo>
                  <a:lnTo>
                    <a:pt x="609" y="2455"/>
                  </a:lnTo>
                  <a:lnTo>
                    <a:pt x="338" y="2455"/>
                  </a:lnTo>
                  <a:lnTo>
                    <a:pt x="338" y="1427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18200" y="547560"/>
              <a:ext cx="266760" cy="884520"/>
            </a:xfrm>
            <a:custGeom>
              <a:avLst/>
              <a:gdLst/>
              <a:ahLst/>
              <a:rect l="l" t="t" r="r" b="b"/>
              <a:pathLst>
                <a:path w="741" h="2456">
                  <a:moveTo>
                    <a:pt x="270" y="1043"/>
                  </a:moveTo>
                  <a:lnTo>
                    <a:pt x="336" y="1043"/>
                  </a:lnTo>
                  <a:lnTo>
                    <a:pt x="373" y="1038"/>
                  </a:lnTo>
                  <a:lnTo>
                    <a:pt x="403" y="1023"/>
                  </a:lnTo>
                  <a:lnTo>
                    <a:pt x="427" y="1002"/>
                  </a:lnTo>
                  <a:lnTo>
                    <a:pt x="447" y="967"/>
                  </a:lnTo>
                  <a:lnTo>
                    <a:pt x="461" y="921"/>
                  </a:lnTo>
                  <a:lnTo>
                    <a:pt x="471" y="881"/>
                  </a:lnTo>
                  <a:lnTo>
                    <a:pt x="477" y="825"/>
                  </a:lnTo>
                  <a:lnTo>
                    <a:pt x="479" y="773"/>
                  </a:lnTo>
                  <a:lnTo>
                    <a:pt x="477" y="713"/>
                  </a:lnTo>
                  <a:lnTo>
                    <a:pt x="472" y="663"/>
                  </a:lnTo>
                  <a:lnTo>
                    <a:pt x="464" y="617"/>
                  </a:lnTo>
                  <a:lnTo>
                    <a:pt x="451" y="577"/>
                  </a:lnTo>
                  <a:lnTo>
                    <a:pt x="434" y="541"/>
                  </a:lnTo>
                  <a:lnTo>
                    <a:pt x="411" y="516"/>
                  </a:lnTo>
                  <a:lnTo>
                    <a:pt x="383" y="500"/>
                  </a:lnTo>
                  <a:lnTo>
                    <a:pt x="348" y="495"/>
                  </a:lnTo>
                  <a:lnTo>
                    <a:pt x="270" y="495"/>
                  </a:lnTo>
                  <a:lnTo>
                    <a:pt x="270" y="1043"/>
                  </a:lnTo>
                  <a:lnTo>
                    <a:pt x="270" y="1043"/>
                  </a:lnTo>
                  <a:close/>
                  <a:moveTo>
                    <a:pt x="0" y="0"/>
                  </a:moveTo>
                  <a:lnTo>
                    <a:pt x="448" y="0"/>
                  </a:lnTo>
                  <a:lnTo>
                    <a:pt x="516" y="10"/>
                  </a:lnTo>
                  <a:lnTo>
                    <a:pt x="576" y="45"/>
                  </a:lnTo>
                  <a:lnTo>
                    <a:pt x="627" y="106"/>
                  </a:lnTo>
                  <a:lnTo>
                    <a:pt x="668" y="192"/>
                  </a:lnTo>
                  <a:lnTo>
                    <a:pt x="698" y="303"/>
                  </a:lnTo>
                  <a:lnTo>
                    <a:pt x="722" y="429"/>
                  </a:lnTo>
                  <a:lnTo>
                    <a:pt x="735" y="582"/>
                  </a:lnTo>
                  <a:lnTo>
                    <a:pt x="740" y="753"/>
                  </a:lnTo>
                  <a:lnTo>
                    <a:pt x="735" y="926"/>
                  </a:lnTo>
                  <a:lnTo>
                    <a:pt x="721" y="1084"/>
                  </a:lnTo>
                  <a:lnTo>
                    <a:pt x="695" y="1215"/>
                  </a:lnTo>
                  <a:lnTo>
                    <a:pt x="661" y="1331"/>
                  </a:lnTo>
                  <a:lnTo>
                    <a:pt x="616" y="1422"/>
                  </a:lnTo>
                  <a:lnTo>
                    <a:pt x="559" y="1493"/>
                  </a:lnTo>
                  <a:lnTo>
                    <a:pt x="494" y="1529"/>
                  </a:lnTo>
                  <a:lnTo>
                    <a:pt x="419" y="1544"/>
                  </a:lnTo>
                  <a:lnTo>
                    <a:pt x="270" y="1544"/>
                  </a:lnTo>
                  <a:lnTo>
                    <a:pt x="270" y="2455"/>
                  </a:lnTo>
                  <a:lnTo>
                    <a:pt x="0" y="24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35720" y="547560"/>
              <a:ext cx="307800" cy="884520"/>
            </a:xfrm>
            <a:custGeom>
              <a:avLst/>
              <a:gdLst/>
              <a:ahLst/>
              <a:rect l="l" t="t" r="r" b="b"/>
              <a:pathLst>
                <a:path w="856" h="2456">
                  <a:moveTo>
                    <a:pt x="270" y="992"/>
                  </a:moveTo>
                  <a:lnTo>
                    <a:pt x="383" y="992"/>
                  </a:lnTo>
                  <a:lnTo>
                    <a:pt x="395" y="987"/>
                  </a:lnTo>
                  <a:lnTo>
                    <a:pt x="410" y="982"/>
                  </a:lnTo>
                  <a:lnTo>
                    <a:pt x="429" y="972"/>
                  </a:lnTo>
                  <a:lnTo>
                    <a:pt x="454" y="962"/>
                  </a:lnTo>
                  <a:lnTo>
                    <a:pt x="466" y="947"/>
                  </a:lnTo>
                  <a:lnTo>
                    <a:pt x="477" y="931"/>
                  </a:lnTo>
                  <a:lnTo>
                    <a:pt x="487" y="906"/>
                  </a:lnTo>
                  <a:lnTo>
                    <a:pt x="498" y="881"/>
                  </a:lnTo>
                  <a:lnTo>
                    <a:pt x="505" y="845"/>
                  </a:lnTo>
                  <a:lnTo>
                    <a:pt x="511" y="814"/>
                  </a:lnTo>
                  <a:lnTo>
                    <a:pt x="514" y="773"/>
                  </a:lnTo>
                  <a:lnTo>
                    <a:pt x="515" y="738"/>
                  </a:lnTo>
                  <a:lnTo>
                    <a:pt x="512" y="678"/>
                  </a:lnTo>
                  <a:lnTo>
                    <a:pt x="508" y="632"/>
                  </a:lnTo>
                  <a:lnTo>
                    <a:pt x="500" y="592"/>
                  </a:lnTo>
                  <a:lnTo>
                    <a:pt x="489" y="551"/>
                  </a:lnTo>
                  <a:lnTo>
                    <a:pt x="472" y="526"/>
                  </a:lnTo>
                  <a:lnTo>
                    <a:pt x="449" y="506"/>
                  </a:lnTo>
                  <a:lnTo>
                    <a:pt x="422" y="490"/>
                  </a:lnTo>
                  <a:lnTo>
                    <a:pt x="388" y="490"/>
                  </a:lnTo>
                  <a:lnTo>
                    <a:pt x="270" y="490"/>
                  </a:lnTo>
                  <a:lnTo>
                    <a:pt x="270" y="992"/>
                  </a:lnTo>
                  <a:lnTo>
                    <a:pt x="270" y="992"/>
                  </a:lnTo>
                  <a:close/>
                  <a:moveTo>
                    <a:pt x="0" y="2455"/>
                  </a:moveTo>
                  <a:lnTo>
                    <a:pt x="0" y="0"/>
                  </a:lnTo>
                  <a:lnTo>
                    <a:pt x="447" y="0"/>
                  </a:lnTo>
                  <a:lnTo>
                    <a:pt x="505" y="0"/>
                  </a:lnTo>
                  <a:lnTo>
                    <a:pt x="556" y="10"/>
                  </a:lnTo>
                  <a:lnTo>
                    <a:pt x="601" y="30"/>
                  </a:lnTo>
                  <a:lnTo>
                    <a:pt x="639" y="60"/>
                  </a:lnTo>
                  <a:lnTo>
                    <a:pt x="669" y="96"/>
                  </a:lnTo>
                  <a:lnTo>
                    <a:pt x="697" y="142"/>
                  </a:lnTo>
                  <a:lnTo>
                    <a:pt x="721" y="202"/>
                  </a:lnTo>
                  <a:lnTo>
                    <a:pt x="744" y="282"/>
                  </a:lnTo>
                  <a:lnTo>
                    <a:pt x="762" y="364"/>
                  </a:lnTo>
                  <a:lnTo>
                    <a:pt x="775" y="460"/>
                  </a:lnTo>
                  <a:lnTo>
                    <a:pt x="782" y="566"/>
                  </a:lnTo>
                  <a:lnTo>
                    <a:pt x="785" y="678"/>
                  </a:lnTo>
                  <a:lnTo>
                    <a:pt x="782" y="773"/>
                  </a:lnTo>
                  <a:lnTo>
                    <a:pt x="776" y="871"/>
                  </a:lnTo>
                  <a:lnTo>
                    <a:pt x="768" y="957"/>
                  </a:lnTo>
                  <a:lnTo>
                    <a:pt x="754" y="1033"/>
                  </a:lnTo>
                  <a:lnTo>
                    <a:pt x="735" y="1104"/>
                  </a:lnTo>
                  <a:lnTo>
                    <a:pt x="715" y="1165"/>
                  </a:lnTo>
                  <a:lnTo>
                    <a:pt x="693" y="1220"/>
                  </a:lnTo>
                  <a:lnTo>
                    <a:pt x="669" y="1270"/>
                  </a:lnTo>
                  <a:lnTo>
                    <a:pt x="649" y="1301"/>
                  </a:lnTo>
                  <a:lnTo>
                    <a:pt x="627" y="1326"/>
                  </a:lnTo>
                  <a:lnTo>
                    <a:pt x="601" y="1346"/>
                  </a:lnTo>
                  <a:lnTo>
                    <a:pt x="574" y="1371"/>
                  </a:lnTo>
                  <a:lnTo>
                    <a:pt x="595" y="1392"/>
                  </a:lnTo>
                  <a:lnTo>
                    <a:pt x="613" y="1412"/>
                  </a:lnTo>
                  <a:lnTo>
                    <a:pt x="630" y="1437"/>
                  </a:lnTo>
                  <a:lnTo>
                    <a:pt x="644" y="1463"/>
                  </a:lnTo>
                  <a:lnTo>
                    <a:pt x="651" y="1478"/>
                  </a:lnTo>
                  <a:lnTo>
                    <a:pt x="661" y="1508"/>
                  </a:lnTo>
                  <a:lnTo>
                    <a:pt x="673" y="1544"/>
                  </a:lnTo>
                  <a:lnTo>
                    <a:pt x="687" y="1589"/>
                  </a:lnTo>
                  <a:lnTo>
                    <a:pt x="698" y="1635"/>
                  </a:lnTo>
                  <a:lnTo>
                    <a:pt x="710" y="1677"/>
                  </a:lnTo>
                  <a:lnTo>
                    <a:pt x="717" y="1717"/>
                  </a:lnTo>
                  <a:lnTo>
                    <a:pt x="724" y="1747"/>
                  </a:lnTo>
                  <a:lnTo>
                    <a:pt x="855" y="2455"/>
                  </a:lnTo>
                  <a:lnTo>
                    <a:pt x="551" y="2455"/>
                  </a:lnTo>
                  <a:lnTo>
                    <a:pt x="407" y="1707"/>
                  </a:lnTo>
                  <a:lnTo>
                    <a:pt x="393" y="1635"/>
                  </a:lnTo>
                  <a:lnTo>
                    <a:pt x="380" y="1584"/>
                  </a:lnTo>
                  <a:lnTo>
                    <a:pt x="369" y="1539"/>
                  </a:lnTo>
                  <a:lnTo>
                    <a:pt x="358" y="1513"/>
                  </a:lnTo>
                  <a:lnTo>
                    <a:pt x="342" y="1493"/>
                  </a:lnTo>
                  <a:lnTo>
                    <a:pt x="328" y="1473"/>
                  </a:lnTo>
                  <a:lnTo>
                    <a:pt x="311" y="1458"/>
                  </a:lnTo>
                  <a:lnTo>
                    <a:pt x="294" y="1458"/>
                  </a:lnTo>
                  <a:lnTo>
                    <a:pt x="270" y="1458"/>
                  </a:lnTo>
                  <a:lnTo>
                    <a:pt x="270" y="2455"/>
                  </a:lnTo>
                  <a:lnTo>
                    <a:pt x="0" y="2455"/>
                  </a:lnTo>
                  <a:lnTo>
                    <a:pt x="0" y="2455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62600" y="533520"/>
              <a:ext cx="325440" cy="912600"/>
            </a:xfrm>
            <a:custGeom>
              <a:avLst/>
              <a:gdLst/>
              <a:ahLst/>
              <a:rect l="l" t="t" r="r" b="b"/>
              <a:pathLst>
                <a:path w="904" h="2536">
                  <a:moveTo>
                    <a:pt x="268" y="1270"/>
                  </a:moveTo>
                  <a:lnTo>
                    <a:pt x="271" y="1442"/>
                  </a:lnTo>
                  <a:lnTo>
                    <a:pt x="279" y="1589"/>
                  </a:lnTo>
                  <a:lnTo>
                    <a:pt x="295" y="1711"/>
                  </a:lnTo>
                  <a:lnTo>
                    <a:pt x="319" y="1806"/>
                  </a:lnTo>
                  <a:lnTo>
                    <a:pt x="344" y="1877"/>
                  </a:lnTo>
                  <a:lnTo>
                    <a:pt x="376" y="1928"/>
                  </a:lnTo>
                  <a:lnTo>
                    <a:pt x="412" y="1958"/>
                  </a:lnTo>
                  <a:lnTo>
                    <a:pt x="452" y="1968"/>
                  </a:lnTo>
                  <a:lnTo>
                    <a:pt x="492" y="1958"/>
                  </a:lnTo>
                  <a:lnTo>
                    <a:pt x="529" y="1928"/>
                  </a:lnTo>
                  <a:lnTo>
                    <a:pt x="560" y="1882"/>
                  </a:lnTo>
                  <a:lnTo>
                    <a:pt x="587" y="1811"/>
                  </a:lnTo>
                  <a:lnTo>
                    <a:pt x="608" y="1716"/>
                  </a:lnTo>
                  <a:lnTo>
                    <a:pt x="622" y="1589"/>
                  </a:lnTo>
                  <a:lnTo>
                    <a:pt x="631" y="1432"/>
                  </a:lnTo>
                  <a:lnTo>
                    <a:pt x="635" y="1240"/>
                  </a:lnTo>
                  <a:lnTo>
                    <a:pt x="631" y="1078"/>
                  </a:lnTo>
                  <a:lnTo>
                    <a:pt x="622" y="941"/>
                  </a:lnTo>
                  <a:lnTo>
                    <a:pt x="608" y="819"/>
                  </a:lnTo>
                  <a:lnTo>
                    <a:pt x="586" y="734"/>
                  </a:lnTo>
                  <a:lnTo>
                    <a:pt x="559" y="658"/>
                  </a:lnTo>
                  <a:lnTo>
                    <a:pt x="526" y="612"/>
                  </a:lnTo>
                  <a:lnTo>
                    <a:pt x="489" y="582"/>
                  </a:lnTo>
                  <a:lnTo>
                    <a:pt x="449" y="572"/>
                  </a:lnTo>
                  <a:lnTo>
                    <a:pt x="409" y="582"/>
                  </a:lnTo>
                  <a:lnTo>
                    <a:pt x="374" y="612"/>
                  </a:lnTo>
                  <a:lnTo>
                    <a:pt x="344" y="663"/>
                  </a:lnTo>
                  <a:lnTo>
                    <a:pt x="319" y="734"/>
                  </a:lnTo>
                  <a:lnTo>
                    <a:pt x="295" y="829"/>
                  </a:lnTo>
                  <a:lnTo>
                    <a:pt x="279" y="951"/>
                  </a:lnTo>
                  <a:lnTo>
                    <a:pt x="271" y="1098"/>
                  </a:lnTo>
                  <a:lnTo>
                    <a:pt x="268" y="1270"/>
                  </a:lnTo>
                  <a:lnTo>
                    <a:pt x="268" y="1270"/>
                  </a:lnTo>
                  <a:close/>
                  <a:moveTo>
                    <a:pt x="0" y="1265"/>
                  </a:moveTo>
                  <a:lnTo>
                    <a:pt x="7" y="982"/>
                  </a:lnTo>
                  <a:lnTo>
                    <a:pt x="28" y="734"/>
                  </a:lnTo>
                  <a:lnTo>
                    <a:pt x="65" y="511"/>
                  </a:lnTo>
                  <a:lnTo>
                    <a:pt x="119" y="329"/>
                  </a:lnTo>
                  <a:lnTo>
                    <a:pt x="183" y="183"/>
                  </a:lnTo>
                  <a:lnTo>
                    <a:pt x="259" y="81"/>
                  </a:lnTo>
                  <a:lnTo>
                    <a:pt x="349" y="20"/>
                  </a:lnTo>
                  <a:lnTo>
                    <a:pt x="449" y="0"/>
                  </a:lnTo>
                  <a:lnTo>
                    <a:pt x="551" y="20"/>
                  </a:lnTo>
                  <a:lnTo>
                    <a:pt x="642" y="81"/>
                  </a:lnTo>
                  <a:lnTo>
                    <a:pt x="720" y="183"/>
                  </a:lnTo>
                  <a:lnTo>
                    <a:pt x="786" y="323"/>
                  </a:lnTo>
                  <a:lnTo>
                    <a:pt x="838" y="506"/>
                  </a:lnTo>
                  <a:lnTo>
                    <a:pt x="873" y="719"/>
                  </a:lnTo>
                  <a:lnTo>
                    <a:pt x="895" y="966"/>
                  </a:lnTo>
                  <a:lnTo>
                    <a:pt x="903" y="1245"/>
                  </a:lnTo>
                  <a:lnTo>
                    <a:pt x="899" y="1452"/>
                  </a:lnTo>
                  <a:lnTo>
                    <a:pt x="890" y="1635"/>
                  </a:lnTo>
                  <a:lnTo>
                    <a:pt x="873" y="1801"/>
                  </a:lnTo>
                  <a:lnTo>
                    <a:pt x="852" y="1953"/>
                  </a:lnTo>
                  <a:lnTo>
                    <a:pt x="823" y="2085"/>
                  </a:lnTo>
                  <a:lnTo>
                    <a:pt x="789" y="2196"/>
                  </a:lnTo>
                  <a:lnTo>
                    <a:pt x="748" y="2297"/>
                  </a:lnTo>
                  <a:lnTo>
                    <a:pt x="704" y="2383"/>
                  </a:lnTo>
                  <a:lnTo>
                    <a:pt x="653" y="2449"/>
                  </a:lnTo>
                  <a:lnTo>
                    <a:pt x="593" y="2494"/>
                  </a:lnTo>
                  <a:lnTo>
                    <a:pt x="530" y="2525"/>
                  </a:lnTo>
                  <a:lnTo>
                    <a:pt x="461" y="2535"/>
                  </a:lnTo>
                  <a:lnTo>
                    <a:pt x="390" y="2525"/>
                  </a:lnTo>
                  <a:lnTo>
                    <a:pt x="326" y="2500"/>
                  </a:lnTo>
                  <a:lnTo>
                    <a:pt x="267" y="2459"/>
                  </a:lnTo>
                  <a:lnTo>
                    <a:pt x="216" y="2403"/>
                  </a:lnTo>
                  <a:lnTo>
                    <a:pt x="169" y="2327"/>
                  </a:lnTo>
                  <a:lnTo>
                    <a:pt x="129" y="2232"/>
                  </a:lnTo>
                  <a:lnTo>
                    <a:pt x="91" y="2115"/>
                  </a:lnTo>
                  <a:lnTo>
                    <a:pt x="60" y="1983"/>
                  </a:lnTo>
                  <a:lnTo>
                    <a:pt x="33" y="1831"/>
                  </a:lnTo>
                  <a:lnTo>
                    <a:pt x="14" y="1660"/>
                  </a:lnTo>
                  <a:lnTo>
                    <a:pt x="3" y="1472"/>
                  </a:lnTo>
                  <a:lnTo>
                    <a:pt x="0" y="1265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26200" y="533520"/>
              <a:ext cx="304920" cy="912600"/>
            </a:xfrm>
            <a:custGeom>
              <a:avLst/>
              <a:gdLst/>
              <a:ahLst/>
              <a:rect l="l" t="t" r="r" b="b"/>
              <a:pathLst>
                <a:path w="847" h="2536">
                  <a:moveTo>
                    <a:pt x="611" y="1493"/>
                  </a:moveTo>
                  <a:lnTo>
                    <a:pt x="846" y="1690"/>
                  </a:lnTo>
                  <a:lnTo>
                    <a:pt x="832" y="1821"/>
                  </a:lnTo>
                  <a:lnTo>
                    <a:pt x="814" y="1943"/>
                  </a:lnTo>
                  <a:lnTo>
                    <a:pt x="794" y="2054"/>
                  </a:lnTo>
                  <a:lnTo>
                    <a:pt x="771" y="2156"/>
                  </a:lnTo>
                  <a:lnTo>
                    <a:pt x="744" y="2242"/>
                  </a:lnTo>
                  <a:lnTo>
                    <a:pt x="714" y="2322"/>
                  </a:lnTo>
                  <a:lnTo>
                    <a:pt x="681" y="2388"/>
                  </a:lnTo>
                  <a:lnTo>
                    <a:pt x="645" y="2439"/>
                  </a:lnTo>
                  <a:lnTo>
                    <a:pt x="604" y="2474"/>
                  </a:lnTo>
                  <a:lnTo>
                    <a:pt x="560" y="2510"/>
                  </a:lnTo>
                  <a:lnTo>
                    <a:pt x="507" y="2525"/>
                  </a:lnTo>
                  <a:lnTo>
                    <a:pt x="452" y="2535"/>
                  </a:lnTo>
                  <a:lnTo>
                    <a:pt x="383" y="2525"/>
                  </a:lnTo>
                  <a:lnTo>
                    <a:pt x="323" y="2505"/>
                  </a:lnTo>
                  <a:lnTo>
                    <a:pt x="268" y="2469"/>
                  </a:lnTo>
                  <a:lnTo>
                    <a:pt x="221" y="2418"/>
                  </a:lnTo>
                  <a:lnTo>
                    <a:pt x="177" y="2347"/>
                  </a:lnTo>
                  <a:lnTo>
                    <a:pt x="136" y="2257"/>
                  </a:lnTo>
                  <a:lnTo>
                    <a:pt x="99" y="2146"/>
                  </a:lnTo>
                  <a:lnTo>
                    <a:pt x="66" y="2009"/>
                  </a:lnTo>
                  <a:lnTo>
                    <a:pt x="36" y="1852"/>
                  </a:lnTo>
                  <a:lnTo>
                    <a:pt x="15" y="1675"/>
                  </a:lnTo>
                  <a:lnTo>
                    <a:pt x="2" y="1477"/>
                  </a:lnTo>
                  <a:lnTo>
                    <a:pt x="0" y="1265"/>
                  </a:lnTo>
                  <a:lnTo>
                    <a:pt x="7" y="971"/>
                  </a:lnTo>
                  <a:lnTo>
                    <a:pt x="29" y="719"/>
                  </a:lnTo>
                  <a:lnTo>
                    <a:pt x="65" y="501"/>
                  </a:lnTo>
                  <a:lnTo>
                    <a:pt x="114" y="323"/>
                  </a:lnTo>
                  <a:lnTo>
                    <a:pt x="178" y="183"/>
                  </a:lnTo>
                  <a:lnTo>
                    <a:pt x="252" y="81"/>
                  </a:lnTo>
                  <a:lnTo>
                    <a:pt x="340" y="20"/>
                  </a:lnTo>
                  <a:lnTo>
                    <a:pt x="439" y="0"/>
                  </a:lnTo>
                  <a:lnTo>
                    <a:pt x="516" y="5"/>
                  </a:lnTo>
                  <a:lnTo>
                    <a:pt x="585" y="41"/>
                  </a:lnTo>
                  <a:lnTo>
                    <a:pt x="645" y="101"/>
                  </a:lnTo>
                  <a:lnTo>
                    <a:pt x="699" y="183"/>
                  </a:lnTo>
                  <a:lnTo>
                    <a:pt x="741" y="288"/>
                  </a:lnTo>
                  <a:lnTo>
                    <a:pt x="778" y="420"/>
                  </a:lnTo>
                  <a:lnTo>
                    <a:pt x="811" y="577"/>
                  </a:lnTo>
                  <a:lnTo>
                    <a:pt x="838" y="759"/>
                  </a:lnTo>
                  <a:lnTo>
                    <a:pt x="601" y="911"/>
                  </a:lnTo>
                  <a:lnTo>
                    <a:pt x="594" y="855"/>
                  </a:lnTo>
                  <a:lnTo>
                    <a:pt x="588" y="809"/>
                  </a:lnTo>
                  <a:lnTo>
                    <a:pt x="581" y="774"/>
                  </a:lnTo>
                  <a:lnTo>
                    <a:pt x="575" y="749"/>
                  </a:lnTo>
                  <a:lnTo>
                    <a:pt x="563" y="704"/>
                  </a:lnTo>
                  <a:lnTo>
                    <a:pt x="549" y="668"/>
                  </a:lnTo>
                  <a:lnTo>
                    <a:pt x="535" y="633"/>
                  </a:lnTo>
                  <a:lnTo>
                    <a:pt x="520" y="612"/>
                  </a:lnTo>
                  <a:lnTo>
                    <a:pt x="503" y="592"/>
                  </a:lnTo>
                  <a:lnTo>
                    <a:pt x="485" y="572"/>
                  </a:lnTo>
                  <a:lnTo>
                    <a:pt x="466" y="567"/>
                  </a:lnTo>
                  <a:lnTo>
                    <a:pt x="446" y="567"/>
                  </a:lnTo>
                  <a:lnTo>
                    <a:pt x="403" y="577"/>
                  </a:lnTo>
                  <a:lnTo>
                    <a:pt x="366" y="612"/>
                  </a:lnTo>
                  <a:lnTo>
                    <a:pt x="333" y="678"/>
                  </a:lnTo>
                  <a:lnTo>
                    <a:pt x="307" y="774"/>
                  </a:lnTo>
                  <a:lnTo>
                    <a:pt x="289" y="855"/>
                  </a:lnTo>
                  <a:lnTo>
                    <a:pt x="278" y="966"/>
                  </a:lnTo>
                  <a:lnTo>
                    <a:pt x="271" y="1103"/>
                  </a:lnTo>
                  <a:lnTo>
                    <a:pt x="269" y="1255"/>
                  </a:lnTo>
                  <a:lnTo>
                    <a:pt x="271" y="1442"/>
                  </a:lnTo>
                  <a:lnTo>
                    <a:pt x="279" y="1594"/>
                  </a:lnTo>
                  <a:lnTo>
                    <a:pt x="294" y="1716"/>
                  </a:lnTo>
                  <a:lnTo>
                    <a:pt x="314" y="1811"/>
                  </a:lnTo>
                  <a:lnTo>
                    <a:pt x="337" y="1877"/>
                  </a:lnTo>
                  <a:lnTo>
                    <a:pt x="366" y="1923"/>
                  </a:lnTo>
                  <a:lnTo>
                    <a:pt x="398" y="1953"/>
                  </a:lnTo>
                  <a:lnTo>
                    <a:pt x="438" y="1963"/>
                  </a:lnTo>
                  <a:lnTo>
                    <a:pt x="473" y="1958"/>
                  </a:lnTo>
                  <a:lnTo>
                    <a:pt x="505" y="1933"/>
                  </a:lnTo>
                  <a:lnTo>
                    <a:pt x="532" y="1897"/>
                  </a:lnTo>
                  <a:lnTo>
                    <a:pt x="555" y="1841"/>
                  </a:lnTo>
                  <a:lnTo>
                    <a:pt x="573" y="1776"/>
                  </a:lnTo>
                  <a:lnTo>
                    <a:pt x="588" y="1695"/>
                  </a:lnTo>
                  <a:lnTo>
                    <a:pt x="601" y="1594"/>
                  </a:lnTo>
                  <a:lnTo>
                    <a:pt x="611" y="1493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78640" y="547560"/>
              <a:ext cx="263520" cy="884520"/>
            </a:xfrm>
            <a:custGeom>
              <a:avLst/>
              <a:gdLst/>
              <a:ahLst/>
              <a:rect l="l" t="t" r="r" b="b"/>
              <a:pathLst>
                <a:path w="733" h="2456">
                  <a:moveTo>
                    <a:pt x="0" y="0"/>
                  </a:moveTo>
                  <a:lnTo>
                    <a:pt x="719" y="0"/>
                  </a:lnTo>
                  <a:lnTo>
                    <a:pt x="719" y="521"/>
                  </a:lnTo>
                  <a:lnTo>
                    <a:pt x="270" y="521"/>
                  </a:lnTo>
                  <a:lnTo>
                    <a:pt x="270" y="911"/>
                  </a:lnTo>
                  <a:lnTo>
                    <a:pt x="687" y="911"/>
                  </a:lnTo>
                  <a:lnTo>
                    <a:pt x="687" y="1412"/>
                  </a:lnTo>
                  <a:lnTo>
                    <a:pt x="270" y="1412"/>
                  </a:lnTo>
                  <a:lnTo>
                    <a:pt x="270" y="1904"/>
                  </a:lnTo>
                  <a:lnTo>
                    <a:pt x="732" y="1904"/>
                  </a:lnTo>
                  <a:lnTo>
                    <a:pt x="732" y="2455"/>
                  </a:lnTo>
                  <a:lnTo>
                    <a:pt x="0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96160" y="547560"/>
              <a:ext cx="299880" cy="884520"/>
            </a:xfrm>
            <a:custGeom>
              <a:avLst/>
              <a:gdLst/>
              <a:ahLst/>
              <a:rect l="l" t="t" r="r" b="b"/>
              <a:pathLst>
                <a:path w="834" h="2456">
                  <a:moveTo>
                    <a:pt x="0" y="0"/>
                  </a:moveTo>
                  <a:lnTo>
                    <a:pt x="251" y="0"/>
                  </a:lnTo>
                  <a:lnTo>
                    <a:pt x="580" y="1361"/>
                  </a:lnTo>
                  <a:lnTo>
                    <a:pt x="580" y="0"/>
                  </a:lnTo>
                  <a:lnTo>
                    <a:pt x="833" y="0"/>
                  </a:lnTo>
                  <a:lnTo>
                    <a:pt x="833" y="2455"/>
                  </a:lnTo>
                  <a:lnTo>
                    <a:pt x="580" y="2455"/>
                  </a:lnTo>
                  <a:lnTo>
                    <a:pt x="252" y="1104"/>
                  </a:lnTo>
                  <a:lnTo>
                    <a:pt x="252" y="2455"/>
                  </a:lnTo>
                  <a:lnTo>
                    <a:pt x="0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37440" y="547560"/>
              <a:ext cx="293760" cy="884520"/>
            </a:xfrm>
            <a:custGeom>
              <a:avLst/>
              <a:gdLst/>
              <a:ahLst/>
              <a:rect l="l" t="t" r="r" b="b"/>
              <a:pathLst>
                <a:path w="816" h="2456">
                  <a:moveTo>
                    <a:pt x="0" y="0"/>
                  </a:moveTo>
                  <a:lnTo>
                    <a:pt x="815" y="0"/>
                  </a:lnTo>
                  <a:lnTo>
                    <a:pt x="815" y="607"/>
                  </a:lnTo>
                  <a:lnTo>
                    <a:pt x="541" y="607"/>
                  </a:lnTo>
                  <a:lnTo>
                    <a:pt x="541" y="2455"/>
                  </a:lnTo>
                  <a:lnTo>
                    <a:pt x="273" y="2455"/>
                  </a:lnTo>
                  <a:lnTo>
                    <a:pt x="273" y="607"/>
                  </a:lnTo>
                  <a:lnTo>
                    <a:pt x="0" y="607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61440" y="533520"/>
              <a:ext cx="325440" cy="912600"/>
            </a:xfrm>
            <a:custGeom>
              <a:avLst/>
              <a:gdLst/>
              <a:ahLst/>
              <a:rect l="l" t="t" r="r" b="b"/>
              <a:pathLst>
                <a:path w="904" h="2536">
                  <a:moveTo>
                    <a:pt x="268" y="1270"/>
                  </a:moveTo>
                  <a:lnTo>
                    <a:pt x="271" y="1442"/>
                  </a:lnTo>
                  <a:lnTo>
                    <a:pt x="281" y="1589"/>
                  </a:lnTo>
                  <a:lnTo>
                    <a:pt x="296" y="1711"/>
                  </a:lnTo>
                  <a:lnTo>
                    <a:pt x="319" y="1806"/>
                  </a:lnTo>
                  <a:lnTo>
                    <a:pt x="345" y="1877"/>
                  </a:lnTo>
                  <a:lnTo>
                    <a:pt x="376" y="1928"/>
                  </a:lnTo>
                  <a:lnTo>
                    <a:pt x="411" y="1958"/>
                  </a:lnTo>
                  <a:lnTo>
                    <a:pt x="453" y="1968"/>
                  </a:lnTo>
                  <a:lnTo>
                    <a:pt x="493" y="1958"/>
                  </a:lnTo>
                  <a:lnTo>
                    <a:pt x="529" y="1928"/>
                  </a:lnTo>
                  <a:lnTo>
                    <a:pt x="561" y="1882"/>
                  </a:lnTo>
                  <a:lnTo>
                    <a:pt x="588" y="1811"/>
                  </a:lnTo>
                  <a:lnTo>
                    <a:pt x="608" y="1716"/>
                  </a:lnTo>
                  <a:lnTo>
                    <a:pt x="622" y="1589"/>
                  </a:lnTo>
                  <a:lnTo>
                    <a:pt x="631" y="1432"/>
                  </a:lnTo>
                  <a:lnTo>
                    <a:pt x="635" y="1240"/>
                  </a:lnTo>
                  <a:lnTo>
                    <a:pt x="631" y="1078"/>
                  </a:lnTo>
                  <a:lnTo>
                    <a:pt x="622" y="941"/>
                  </a:lnTo>
                  <a:lnTo>
                    <a:pt x="608" y="819"/>
                  </a:lnTo>
                  <a:lnTo>
                    <a:pt x="587" y="734"/>
                  </a:lnTo>
                  <a:lnTo>
                    <a:pt x="560" y="658"/>
                  </a:lnTo>
                  <a:lnTo>
                    <a:pt x="526" y="612"/>
                  </a:lnTo>
                  <a:lnTo>
                    <a:pt x="490" y="582"/>
                  </a:lnTo>
                  <a:lnTo>
                    <a:pt x="449" y="572"/>
                  </a:lnTo>
                  <a:lnTo>
                    <a:pt x="409" y="582"/>
                  </a:lnTo>
                  <a:lnTo>
                    <a:pt x="374" y="612"/>
                  </a:lnTo>
                  <a:lnTo>
                    <a:pt x="345" y="663"/>
                  </a:lnTo>
                  <a:lnTo>
                    <a:pt x="319" y="734"/>
                  </a:lnTo>
                  <a:lnTo>
                    <a:pt x="296" y="829"/>
                  </a:lnTo>
                  <a:lnTo>
                    <a:pt x="281" y="951"/>
                  </a:lnTo>
                  <a:lnTo>
                    <a:pt x="271" y="1098"/>
                  </a:lnTo>
                  <a:lnTo>
                    <a:pt x="268" y="1270"/>
                  </a:lnTo>
                  <a:lnTo>
                    <a:pt x="268" y="1270"/>
                  </a:lnTo>
                  <a:close/>
                  <a:moveTo>
                    <a:pt x="0" y="1265"/>
                  </a:moveTo>
                  <a:lnTo>
                    <a:pt x="7" y="982"/>
                  </a:lnTo>
                  <a:lnTo>
                    <a:pt x="29" y="734"/>
                  </a:lnTo>
                  <a:lnTo>
                    <a:pt x="66" y="511"/>
                  </a:lnTo>
                  <a:lnTo>
                    <a:pt x="119" y="329"/>
                  </a:lnTo>
                  <a:lnTo>
                    <a:pt x="184" y="183"/>
                  </a:lnTo>
                  <a:lnTo>
                    <a:pt x="260" y="81"/>
                  </a:lnTo>
                  <a:lnTo>
                    <a:pt x="349" y="20"/>
                  </a:lnTo>
                  <a:lnTo>
                    <a:pt x="449" y="0"/>
                  </a:lnTo>
                  <a:lnTo>
                    <a:pt x="553" y="20"/>
                  </a:lnTo>
                  <a:lnTo>
                    <a:pt x="642" y="81"/>
                  </a:lnTo>
                  <a:lnTo>
                    <a:pt x="720" y="183"/>
                  </a:lnTo>
                  <a:lnTo>
                    <a:pt x="786" y="323"/>
                  </a:lnTo>
                  <a:lnTo>
                    <a:pt x="838" y="506"/>
                  </a:lnTo>
                  <a:lnTo>
                    <a:pt x="873" y="719"/>
                  </a:lnTo>
                  <a:lnTo>
                    <a:pt x="895" y="966"/>
                  </a:lnTo>
                  <a:lnTo>
                    <a:pt x="903" y="1245"/>
                  </a:lnTo>
                  <a:lnTo>
                    <a:pt x="899" y="1452"/>
                  </a:lnTo>
                  <a:lnTo>
                    <a:pt x="890" y="1635"/>
                  </a:lnTo>
                  <a:lnTo>
                    <a:pt x="873" y="1801"/>
                  </a:lnTo>
                  <a:lnTo>
                    <a:pt x="852" y="1953"/>
                  </a:lnTo>
                  <a:lnTo>
                    <a:pt x="824" y="2085"/>
                  </a:lnTo>
                  <a:lnTo>
                    <a:pt x="788" y="2196"/>
                  </a:lnTo>
                  <a:lnTo>
                    <a:pt x="749" y="2297"/>
                  </a:lnTo>
                  <a:lnTo>
                    <a:pt x="704" y="2383"/>
                  </a:lnTo>
                  <a:lnTo>
                    <a:pt x="652" y="2449"/>
                  </a:lnTo>
                  <a:lnTo>
                    <a:pt x="594" y="2494"/>
                  </a:lnTo>
                  <a:lnTo>
                    <a:pt x="530" y="2525"/>
                  </a:lnTo>
                  <a:lnTo>
                    <a:pt x="462" y="2535"/>
                  </a:lnTo>
                  <a:lnTo>
                    <a:pt x="389" y="2525"/>
                  </a:lnTo>
                  <a:lnTo>
                    <a:pt x="326" y="2500"/>
                  </a:lnTo>
                  <a:lnTo>
                    <a:pt x="267" y="2459"/>
                  </a:lnTo>
                  <a:lnTo>
                    <a:pt x="217" y="2403"/>
                  </a:lnTo>
                  <a:lnTo>
                    <a:pt x="170" y="2327"/>
                  </a:lnTo>
                  <a:lnTo>
                    <a:pt x="129" y="2232"/>
                  </a:lnTo>
                  <a:lnTo>
                    <a:pt x="92" y="2115"/>
                  </a:lnTo>
                  <a:lnTo>
                    <a:pt x="61" y="1983"/>
                  </a:lnTo>
                  <a:lnTo>
                    <a:pt x="34" y="1831"/>
                  </a:lnTo>
                  <a:lnTo>
                    <a:pt x="14" y="1660"/>
                  </a:lnTo>
                  <a:lnTo>
                    <a:pt x="3" y="1472"/>
                  </a:lnTo>
                  <a:lnTo>
                    <a:pt x="0" y="1265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05600" y="547560"/>
              <a:ext cx="438480" cy="884520"/>
            </a:xfrm>
            <a:custGeom>
              <a:avLst/>
              <a:gdLst/>
              <a:ahLst/>
              <a:rect l="l" t="t" r="r" b="b"/>
              <a:pathLst>
                <a:path w="1217" h="2456">
                  <a:moveTo>
                    <a:pt x="0" y="0"/>
                  </a:moveTo>
                  <a:lnTo>
                    <a:pt x="256" y="0"/>
                  </a:lnTo>
                  <a:lnTo>
                    <a:pt x="347" y="1371"/>
                  </a:lnTo>
                  <a:lnTo>
                    <a:pt x="482" y="0"/>
                  </a:lnTo>
                  <a:lnTo>
                    <a:pt x="736" y="0"/>
                  </a:lnTo>
                  <a:lnTo>
                    <a:pt x="870" y="1371"/>
                  </a:lnTo>
                  <a:lnTo>
                    <a:pt x="962" y="0"/>
                  </a:lnTo>
                  <a:lnTo>
                    <a:pt x="1216" y="0"/>
                  </a:lnTo>
                  <a:lnTo>
                    <a:pt x="1024" y="2455"/>
                  </a:lnTo>
                  <a:lnTo>
                    <a:pt x="761" y="2455"/>
                  </a:lnTo>
                  <a:lnTo>
                    <a:pt x="609" y="906"/>
                  </a:lnTo>
                  <a:lnTo>
                    <a:pt x="457" y="2455"/>
                  </a:lnTo>
                  <a:lnTo>
                    <a:pt x="194" y="2455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44080" y="547560"/>
              <a:ext cx="341280" cy="884520"/>
            </a:xfrm>
            <a:custGeom>
              <a:avLst/>
              <a:gdLst/>
              <a:ahLst/>
              <a:rect l="l" t="t" r="r" b="b"/>
              <a:pathLst>
                <a:path w="948" h="2456">
                  <a:moveTo>
                    <a:pt x="0" y="0"/>
                  </a:moveTo>
                  <a:lnTo>
                    <a:pt x="298" y="0"/>
                  </a:lnTo>
                  <a:lnTo>
                    <a:pt x="475" y="825"/>
                  </a:lnTo>
                  <a:lnTo>
                    <a:pt x="651" y="0"/>
                  </a:lnTo>
                  <a:lnTo>
                    <a:pt x="947" y="0"/>
                  </a:lnTo>
                  <a:lnTo>
                    <a:pt x="608" y="1427"/>
                  </a:lnTo>
                  <a:lnTo>
                    <a:pt x="608" y="2455"/>
                  </a:lnTo>
                  <a:lnTo>
                    <a:pt x="338" y="2455"/>
                  </a:lnTo>
                  <a:lnTo>
                    <a:pt x="338" y="1427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1839960" y="1979640"/>
          <a:ext cx="5462640" cy="289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1979640"/>
                    <a:ext cx="546264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914400" y="5334120"/>
            <a:ext cx="7391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Należy przeliczyć dane na procenty i przedstawić je             w postaci diagramu procent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001000" y="5943600"/>
            <a:ext cx="762120" cy="684360"/>
            <a:chOff x="8001000" y="5943600"/>
            <a:chExt cx="762120" cy="684360"/>
          </a:xfrm>
        </p:grpSpPr>
        <p:sp>
          <p:nvSpPr>
            <p:cNvPr id="243" name=""/>
            <p:cNvSpPr/>
            <p:nvPr/>
          </p:nvSpPr>
          <p:spPr>
            <a:xfrm>
              <a:off x="8001000" y="5943600"/>
              <a:ext cx="762120" cy="684360"/>
            </a:xfrm>
            <a:custGeom>
              <a:avLst/>
              <a:gdLst/>
              <a:ahLst/>
              <a:rect l="l" t="t" r="r" b="b"/>
              <a:pathLst>
                <a:path w="2118" h="1902">
                  <a:moveTo>
                    <a:pt x="0" y="0"/>
                  </a:moveTo>
                  <a:lnTo>
                    <a:pt x="2117" y="0"/>
                  </a:lnTo>
                  <a:lnTo>
                    <a:pt x="2117" y="1901"/>
                  </a:lnTo>
                  <a:lnTo>
                    <a:pt x="0" y="1901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000" y="5943600"/>
              <a:ext cx="762120" cy="4428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0" y="0"/>
                  </a:moveTo>
                  <a:lnTo>
                    <a:pt x="2117" y="0"/>
                  </a:lnTo>
                  <a:lnTo>
                    <a:pt x="1993" y="123"/>
                  </a:lnTo>
                  <a:lnTo>
                    <a:pt x="123" y="123"/>
                  </a:lnTo>
                  <a:lnTo>
                    <a:pt x="0" y="0"/>
                  </a:lnTo>
                </a:path>
              </a:pathLst>
            </a:custGeom>
            <a:solidFill>
              <a:srgbClr val="8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71704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5" h="1902">
                  <a:moveTo>
                    <a:pt x="124" y="0"/>
                  </a:moveTo>
                  <a:lnTo>
                    <a:pt x="124" y="1901"/>
                  </a:lnTo>
                  <a:lnTo>
                    <a:pt x="0" y="1777"/>
                  </a:lnTo>
                  <a:lnTo>
                    <a:pt x="0" y="122"/>
                  </a:lnTo>
                  <a:lnTo>
                    <a:pt x="124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01000" y="6583320"/>
              <a:ext cx="762120" cy="44640"/>
            </a:xfrm>
            <a:custGeom>
              <a:avLst/>
              <a:gdLst/>
              <a:ahLst/>
              <a:rect l="l" t="t" r="r" b="b"/>
              <a:pathLst>
                <a:path w="2118" h="124">
                  <a:moveTo>
                    <a:pt x="2117" y="123"/>
                  </a:moveTo>
                  <a:lnTo>
                    <a:pt x="0" y="123"/>
                  </a:lnTo>
                  <a:lnTo>
                    <a:pt x="123" y="0"/>
                  </a:lnTo>
                  <a:lnTo>
                    <a:pt x="1993" y="0"/>
                  </a:lnTo>
                  <a:lnTo>
                    <a:pt x="2117" y="123"/>
                  </a:lnTo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01000" y="5943600"/>
              <a:ext cx="44280" cy="684360"/>
            </a:xfrm>
            <a:custGeom>
              <a:avLst/>
              <a:gdLst/>
              <a:ahLst/>
              <a:rect l="l" t="t" r="r" b="b"/>
              <a:pathLst>
                <a:path w="124" h="1902">
                  <a:moveTo>
                    <a:pt x="0" y="1901"/>
                  </a:moveTo>
                  <a:lnTo>
                    <a:pt x="0" y="0"/>
                  </a:lnTo>
                  <a:lnTo>
                    <a:pt x="123" y="122"/>
                  </a:lnTo>
                  <a:lnTo>
                    <a:pt x="123" y="1777"/>
                  </a:lnTo>
                  <a:lnTo>
                    <a:pt x="0" y="1901"/>
                  </a:lnTo>
                </a:path>
              </a:pathLst>
            </a:custGeom>
            <a:solidFill>
              <a:srgbClr val="9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59760" y="6064200"/>
              <a:ext cx="446040" cy="446040"/>
            </a:xfrm>
            <a:custGeom>
              <a:avLst/>
              <a:gdLst/>
              <a:ahLst/>
              <a:rect l="l" t="t" r="r" b="b"/>
              <a:pathLst>
                <a:path w="1238" h="1237">
                  <a:moveTo>
                    <a:pt x="0" y="0"/>
                  </a:moveTo>
                  <a:lnTo>
                    <a:pt x="1237" y="619"/>
                  </a:lnTo>
                  <a:lnTo>
                    <a:pt x="0" y="1236"/>
                  </a:lnTo>
                  <a:lnTo>
                    <a:pt x="0" y="0"/>
                  </a:lnTo>
                </a:path>
              </a:pathLst>
            </a:custGeom>
            <a:solidFill>
              <a:srgbClr val="5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