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3.png" ContentType="image/png"/>
  <Override PartName="/ppt/media/image51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png" ContentType="image/png"/>
  <Override PartName="/ppt/media/image45.png" ContentType="image/png"/>
  <Override PartName="/ppt/media/image57.jpeg" ContentType="image/jpeg"/>
  <Override PartName="/ppt/media/image63.png" ContentType="image/png"/>
  <Override PartName="/ppt/media/image49.jpeg" ContentType="image/jpeg"/>
  <Override PartName="/ppt/media/image3.png" ContentType="image/png"/>
  <Override PartName="/ppt/media/image26.png" ContentType="image/png"/>
  <Override PartName="/ppt/media/image31.png" ContentType="image/png"/>
  <Override PartName="/ppt/media/image68.png" ContentType="image/png"/>
  <Override PartName="/ppt/media/image15.jpeg" ContentType="image/jpeg"/>
  <Override PartName="/ppt/media/image64.png" ContentType="image/png"/>
  <Override PartName="/ppt/media/image21.png" ContentType="image/png"/>
  <Override PartName="/ppt/media/image58.png" ContentType="image/png"/>
  <Override PartName="/ppt/media/image38.jpeg" ContentType="image/jpe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65.png" ContentType="image/png"/>
  <Override PartName="/ppt/media/image16.png" ContentType="image/png"/>
  <Override PartName="/ppt/media/image4.png" ContentType="image/png"/>
  <Override PartName="/ppt/media/image27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3.png" ContentType="image/png"/>
  <Override PartName="/ppt/media/image43.png" ContentType="image/png"/>
  <Override PartName="/ppt/media/image55.jpeg" ContentType="image/jpeg"/>
  <Override PartName="/ppt/media/image60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14.jpeg" ContentType="image/jpeg"/>
  <Override PartName="/ppt/media/image41.jpeg" ContentType="image/jpeg"/>
  <Override PartName="/ppt/media/image66.png" ContentType="image/pn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1.png" ContentType="image/png"/>
  <Override PartName="/ppt/media/image13.png" ContentType="image/png"/>
  <Override PartName="/ppt/media/image33.png" ContentType="image/png"/>
  <Override PartName="/ppt/media/image54.jpeg" ContentType="image/jpeg"/>
  <Override PartName="/ppt/media/image9.png" ContentType="image/png"/>
  <Override PartName="/ppt/media/image44.png" ContentType="image/png"/>
  <Override PartName="/ppt/media/image4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44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200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8920" y="4192200"/>
            <a:ext cx="2501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440" y="479520"/>
            <a:ext cx="7769160" cy="649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6680" y="419220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440" y="4192200"/>
            <a:ext cx="77691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79520"/>
            <a:ext cx="776916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0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0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0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0720" y="1898640"/>
            <a:ext cx="541044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ffff00"/>
                </a:solidFill>
                <a:latin typeface="Times New Roman"/>
              </a:rPr>
              <a:t>Narzędzia pomiarow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2745360" y="6321600"/>
            <a:ext cx="3645360" cy="90000"/>
          </a:xfrm>
          <a:prstGeom prst="roundRect">
            <a:avLst>
              <a:gd name="adj" fmla="val 138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700" spc="-1" strike="noStrike">
                <a:solidFill>
                  <a:srgbClr val="333366"/>
                </a:solidFill>
                <a:latin typeface="Verdana"/>
              </a:rPr>
              <a:t>Prezentacja znajduje się w Archiwum Internetowego Serwisu Oświatowego AWANS.N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755e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276720" y="30290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Suwmiarka z precyzyjnym ustawieni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rowadnica i suwak z hartowanej, nierdzewnej st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2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działka i noniusz matowo chrom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wierzchnie pomiarowe docie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0" r="15104" b="60499"/>
          <a:stretch/>
        </p:blipFill>
        <p:spPr>
          <a:xfrm>
            <a:off x="1828800" y="1676520"/>
            <a:ext cx="5564160" cy="1730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c19a7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Suwmiarka czujniko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4190760"/>
            <a:ext cx="77724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wszystkie elementy ze stali nierdzew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prowadnica pokryta tytan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jeden obrót wskazówki – 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0" t="0" r="36021" b="66739"/>
          <a:stretch/>
        </p:blipFill>
        <p:spPr>
          <a:xfrm>
            <a:off x="2057400" y="1905120"/>
            <a:ext cx="558468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12816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Suwmiarka elektroni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rcRect l="0" t="0" r="0" b="50039"/>
          <a:stretch/>
        </p:blipFill>
        <p:spPr>
          <a:xfrm>
            <a:off x="1676520" y="838080"/>
            <a:ext cx="6186240" cy="1930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266920" y="29005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4267080" y="2362320"/>
            <a:ext cx="4610160" cy="10573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95600" y="281448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52280" y="2819520"/>
            <a:ext cx="3953160" cy="12286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28600" y="4267080"/>
            <a:ext cx="38862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N/OF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wł./wy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IGI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wstępnie ustalona wartość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czątkowa zakresu pomiarowego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ZER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 wskazanie „0.000"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CH / MM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cal / m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733920"/>
            <a:ext cx="4495680" cy="28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ZERO / AB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= wskazanie „0.000" dla pomiaru porównawczego / powrót wskazania na aktualną pozycję pomiarową w odniesieniu do wstępnie ustalonej wartości początkowej zakresu pomiarowego (tryb normalny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FFS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przywoływanie jakiejś na stałe wprowadzonej wartości, np. przy pomiarach wewnętrznyc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ET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     Wstępne ustawienie wartości początkowej lub dowolnej wartości dla pomiaru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równawczego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Suwmiarka elektronicz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8059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wierzchnie pomiarowe utwardzo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cierane, zewnętrzne i wewnętrzne szczęki pomiarowe zaostrzone do pomiarów małych rowków i otwo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rcRect l="0" t="0" r="0" b="50039"/>
          <a:stretch/>
        </p:blipFill>
        <p:spPr>
          <a:xfrm>
            <a:off x="1676520" y="1828800"/>
            <a:ext cx="6186240" cy="1930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63520"/>
            <a:ext cx="777240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Suwmiarki specjalne </a:t>
            </a:r>
            <a:br>
              <a:rPr sz="4400"/>
            </a:br>
            <a:br>
              <a:rPr sz="4400"/>
            </a:b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Suwmiarka do pomiaru materiałów wrażliw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440" y="4723920"/>
            <a:ext cx="8232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suwmiarka ze stałym naciskiem pomiarowym, z rolką napędow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>
            <a:lum contrast="6000"/>
          </a:blip>
          <a:srcRect l="0" t="1934" r="2066" b="57430"/>
          <a:stretch/>
        </p:blipFill>
        <p:spPr>
          <a:xfrm>
            <a:off x="1676520" y="2895480"/>
            <a:ext cx="617220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do pomiarów toleran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 głębokościomierz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kontroli ser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rcRect l="0" t="0" r="403" b="52704"/>
          <a:stretch/>
        </p:blipFill>
        <p:spPr>
          <a:xfrm>
            <a:off x="1752480" y="1752480"/>
            <a:ext cx="59436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do pomiaru rowków i podcięć na wałk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4419360"/>
            <a:ext cx="5715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- powierzchnie pomiarowe wykonane z węglika spiekan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rcRect l="0" t="1776" r="17874" b="59059"/>
          <a:stretch/>
        </p:blipFill>
        <p:spPr>
          <a:xfrm>
            <a:off x="2286000" y="2286000"/>
            <a:ext cx="5376960" cy="1714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do pomiaru rozstawu otworów</a:t>
            </a: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suwmiarka z przesuwną szczęk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nierdzewne powierzchnie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>
            <a:lum contrast="6000"/>
          </a:blip>
          <a:srcRect l="0" t="2072" r="16225" b="58240"/>
          <a:stretch/>
        </p:blipFill>
        <p:spPr>
          <a:xfrm>
            <a:off x="1905120" y="1981080"/>
            <a:ext cx="5715000" cy="1809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z ostrzami pomiarowymi do wymiarów z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nierdzewne i utwardzone powierzchnie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budowana podziałka bezwzglę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rcRect l="1121" t="0" r="17874" b="62572"/>
          <a:stretch/>
        </p:blipFill>
        <p:spPr>
          <a:xfrm>
            <a:off x="1905120" y="2133720"/>
            <a:ext cx="5524560" cy="1706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z ostrzami pomiarowymi do wymiarów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7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jednorazowe ustawienie pozycji zer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pozostaje bezwzględnym punk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zerowym, aż do wymiany bater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rcRect l="0" t="0" r="19259" b="64664"/>
          <a:stretch/>
        </p:blipFill>
        <p:spPr>
          <a:xfrm>
            <a:off x="1828800" y="2133720"/>
            <a:ext cx="5506920" cy="1612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85880" y="572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762120" y="228600"/>
            <a:ext cx="7211880" cy="6323040"/>
            <a:chOff x="762120" y="228600"/>
            <a:chExt cx="7211880" cy="6323040"/>
          </a:xfrm>
        </p:grpSpPr>
        <p:grpSp>
          <p:nvGrpSpPr>
            <p:cNvPr id="42" name=""/>
            <p:cNvGrpSpPr/>
            <p:nvPr/>
          </p:nvGrpSpPr>
          <p:grpSpPr>
            <a:xfrm>
              <a:off x="2565360" y="228600"/>
              <a:ext cx="3245040" cy="331920"/>
              <a:chOff x="2565360" y="228600"/>
              <a:chExt cx="3245040" cy="331920"/>
            </a:xfrm>
          </p:grpSpPr>
          <p:sp>
            <p:nvSpPr>
              <p:cNvPr id="43" name=""/>
              <p:cNvSpPr/>
              <p:nvPr/>
            </p:nvSpPr>
            <p:spPr>
              <a:xfrm>
                <a:off x="2565360" y="228600"/>
                <a:ext cx="324504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2565360" y="228600"/>
                <a:ext cx="324504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Narzędzia pomiaro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" name=""/>
            <p:cNvSpPr/>
            <p:nvPr/>
          </p:nvSpPr>
          <p:spPr>
            <a:xfrm>
              <a:off x="1663560" y="728640"/>
              <a:ext cx="5229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" name=""/>
            <p:cNvGrpSpPr/>
            <p:nvPr/>
          </p:nvGrpSpPr>
          <p:grpSpPr>
            <a:xfrm>
              <a:off x="762120" y="893880"/>
              <a:ext cx="1801800" cy="331560"/>
              <a:chOff x="762120" y="893880"/>
              <a:chExt cx="1801800" cy="331560"/>
            </a:xfrm>
          </p:grpSpPr>
          <p:sp>
            <p:nvSpPr>
              <p:cNvPr id="47" name=""/>
              <p:cNvSpPr/>
              <p:nvPr/>
            </p:nvSpPr>
            <p:spPr>
              <a:xfrm>
                <a:off x="762120" y="893880"/>
                <a:ext cx="180180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62120" y="893880"/>
                <a:ext cx="18018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Wzorce mi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106800" y="893880"/>
              <a:ext cx="1801800" cy="331560"/>
              <a:chOff x="3106800" y="893880"/>
              <a:chExt cx="1801800" cy="331560"/>
            </a:xfrm>
          </p:grpSpPr>
          <p:sp>
            <p:nvSpPr>
              <p:cNvPr id="50" name=""/>
              <p:cNvSpPr/>
              <p:nvPr/>
            </p:nvSpPr>
            <p:spPr>
              <a:xfrm>
                <a:off x="3106800" y="893880"/>
                <a:ext cx="180180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106800" y="893880"/>
                <a:ext cx="180180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Sprawdzian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5630760" y="893880"/>
              <a:ext cx="2343240" cy="331560"/>
              <a:chOff x="5630760" y="893880"/>
              <a:chExt cx="2343240" cy="331560"/>
            </a:xfrm>
          </p:grpSpPr>
          <p:sp>
            <p:nvSpPr>
              <p:cNvPr id="53" name=""/>
              <p:cNvSpPr/>
              <p:nvPr/>
            </p:nvSpPr>
            <p:spPr>
              <a:xfrm>
                <a:off x="5630760" y="893880"/>
                <a:ext cx="234324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630760" y="893880"/>
                <a:ext cx="2343240" cy="32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000000"/>
                    </a:solidFill>
                    <a:latin typeface="Times New Roman"/>
                  </a:rPr>
                  <a:t>Przyrządy pomiarow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942840" y="1560600"/>
              <a:ext cx="1622520" cy="498240"/>
              <a:chOff x="942840" y="1560600"/>
              <a:chExt cx="1622520" cy="498240"/>
            </a:xfrm>
          </p:grpSpPr>
          <p:sp>
            <p:nvSpPr>
              <p:cNvPr id="56" name=""/>
              <p:cNvSpPr/>
              <p:nvPr/>
            </p:nvSpPr>
            <p:spPr>
              <a:xfrm>
                <a:off x="942840" y="1560600"/>
                <a:ext cx="1622520" cy="498240"/>
              </a:xfrm>
              <a:prstGeom prst="roundRect">
                <a:avLst>
                  <a:gd name="adj" fmla="val 315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42840" y="1560600"/>
                <a:ext cx="162252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Kreskowe i inkremental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942840" y="2225520"/>
              <a:ext cx="1622520" cy="331920"/>
              <a:chOff x="942840" y="2225520"/>
              <a:chExt cx="1622520" cy="331920"/>
            </a:xfrm>
          </p:grpSpPr>
          <p:sp>
            <p:nvSpPr>
              <p:cNvPr id="59" name=""/>
              <p:cNvSpPr/>
              <p:nvPr/>
            </p:nvSpPr>
            <p:spPr>
              <a:xfrm>
                <a:off x="942840" y="222552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42840" y="222552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Końcow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942840" y="2725560"/>
              <a:ext cx="1622520" cy="331920"/>
              <a:chOff x="942840" y="2725560"/>
              <a:chExt cx="1622520" cy="331920"/>
            </a:xfrm>
          </p:grpSpPr>
          <p:sp>
            <p:nvSpPr>
              <p:cNvPr id="62" name=""/>
              <p:cNvSpPr/>
              <p:nvPr/>
            </p:nvSpPr>
            <p:spPr>
              <a:xfrm>
                <a:off x="942840" y="272556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942840" y="272556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Końcowo - kreskow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942840" y="3224160"/>
              <a:ext cx="1622520" cy="331920"/>
              <a:chOff x="942840" y="3224160"/>
              <a:chExt cx="1622520" cy="331920"/>
            </a:xfrm>
          </p:grpSpPr>
          <p:sp>
            <p:nvSpPr>
              <p:cNvPr id="65" name=""/>
              <p:cNvSpPr/>
              <p:nvPr/>
            </p:nvSpPr>
            <p:spPr>
              <a:xfrm>
                <a:off x="942840" y="322416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942840" y="322416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Falow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467160" y="1560600"/>
              <a:ext cx="1622520" cy="331560"/>
              <a:chOff x="3467160" y="1560600"/>
              <a:chExt cx="1622520" cy="331560"/>
            </a:xfrm>
          </p:grpSpPr>
          <p:sp>
            <p:nvSpPr>
              <p:cNvPr id="68" name=""/>
              <p:cNvSpPr/>
              <p:nvPr/>
            </p:nvSpPr>
            <p:spPr>
              <a:xfrm>
                <a:off x="3467160" y="1560600"/>
                <a:ext cx="162252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467160" y="156060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Wymiar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3467160" y="2058840"/>
              <a:ext cx="1622520" cy="331920"/>
              <a:chOff x="3467160" y="2058840"/>
              <a:chExt cx="1622520" cy="331920"/>
            </a:xfrm>
          </p:grpSpPr>
          <p:sp>
            <p:nvSpPr>
              <p:cNvPr id="71" name=""/>
              <p:cNvSpPr/>
              <p:nvPr/>
            </p:nvSpPr>
            <p:spPr>
              <a:xfrm>
                <a:off x="3467160" y="205884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467160" y="205884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Kształt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3467160" y="2725560"/>
              <a:ext cx="1622520" cy="498600"/>
              <a:chOff x="3467160" y="2725560"/>
              <a:chExt cx="1622520" cy="498600"/>
            </a:xfrm>
          </p:grpSpPr>
          <p:sp>
            <p:nvSpPr>
              <p:cNvPr id="74" name=""/>
              <p:cNvSpPr/>
              <p:nvPr/>
            </p:nvSpPr>
            <p:spPr>
              <a:xfrm>
                <a:off x="3467160" y="2725560"/>
                <a:ext cx="1622520" cy="498600"/>
              </a:xfrm>
              <a:prstGeom prst="roundRect">
                <a:avLst>
                  <a:gd name="adj" fmla="val 315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467160" y="272556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Elementów złożony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663560" y="728640"/>
              <a:ext cx="1800" cy="1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08600" y="561960"/>
              <a:ext cx="1440" cy="33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2920" y="728640"/>
              <a:ext cx="1440" cy="1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94720" y="1227240"/>
              <a:ext cx="1440" cy="432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5811840" y="1560600"/>
              <a:ext cx="1622520" cy="331560"/>
              <a:chOff x="5811840" y="1560600"/>
              <a:chExt cx="1622520" cy="331560"/>
            </a:xfrm>
          </p:grpSpPr>
          <p:sp>
            <p:nvSpPr>
              <p:cNvPr id="81" name=""/>
              <p:cNvSpPr/>
              <p:nvPr/>
            </p:nvSpPr>
            <p:spPr>
              <a:xfrm>
                <a:off x="5811840" y="1560600"/>
                <a:ext cx="162252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11840" y="156060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Suwmiarkow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5811840" y="2058840"/>
              <a:ext cx="1622520" cy="331920"/>
              <a:chOff x="5811840" y="2058840"/>
              <a:chExt cx="1622520" cy="331920"/>
            </a:xfrm>
          </p:grpSpPr>
          <p:sp>
            <p:nvSpPr>
              <p:cNvPr id="84" name=""/>
              <p:cNvSpPr/>
              <p:nvPr/>
            </p:nvSpPr>
            <p:spPr>
              <a:xfrm>
                <a:off x="5811840" y="205884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811840" y="205884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Mikrometrycz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811840" y="2558880"/>
              <a:ext cx="1622520" cy="498600"/>
              <a:chOff x="5811840" y="2558880"/>
              <a:chExt cx="1622520" cy="498600"/>
            </a:xfrm>
          </p:grpSpPr>
          <p:sp>
            <p:nvSpPr>
              <p:cNvPr id="87" name=""/>
              <p:cNvSpPr/>
              <p:nvPr/>
            </p:nvSpPr>
            <p:spPr>
              <a:xfrm>
                <a:off x="5811840" y="2558880"/>
                <a:ext cx="1622520" cy="498600"/>
              </a:xfrm>
              <a:prstGeom prst="roundRect">
                <a:avLst>
                  <a:gd name="adj" fmla="val 315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811840" y="2558880"/>
                <a:ext cx="162252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Mikroskopy i projekt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5811840" y="3224160"/>
              <a:ext cx="1622520" cy="331920"/>
              <a:chOff x="5811840" y="3224160"/>
              <a:chExt cx="1622520" cy="331920"/>
            </a:xfrm>
          </p:grpSpPr>
          <p:sp>
            <p:nvSpPr>
              <p:cNvPr id="90" name=""/>
              <p:cNvSpPr/>
              <p:nvPr/>
            </p:nvSpPr>
            <p:spPr>
              <a:xfrm>
                <a:off x="5811840" y="322416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811840" y="322416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Maszyny pomiarow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811840" y="3889440"/>
              <a:ext cx="1622520" cy="331560"/>
              <a:chOff x="5811840" y="3889440"/>
              <a:chExt cx="1622520" cy="331560"/>
            </a:xfrm>
          </p:grpSpPr>
          <p:sp>
            <p:nvSpPr>
              <p:cNvPr id="93" name=""/>
              <p:cNvSpPr/>
              <p:nvPr/>
            </p:nvSpPr>
            <p:spPr>
              <a:xfrm>
                <a:off x="5811840" y="3889440"/>
                <a:ext cx="162252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11840" y="388944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Czujniki pomiarow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811840" y="4389480"/>
              <a:ext cx="1622520" cy="331920"/>
              <a:chOff x="5811840" y="4389480"/>
              <a:chExt cx="1622520" cy="331920"/>
            </a:xfrm>
          </p:grpSpPr>
          <p:sp>
            <p:nvSpPr>
              <p:cNvPr id="96" name=""/>
              <p:cNvSpPr/>
              <p:nvPr/>
            </p:nvSpPr>
            <p:spPr>
              <a:xfrm>
                <a:off x="5811840" y="438948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11840" y="438948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o pomiaru kątó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5811840" y="4889520"/>
              <a:ext cx="1622520" cy="331920"/>
              <a:chOff x="5811840" y="4889520"/>
              <a:chExt cx="1622520" cy="331920"/>
            </a:xfrm>
          </p:grpSpPr>
          <p:sp>
            <p:nvSpPr>
              <p:cNvPr id="99" name=""/>
              <p:cNvSpPr/>
              <p:nvPr/>
            </p:nvSpPr>
            <p:spPr>
              <a:xfrm>
                <a:off x="5811840" y="488952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11840" y="488952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Interferome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4368960" y="3724200"/>
              <a:ext cx="2344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13640" y="3557520"/>
              <a:ext cx="1440" cy="1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368960" y="3724200"/>
              <a:ext cx="1440" cy="249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811840" y="5388120"/>
              <a:ext cx="1622520" cy="664920"/>
              <a:chOff x="5811840" y="5388120"/>
              <a:chExt cx="1622520" cy="664920"/>
            </a:xfrm>
          </p:grpSpPr>
          <p:sp>
            <p:nvSpPr>
              <p:cNvPr id="105" name=""/>
              <p:cNvSpPr/>
              <p:nvPr/>
            </p:nvSpPr>
            <p:spPr>
              <a:xfrm>
                <a:off x="5811840" y="5388120"/>
                <a:ext cx="1622520" cy="664920"/>
              </a:xfrm>
              <a:prstGeom prst="roundRect">
                <a:avLst>
                  <a:gd name="adj" fmla="val 236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11840" y="5388120"/>
                <a:ext cx="162252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o pomiaru chropowatości i falistośc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2384280" y="3889440"/>
              <a:ext cx="1622520" cy="331560"/>
              <a:chOff x="2384280" y="3889440"/>
              <a:chExt cx="1622520" cy="331560"/>
            </a:xfrm>
          </p:grpSpPr>
          <p:sp>
            <p:nvSpPr>
              <p:cNvPr id="108" name=""/>
              <p:cNvSpPr/>
              <p:nvPr/>
            </p:nvSpPr>
            <p:spPr>
              <a:xfrm>
                <a:off x="2384280" y="3889440"/>
                <a:ext cx="1622520" cy="33156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84280" y="388944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ługościomier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384280" y="4389480"/>
              <a:ext cx="1622520" cy="331920"/>
              <a:chOff x="2384280" y="4389480"/>
              <a:chExt cx="1622520" cy="331920"/>
            </a:xfrm>
          </p:grpSpPr>
          <p:sp>
            <p:nvSpPr>
              <p:cNvPr id="111" name=""/>
              <p:cNvSpPr/>
              <p:nvPr/>
            </p:nvSpPr>
            <p:spPr>
              <a:xfrm>
                <a:off x="2384280" y="438948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384280" y="438948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Wysokościomier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384280" y="4889520"/>
              <a:ext cx="1622520" cy="331920"/>
              <a:chOff x="2384280" y="4889520"/>
              <a:chExt cx="1622520" cy="331920"/>
            </a:xfrm>
          </p:grpSpPr>
          <p:sp>
            <p:nvSpPr>
              <p:cNvPr id="114" name=""/>
              <p:cNvSpPr/>
              <p:nvPr/>
            </p:nvSpPr>
            <p:spPr>
              <a:xfrm>
                <a:off x="2384280" y="4889520"/>
                <a:ext cx="1622520" cy="331920"/>
              </a:xfrm>
              <a:prstGeom prst="roundRect">
                <a:avLst>
                  <a:gd name="adj" fmla="val 477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384280" y="4889520"/>
                <a:ext cx="162252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Współrzędnościow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384280" y="5388120"/>
              <a:ext cx="1622520" cy="498240"/>
              <a:chOff x="2384280" y="5388120"/>
              <a:chExt cx="1622520" cy="498240"/>
            </a:xfrm>
          </p:grpSpPr>
          <p:sp>
            <p:nvSpPr>
              <p:cNvPr id="117" name=""/>
              <p:cNvSpPr/>
              <p:nvPr/>
            </p:nvSpPr>
            <p:spPr>
              <a:xfrm>
                <a:off x="2384280" y="5388120"/>
                <a:ext cx="1622520" cy="498240"/>
              </a:xfrm>
              <a:prstGeom prst="roundRect">
                <a:avLst>
                  <a:gd name="adj" fmla="val 315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384280" y="5388120"/>
                <a:ext cx="162252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o odchyłek kształtu i położeni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384280" y="6053040"/>
              <a:ext cx="1622520" cy="498600"/>
              <a:chOff x="2384280" y="6053040"/>
              <a:chExt cx="1622520" cy="498600"/>
            </a:xfrm>
          </p:grpSpPr>
          <p:sp>
            <p:nvSpPr>
              <p:cNvPr id="120" name=""/>
              <p:cNvSpPr/>
              <p:nvPr/>
            </p:nvSpPr>
            <p:spPr>
              <a:xfrm>
                <a:off x="2384280" y="6053040"/>
                <a:ext cx="1622520" cy="498600"/>
              </a:xfrm>
              <a:prstGeom prst="roundRect">
                <a:avLst>
                  <a:gd name="adj" fmla="val 315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384280" y="6053040"/>
                <a:ext cx="1622520" cy="44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000000"/>
                    </a:solidFill>
                    <a:latin typeface="Times New Roman"/>
                  </a:rPr>
                  <a:t>Do pomiaru kół zębaty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008600" y="405612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08600" y="455616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08600" y="505476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08600" y="555480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8600" y="6219720"/>
              <a:ext cx="360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34360" y="405612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434360" y="455616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34360" y="505476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34360" y="555480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360" y="3390840"/>
              <a:ext cx="360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4360" y="2725560"/>
              <a:ext cx="360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34360" y="2225520"/>
              <a:ext cx="360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34360" y="1727280"/>
              <a:ext cx="360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62120" y="1227240"/>
              <a:ext cx="1440" cy="216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86080" y="1227240"/>
              <a:ext cx="1800" cy="166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2120" y="3390840"/>
              <a:ext cx="180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2120" y="2890800"/>
              <a:ext cx="180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2120" y="2392200"/>
              <a:ext cx="180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1727280"/>
              <a:ext cx="180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286080" y="1727280"/>
              <a:ext cx="181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86080" y="2225520"/>
              <a:ext cx="181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86080" y="2890800"/>
              <a:ext cx="1810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do pomiaru grubości ścian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41144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utwardzone i docierane powierzchnie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ochrona suwaka przed zanieczyszcz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uży wyświetlacz cyf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rcRect l="0" t="0" r="19259" b="62572"/>
          <a:stretch/>
        </p:blipFill>
        <p:spPr>
          <a:xfrm>
            <a:off x="1828800" y="2057400"/>
            <a:ext cx="5506920" cy="1706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warszta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ceramiczne powierzchnie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miar wewnętrzny – 2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mienne szczęki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0" r="0" b="60499"/>
          <a:stretch/>
        </p:blipFill>
        <p:spPr>
          <a:xfrm>
            <a:off x="1523880" y="1981080"/>
            <a:ext cx="679140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- Suwmiarka do pomiarów wewnętrzny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ługie i wąskie szczęki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uży cyfrowy wyświetlac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rcRect l="0" t="1974" r="20710" b="54184"/>
          <a:stretch/>
        </p:blipFill>
        <p:spPr>
          <a:xfrm>
            <a:off x="1828800" y="1752480"/>
            <a:ext cx="5629320" cy="2081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Wysokościomierz suwmiarkow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>
            <a:lum bright="-12000"/>
          </a:blip>
          <a:srcRect l="0" t="2430" r="5272" b="17863"/>
          <a:stretch/>
        </p:blipFill>
        <p:spPr>
          <a:xfrm>
            <a:off x="3276720" y="1523880"/>
            <a:ext cx="2036520" cy="4959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flipH="1">
            <a:off x="4873320" y="2286000"/>
            <a:ext cx="1073160" cy="99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95880" y="1965240"/>
            <a:ext cx="2622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rowadnica z podziałką główn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71800" y="5791320"/>
            <a:ext cx="121932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5562720"/>
            <a:ext cx="990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Podsta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4191120"/>
            <a:ext cx="91440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733920"/>
            <a:ext cx="1143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Ramię przesuw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4873320" y="4873680"/>
            <a:ext cx="1073160" cy="768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029200" y="5638680"/>
            <a:ext cx="24922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wak z podziałką nonius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101920" y="4343400"/>
            <a:ext cx="4633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101920" y="3959280"/>
            <a:ext cx="463320" cy="23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038480"/>
            <a:ext cx="13716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Śruby zacisko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4797360" y="3124080"/>
            <a:ext cx="1378080" cy="838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019920" y="2819520"/>
            <a:ext cx="1295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Suwak dodatkow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2895480"/>
            <a:ext cx="1143000" cy="10670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14600" y="2438280"/>
            <a:ext cx="16002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akrętka śruby nastawcze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38280" y="4724280"/>
            <a:ext cx="99072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4495680"/>
            <a:ext cx="167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ońcówka pomiaro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Wysokościomierz tradycyj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05320" y="1981080"/>
            <a:ext cx="5338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2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igła do trasowania wygięta, z nakładką z węglików spiek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rowadnica hartowana           i szlifow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matowo chromowana podziałka i nonius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rcRect l="2770" t="0" r="70723" b="0"/>
          <a:stretch/>
        </p:blipFill>
        <p:spPr>
          <a:xfrm>
            <a:off x="990720" y="1676520"/>
            <a:ext cx="2022480" cy="5095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Wysokościomierz elektronicz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114440" y="1980720"/>
            <a:ext cx="434340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sokościomierz         i przyrząd                       do trasowania              z dwoma licznik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najważniejsze elementy hart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igła traserska               z węglika spiekan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rcRect l="0" t="1062" r="51128" b="2374"/>
          <a:stretch/>
        </p:blipFill>
        <p:spPr>
          <a:xfrm>
            <a:off x="685800" y="1319040"/>
            <a:ext cx="2533680" cy="5286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Wysokościomierz elektronicz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7840" y="167004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akres pomiarowy                 od 0 – 972 mm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: 0,0001; 0,001; 0,01; 0,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neumatyczny mechanizm posuw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budowany akumulator          i kompre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możliwość ustalania            dla różnych typów końców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rcRect l="9511" t="3149" r="40232" b="0"/>
          <a:stretch/>
        </p:blipFill>
        <p:spPr>
          <a:xfrm>
            <a:off x="5791320" y="1257480"/>
            <a:ext cx="27432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37960" y="334440"/>
            <a:ext cx="563904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ysokościomierz LH-600 B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odstawowe dane techniczn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neumatyczny mechanizm posuw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Automatyczny przebieg wcześniej wprowadzonych programów częściowy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Bezpośredni meldunek zwrotny przy każdym pomiarze GO/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Wyjście danych DIGIMATIC do czujników cyfrowych np. do prostopadłośc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Funkcje do pomiarów/oceny dla 1D- i 2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omiar wysokości (górna/ dolna powierzchn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Średnica (otwór/ wałe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omiar wewnętrznych odcinków lub grub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Pomiar maksymalnej i minimalnej wysok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Ustalanie ką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Obliczenie odległ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Obliczenie elementu 2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Obliczenie kąta (element/el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Obliczenie kąta (element/oś 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2D-obliczenie odległość (element/el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2D-obliczenie odległość (element/punkt referencyj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Obliczenie koła podziałowe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2D-ustawienie układu współrzęd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Baza biegunowego układu współrzęd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i="1" lang="en-GB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Uchwycenie prostopadłości, prostoliniowości, nachylenia i płaszczyz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Obliczenia arytmetycz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•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Wyjście danych DIGIMATIC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rcRect l="9511" t="3149" r="40232" b="0"/>
          <a:stretch/>
        </p:blipFill>
        <p:spPr>
          <a:xfrm>
            <a:off x="5791320" y="1257480"/>
            <a:ext cx="2743200" cy="541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Głębokościomierz suwmiark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85840" y="2514600"/>
            <a:ext cx="472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pomiaru głębokości otworów, podcięć            i osad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wierzchnie pomiarowe i prowadnice hartowane i docie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konanie nierdzew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rcRect l="2506" t="1314" r="65381" b="0"/>
          <a:stretch/>
        </p:blipFill>
        <p:spPr>
          <a:xfrm>
            <a:off x="1143000" y="1446120"/>
            <a:ext cx="2101680" cy="5031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Głębokościomierz czujnik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4876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wierzchnie pomiarowe i prowadnice hartowane   i docie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pomiaru głębokości otworów, podcięć              i osadze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konanie nierdzew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rcRect l="0" t="928" r="65381" b="0"/>
          <a:stretch/>
        </p:blipFill>
        <p:spPr>
          <a:xfrm>
            <a:off x="5791320" y="1309680"/>
            <a:ext cx="217332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685800" y="228600"/>
            <a:ext cx="7770960" cy="1141560"/>
            <a:chOff x="685800" y="228600"/>
            <a:chExt cx="7770960" cy="1141560"/>
          </a:xfrm>
        </p:grpSpPr>
        <p:sp>
          <p:nvSpPr>
            <p:cNvPr id="145" name=""/>
            <p:cNvSpPr/>
            <p:nvPr/>
          </p:nvSpPr>
          <p:spPr>
            <a:xfrm>
              <a:off x="685800" y="228600"/>
              <a:ext cx="7770960" cy="1141560"/>
            </a:xfrm>
            <a:prstGeom prst="roundRect">
              <a:avLst>
                <a:gd name="adj" fmla="val 1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" y="469080"/>
              <a:ext cx="777096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9144000"/>
                  <a:tab algn="l" pos="10058400"/>
                </a:tabLst>
              </a:pPr>
              <a:r>
                <a:rPr b="1" i="1" lang="en-GB" sz="4000" spc="-1" strike="noStrike">
                  <a:solidFill>
                    <a:srgbClr val="339933"/>
                  </a:solidFill>
                  <a:latin typeface="Arial"/>
                </a:rPr>
                <a:t>Budowa suwmiarki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676520" y="2057400"/>
            <a:ext cx="304560" cy="8380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511000" y="2057400"/>
            <a:ext cx="23508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178080" y="2057400"/>
            <a:ext cx="101592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797000" y="2666880"/>
            <a:ext cx="53964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2666880"/>
            <a:ext cx="30492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990720" y="4492440"/>
            <a:ext cx="761760" cy="996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663640" y="4492440"/>
            <a:ext cx="82440" cy="920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197160" y="3730320"/>
            <a:ext cx="844560" cy="145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721040" y="3806640"/>
            <a:ext cx="463320" cy="844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7311960" y="3654360"/>
            <a:ext cx="311040" cy="92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7921440" y="3505320"/>
            <a:ext cx="539640" cy="1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8153280" y="3501720"/>
            <a:ext cx="304920" cy="107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09680" y="5410080"/>
            <a:ext cx="11430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Szczęka ruch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5257800"/>
            <a:ext cx="9144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Nonius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4724280"/>
            <a:ext cx="9907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Podział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91320" y="4621320"/>
            <a:ext cx="207180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Powierzchnie pomiarowe do pomiaru głębokoś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53080" y="2362320"/>
            <a:ext cx="16002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Głębokościomier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0600" y="2362320"/>
            <a:ext cx="10666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Prowad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1752480"/>
            <a:ext cx="1447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Suw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5562720"/>
            <a:ext cx="12193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Szczęka stał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49200" y="1371600"/>
            <a:ext cx="233856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Powierzchnie pomiarowe                 w  kształcie ostrza            do pomiarów wewnętrzny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rcRect l="3000" t="19785" r="5838" b="20814"/>
          <a:stretch/>
        </p:blipFill>
        <p:spPr>
          <a:xfrm>
            <a:off x="1523880" y="2819520"/>
            <a:ext cx="640080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0440" y="91800"/>
            <a:ext cx="876312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Głębokościomierz elektronicz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474720" y="2362320"/>
            <a:ext cx="513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ość 0,0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nierdzewne,         całkowicie utwardzone powierzchnie pomiar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ochrona suwaka          przed zanieczyszczeni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rcRect l="0" t="0" r="63989" b="0"/>
          <a:stretch/>
        </p:blipFill>
        <p:spPr>
          <a:xfrm>
            <a:off x="1066680" y="1447920"/>
            <a:ext cx="2167200" cy="4865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ikrometryczne przyrządy pomiar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71600" y="22622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4600800" cy="23338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1752480" y="29718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1828800" y="4572000"/>
            <a:ext cx="6324480" cy="153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ikromet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4038480" cy="16668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5410080" y="1676520"/>
            <a:ext cx="3295800" cy="23176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6095880" y="4191120"/>
            <a:ext cx="236232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omplet mikrometró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0 do 25 m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5 do 50 mm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50 do 75 mm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75 do 100 mm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733920"/>
            <a:ext cx="449568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ane technicz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artość działki el.: 0,01 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działki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ęben i tuleja matowo chromow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wierzchnie pom.: z węglików spiekanych, szlifowane, ociera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Kabłąk: odkuwka stalowa, chromowany matow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acisk pomiarowy:  5-10 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ik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33800" y="26290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2876400" cy="1600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304920" y="4495680"/>
            <a:ext cx="3809880" cy="17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krometry zewnętrzne z liczniki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ane technicz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artość dziatki elem.: 0,01 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ozdzielczość licznik: 0,01 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wierzchnie pom.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ęglików spiekanych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zlifowane, docier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acisk pomiarowy:    5-15 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71680" y="302436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581280" cy="11142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419720" y="4267080"/>
            <a:ext cx="4572000" cy="10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krometr zewnętrzny w wykonaniu specjaln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Z końcówkami pomiarowymi pryzmatycznym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pomiarów narzędzi o trzech ostrzach,           np. wierteł, frezów, rozwiertaków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ik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00320" y="280980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886200" cy="16351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304920" y="4572000"/>
            <a:ext cx="442116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krometr zewnętrz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w wykonaniu specjaln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 pomiarów kół zębatych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28840" y="30002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029200" y="2514600"/>
            <a:ext cx="3676680" cy="129528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737240" y="4540320"/>
            <a:ext cx="4578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krometr zewnętrzny w wykonaniu specjalny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tosowany w kontroli seryjnej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Mikrometry elektroniczn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33880" y="294336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609480" y="2133720"/>
            <a:ext cx="3886200" cy="14112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52280" y="4495680"/>
            <a:ext cx="457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ane technicz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ozdzielczość: 0,001 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działki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bęben i tuleja matowo chromowa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owierzch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pom.: z węglików spiekanych, szlifowane, docierane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Nacisk pom.: 5-10 N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19360" y="291924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86400" y="2133720"/>
            <a:ext cx="2104920" cy="10191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5156280" y="3716280"/>
            <a:ext cx="373356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ikrometry z regulowana siłą docis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gulacja siły docisku pozwala              na pomiar przedmiotów wykonanych       z materiałów miękkich, takich jak guma, tektura, tworzywa sztuczne it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ane technicz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ozdzielczość: 0,001 mm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łaskość:         &lt; 1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ównoległość: &lt; 3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m.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Kątownik nastaw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4114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ramię 3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hartowany kątownik centrują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szyna ze stali nierdzewn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głowica kątownika hartowana, z poziomic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odczyt z tyłu i z przodu podziałk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10312" r="22075" b="16578"/>
          <a:stretch/>
        </p:blipFill>
        <p:spPr>
          <a:xfrm>
            <a:off x="2444760" y="1600200"/>
            <a:ext cx="4253040" cy="2666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 flipV="1">
            <a:off x="1676520" y="1749240"/>
            <a:ext cx="914400" cy="82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600200"/>
            <a:ext cx="129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Znacznik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trasers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968560" y="1676520"/>
            <a:ext cx="76824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90920" y="1371600"/>
            <a:ext cx="1447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Głowica kątownika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568400" y="1752480"/>
            <a:ext cx="1073160" cy="68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1523880"/>
            <a:ext cx="16765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Kątomier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711400" y="2133720"/>
            <a:ext cx="996840" cy="457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24480" y="1676520"/>
            <a:ext cx="12956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Kątownik centrują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Uniwersalny kątomier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akres pomiarowy: -360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°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do +360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ramię pomiarowe można przesuwać             i blokować na całej długoś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ramię długości 15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rcRect l="1121" t="1974" r="16489" b="56266"/>
          <a:stretch/>
        </p:blipFill>
        <p:spPr>
          <a:xfrm>
            <a:off x="1650960" y="1828800"/>
            <a:ext cx="5840280" cy="1979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114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Czujniki pomiarow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33720" y="225252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1276200" cy="2352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98360" y="3657600"/>
            <a:ext cx="560412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zujniki mechanicz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 przypadku czujników zębatych z obrotową podziałką,  punkt zerowy można ustawić dokładnie na początku rozpiętości wyników pomiaru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kładność odczytu 0,001 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38560" y="26575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200400" cy="1850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019920" y="3657600"/>
            <a:ext cx="3124080" cy="22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zujniki dźwigniowo-zęb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Czujniki dźwigniowo zębate        w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óżnych wykonaniach            do przeprowadzania pomiarów porównawczy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Umożliwia on pomiar                  w obu kierunkach,           obrotowy pierścień zewnętrzny służy do zerowa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114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Czujniki pomiarow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33720" y="225252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014720" y="22813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1114560" cy="22953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17520" y="3749760"/>
            <a:ext cx="3352680" cy="27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zujnik elektroniczny                   z wbudowaną podziałką bezwzględną, z wyjściem dany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Jednorazowe ustawienie pozycji początkowej pozostaje bezwzględnym punktem zerowym, aż do następnej wymiany bater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Precyzja pomiaru również przy najwyższej prędkości przesuwu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38560" y="265752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90960" y="29624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4724280" y="1600200"/>
            <a:ext cx="2962440" cy="9334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419720" y="3200400"/>
            <a:ext cx="411480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Wielofunkcyjny czujnik z zintegrowaną formułą obliczeniową do różnorodnych zastosowa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Dokładność pomiaru promienia za pomocą poprzeczki zależy od wielkości promienia      i błędu kształtu detal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ff"/>
                </a:solidFill>
                <a:latin typeface="Arial"/>
              </a:rPr>
              <a:t>Podstawowe informacje o suwmiark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4560" y="1531800"/>
            <a:ext cx="730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7200" indent="0" algn="just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293760"/>
                <a:tab algn="l" pos="743040"/>
                <a:tab algn="l" pos="1192320"/>
                <a:tab algn="l" pos="1641600"/>
                <a:tab algn="l" pos="2090880"/>
                <a:tab algn="l" pos="2540160"/>
                <a:tab algn="l" pos="2989440"/>
                <a:tab algn="l" pos="3438360"/>
                <a:tab algn="l" pos="3887640"/>
                <a:tab algn="l" pos="4336920"/>
                <a:tab algn="l" pos="4786200"/>
                <a:tab algn="l" pos="5235480"/>
                <a:tab algn="l" pos="5684760"/>
                <a:tab algn="l" pos="6134040"/>
                <a:tab algn="l" pos="6583320"/>
                <a:tab algn="l" pos="7032600"/>
                <a:tab algn="l" pos="7481880"/>
                <a:tab algn="l" pos="7931160"/>
                <a:tab algn="l" pos="8380440"/>
                <a:tab algn="l" pos="8829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W zależności od wyposażenia odczyt wyniku pomiaru na suwmiarce może być za pomocą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16040" indent="-282600" algn="just">
              <a:lnSpc>
                <a:spcPct val="10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293760"/>
                <a:tab algn="l" pos="743040"/>
                <a:tab algn="l" pos="1192320"/>
                <a:tab algn="l" pos="1641600"/>
                <a:tab algn="l" pos="2090880"/>
                <a:tab algn="l" pos="2540160"/>
                <a:tab algn="l" pos="2989440"/>
                <a:tab algn="l" pos="3438360"/>
                <a:tab algn="l" pos="3887640"/>
                <a:tab algn="l" pos="4336920"/>
                <a:tab algn="l" pos="4786200"/>
                <a:tab algn="l" pos="5235480"/>
                <a:tab algn="l" pos="5684760"/>
                <a:tab algn="l" pos="6134040"/>
                <a:tab algn="l" pos="6583320"/>
                <a:tab algn="l" pos="7032600"/>
                <a:tab algn="l" pos="7481880"/>
                <a:tab algn="l" pos="7931160"/>
                <a:tab algn="l" pos="8380440"/>
                <a:tab algn="l" pos="8829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noniusz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16040" indent="-282600" algn="just">
              <a:lnSpc>
                <a:spcPct val="10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293760"/>
                <a:tab algn="l" pos="743040"/>
                <a:tab algn="l" pos="1192320"/>
                <a:tab algn="l" pos="1641600"/>
                <a:tab algn="l" pos="2090880"/>
                <a:tab algn="l" pos="2540160"/>
                <a:tab algn="l" pos="2989440"/>
                <a:tab algn="l" pos="3438360"/>
                <a:tab algn="l" pos="3887640"/>
                <a:tab algn="l" pos="4336920"/>
                <a:tab algn="l" pos="4786200"/>
                <a:tab algn="l" pos="5235480"/>
                <a:tab algn="l" pos="5684760"/>
                <a:tab algn="l" pos="6134040"/>
                <a:tab algn="l" pos="6583320"/>
                <a:tab algn="l" pos="7032600"/>
                <a:tab algn="l" pos="7481880"/>
                <a:tab algn="l" pos="7931160"/>
                <a:tab algn="l" pos="8380440"/>
                <a:tab algn="l" pos="8829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czujnika (o działce elementarnej 0,02 mm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16040" indent="-282600" algn="just">
              <a:lnSpc>
                <a:spcPct val="100000"/>
              </a:lnSpc>
              <a:spcBef>
                <a:spcPts val="374"/>
              </a:spcBef>
              <a:buClr>
                <a:srgbClr val="0000ff"/>
              </a:buClr>
              <a:buFont typeface="Wingdings" charset="2"/>
              <a:buChar char=""/>
              <a:tabLst>
                <a:tab algn="l" pos="293760"/>
                <a:tab algn="l" pos="743040"/>
                <a:tab algn="l" pos="1192320"/>
                <a:tab algn="l" pos="1641600"/>
                <a:tab algn="l" pos="2090880"/>
                <a:tab algn="l" pos="2540160"/>
                <a:tab algn="l" pos="2989440"/>
                <a:tab algn="l" pos="3438360"/>
                <a:tab algn="l" pos="3887640"/>
                <a:tab algn="l" pos="4336920"/>
                <a:tab algn="l" pos="4786200"/>
                <a:tab algn="l" pos="5235480"/>
                <a:tab algn="l" pos="5684760"/>
                <a:tab algn="l" pos="6134040"/>
                <a:tab algn="l" pos="6583320"/>
                <a:tab algn="l" pos="7032600"/>
                <a:tab algn="l" pos="7481880"/>
                <a:tab algn="l" pos="7931160"/>
                <a:tab algn="l" pos="8380440"/>
                <a:tab algn="l" pos="8829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wyświetlacza cyfrowego z rozdzielczością 0,01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 algn="just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293760"/>
                <a:tab algn="l" pos="743040"/>
                <a:tab algn="l" pos="1192320"/>
                <a:tab algn="l" pos="1641600"/>
                <a:tab algn="l" pos="2090880"/>
                <a:tab algn="l" pos="2540160"/>
                <a:tab algn="l" pos="2989440"/>
                <a:tab algn="l" pos="3438360"/>
                <a:tab algn="l" pos="3887640"/>
                <a:tab algn="l" pos="4336920"/>
                <a:tab algn="l" pos="4786200"/>
                <a:tab algn="l" pos="5235480"/>
                <a:tab algn="l" pos="5684760"/>
                <a:tab algn="l" pos="6134040"/>
                <a:tab algn="l" pos="6583320"/>
                <a:tab algn="l" pos="7032600"/>
                <a:tab algn="l" pos="7481880"/>
                <a:tab algn="l" pos="7931160"/>
                <a:tab algn="l" pos="8380440"/>
                <a:tab algn="l" pos="8829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Noniusz jest elementem zwiększającym dokładność odczytu. Standardowe suwmiarki (i przyrządy suwmiarkowe, głębokościomierze i wysokościomierze) mają noniusze o dokładności: 0,1; 0,05 oraz 0,02 mm. Dokładność noniusza jest to różnica dwóch wartości: działki elementarnej podziałki głównej pomnożonej przez moduł i działki elementarnej noniusza. Działka elementarna jest to najmniejsza odległość między dwoma sąsiednimi kreskami podziałki. Moduł jest liczbą całkowitą: 0, 1 lub 2, charakterystyczną dla danego noniusza, wyrażającą zwielokrotnienie długości odniesienia podziałki głównej. Suwmiarki o module M = 1 mają standardowe długości odniesienia podziałki głównej: 10, 20 oraz 50 mm. Długościom odniesienia przyporządkowano długości noniuszy: 9, 19, oraz 49 m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376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Współrzędnościowe maszyny pomiar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 algn="just">
              <a:lnSpc>
                <a:spcPct val="93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Współrzędnościowa maszyna pomiarowa o nowoczesnej filozofii obsługi umożliwia kontrolowanie przedmiotów obrabianych bezpośrednio w produkcji. Wszystkie pomiary    są wykonywane metodą skaningu, tzn. przez ciągłe obwodzenie profilu geometrycznego kształtu części końcówką pomiarową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38080" y="2538360"/>
            <a:ext cx="2568600" cy="40147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3505320" y="2590920"/>
            <a:ext cx="5181480" cy="352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42048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25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PL Arial"/>
                <a:ea typeface="Times New Roman"/>
              </a:rPr>
              <a:t>Prezentacja graficzna przedmiotu zmierzonego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5040" y="214776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486400" cy="3765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479520"/>
            <a:ext cx="77724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yniki pomiaru podawane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 monitorze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705040" y="2205000"/>
            <a:ext cx="9144000" cy="18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5524560" cy="3622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łytka wzorcowa ze st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konana                   z wysokogatunkowej stali stopowe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twardość 800 H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sprawdzania płytek wzorcowych przyporządkowanych do ustawiania urządzeń i maszyn pomiarowych             z dużą dokładnością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rcRect l="0" t="0" r="45851" b="29110"/>
          <a:stretch/>
        </p:blipFill>
        <p:spPr>
          <a:xfrm>
            <a:off x="685800" y="2438280"/>
            <a:ext cx="3695760" cy="3233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468360"/>
            <a:ext cx="77724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Ceramiczne płytki wzorcowe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- klasa 0                          – do sprawdzania płytek wzorc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- klasa 1                          – do sprawdzania wzorców kontrolnych, do ustawiania długościomierz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>
            <a:lum contrast="12000"/>
          </a:blip>
          <a:srcRect l="0" t="0" r="16490" b="0"/>
          <a:stretch/>
        </p:blipFill>
        <p:spPr>
          <a:xfrm>
            <a:off x="4572000" y="1828800"/>
            <a:ext cx="4329000" cy="428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044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recyzyjne wałeczki pomiar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kładnie szlifowa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twardość 60 – 62 H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e stali stopowej narzędziowej, hart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estaw składa się         z 273 szt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chropowatość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&lt; 0,1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μ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m 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rcRect l="0" t="2072" r="34639" b="43625"/>
          <a:stretch/>
        </p:blipFill>
        <p:spPr>
          <a:xfrm>
            <a:off x="4572000" y="2362320"/>
            <a:ext cx="4462560" cy="2936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73040"/>
            <a:ext cx="7772400" cy="14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łytki interferencyjne płasko-równoległ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419720" y="24382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sprawdzania odchyłek równoległości i płaskości powierzchni pomiarowych mikrometró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łaskość: 0,1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μ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równoległość: 0,2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μ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średnica: 3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rcRect l="0" t="1974" r="52777" b="31182"/>
          <a:stretch/>
        </p:blipFill>
        <p:spPr>
          <a:xfrm>
            <a:off x="457200" y="2666880"/>
            <a:ext cx="3610080" cy="3414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ierścień wzorc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4496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konanie stalowe        i ceramicz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wierzchnie docie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miary rzeczywiste średnic cechowane są na pierścieniach wzorcow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rcRect l="1121" t="0" r="68144" b="54184"/>
          <a:stretch/>
        </p:blipFill>
        <p:spPr>
          <a:xfrm>
            <a:off x="5181480" y="2286000"/>
            <a:ext cx="3354480" cy="3346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50000">
              <a:srgbClr val="ffffff"/>
            </a:gs>
            <a:gs pos="100000">
              <a:srgbClr val="7f7f7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Liniały krawędziow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1640" y="24382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kąt ostrza liniału 60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krawędź pomiarowa szlifowana, hartowana                    i docier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 nakładkami izolacyjny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rcRect l="0" t="0" r="37469" b="31182"/>
          <a:stretch/>
        </p:blipFill>
        <p:spPr>
          <a:xfrm>
            <a:off x="152280" y="2362320"/>
            <a:ext cx="4098960" cy="339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Kątownik pomiarowy 90</a:t>
            </a:r>
            <a:r>
              <a:rPr b="1" i="1" lang="en-GB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°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556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konany z czarnego, twardego kamienia naturalnego, dwustron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ługość ramion: 300x2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szerokość: 5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rostopadłość: 0,002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masa: 6,5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rcRect l="0" t="6669" r="66766" b="4802"/>
          <a:stretch/>
        </p:blipFill>
        <p:spPr>
          <a:xfrm>
            <a:off x="6095880" y="1905120"/>
            <a:ext cx="2173320" cy="429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ff0000"/>
                </a:solidFill>
                <a:latin typeface="Arial"/>
              </a:rPr>
              <a:t>Podstawowe rodzaje noniusz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1447920"/>
            <a:ext cx="8458200" cy="10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Noniusz 0,1 mm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o długości podziałki 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863" t="35711" r="863" b="21716"/>
          <a:stretch/>
        </p:blipFill>
        <p:spPr>
          <a:xfrm>
            <a:off x="228600" y="3276720"/>
            <a:ext cx="8623440" cy="190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3276720" y="3044880"/>
            <a:ext cx="1440" cy="11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429000" y="3044880"/>
            <a:ext cx="1440" cy="11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289548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5029200"/>
            <a:ext cx="1440" cy="685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4495680"/>
            <a:ext cx="144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5638680"/>
            <a:ext cx="1371600" cy="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43000" y="5410080"/>
            <a:ext cx="6094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9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312408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425760" y="3124080"/>
            <a:ext cx="7682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3273120" y="3124080"/>
            <a:ext cx="15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Kątownik stalowy 90</a:t>
            </a:r>
            <a:r>
              <a:rPr b="1" i="1" lang="en-GB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005360" y="2500200"/>
            <a:ext cx="4952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klasa dokładności 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krawędzie                             i powierzchnie pomiarowe hartowane i docie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ługość ram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100x7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rcRect l="0" t="14957" r="53964" b="0"/>
          <a:stretch/>
        </p:blipFill>
        <p:spPr>
          <a:xfrm>
            <a:off x="533520" y="1676520"/>
            <a:ext cx="339696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Wzorce równoległoś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84872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możliwość bardzo dokładnego ustawienia w dowolnym wymiarze w ramach zakresu przestawi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akres przestawiania: 33,3 – 44,4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ługość: 11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rcRect l="0" t="0" r="31863" b="66736"/>
          <a:stretch/>
        </p:blipFill>
        <p:spPr>
          <a:xfrm>
            <a:off x="1965240" y="1981080"/>
            <a:ext cx="5211720" cy="1703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Szczelinomier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akres pomiarow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0,05 – 1,0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zestaw składa się        z 11, 14 lub 20 pły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konane                   ze stali nierdzewnej, hart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rcRect l="3073" t="1644" r="3951" b="10492"/>
          <a:stretch/>
        </p:blipFill>
        <p:spPr>
          <a:xfrm>
            <a:off x="4572000" y="2057400"/>
            <a:ext cx="4343400" cy="3833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ozio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ustawiania                    i sprawdzania płaskich    i cylindrycznych powierzchni precyzyjnych maszy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łaskie i pryzmatyczne powierzch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artość działki elementarnej: 0,1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rcRect l="0" t="0" r="68144" b="64664"/>
          <a:stretch/>
        </p:blipFill>
        <p:spPr>
          <a:xfrm>
            <a:off x="5105520" y="1447920"/>
            <a:ext cx="3757320" cy="2792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oziomica ramo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267080" y="1528560"/>
            <a:ext cx="4648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wymiary:           200x200x44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o ustawiania poziomych i pionowych powierzchni maszyn precyzyj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odziałka wzdłużna        i poprzecz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dwie powierzchnie  pryzmatyczne                  i dwie płaskie, precyzyjnie szlifow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rcRect l="0" t="0" r="75142" b="54184"/>
          <a:stretch/>
        </p:blipFill>
        <p:spPr>
          <a:xfrm>
            <a:off x="762120" y="2133720"/>
            <a:ext cx="3011400" cy="3709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1120" y="863640"/>
            <a:ext cx="77724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Poziomica cyfro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30360" y="4016520"/>
            <a:ext cx="77724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urządzenie do pomiaru płaskości, prostopadłości i odchylenia kąt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precyzyjne powierzchni przyłożenia           w aluminiowej obudow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1005840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masa: 350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>
            <a:lum contrast="6000"/>
          </a:blip>
          <a:srcRect l="0" t="0" r="57004" b="77196"/>
          <a:stretch/>
        </p:blipFill>
        <p:spPr>
          <a:xfrm>
            <a:off x="2108160" y="1981080"/>
            <a:ext cx="492768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ts val="3050"/>
              </a:lnSpc>
              <a:buClr>
                <a:srgbClr val="ff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Noniusz 0,01 mm,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o długości podziałki 19 mm</a:t>
            </a:r>
            <a:r>
              <a:rPr b="1" i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rcRect l="2380" t="31960" r="650" b="30454"/>
          <a:stretch/>
        </p:blipFill>
        <p:spPr>
          <a:xfrm>
            <a:off x="304920" y="2971800"/>
            <a:ext cx="8534160" cy="1905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 flipV="1">
            <a:off x="3352680" y="2968200"/>
            <a:ext cx="1800" cy="145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505320" y="2968560"/>
            <a:ext cx="1440" cy="13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04812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3048120"/>
            <a:ext cx="5331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02080" y="3048120"/>
            <a:ext cx="7682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819520"/>
            <a:ext cx="685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838080" y="4416480"/>
            <a:ext cx="1800" cy="1149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4419720"/>
            <a:ext cx="180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5486400"/>
            <a:ext cx="274320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447920" y="5257800"/>
            <a:ext cx="1523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19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Noniusz 0,05 mm o module M = 1 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i długości podziałki 1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rcRect l="1306" t="34972" r="435" b="18640"/>
          <a:stretch/>
        </p:blipFill>
        <p:spPr>
          <a:xfrm>
            <a:off x="304920" y="3048120"/>
            <a:ext cx="8610480" cy="2350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3352680" y="2968560"/>
            <a:ext cx="1800" cy="13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505320" y="2968560"/>
            <a:ext cx="1440" cy="13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04812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048120"/>
            <a:ext cx="457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502080" y="3048120"/>
            <a:ext cx="7682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2819520"/>
            <a:ext cx="685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5410080"/>
            <a:ext cx="1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5410080"/>
            <a:ext cx="1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5715000"/>
            <a:ext cx="28195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5486400"/>
            <a:ext cx="8380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19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- Noniusz 0,05 mm o module M = 2 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i długości podziałki 3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513" t="32228" r="1513" b="21849"/>
          <a:stretch/>
        </p:blipFill>
        <p:spPr>
          <a:xfrm>
            <a:off x="380880" y="3009960"/>
            <a:ext cx="8534520" cy="2362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3429000" y="2968560"/>
            <a:ext cx="1440" cy="13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581280" y="2968560"/>
            <a:ext cx="1800" cy="130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29000" y="3048120"/>
            <a:ext cx="152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3048120"/>
            <a:ext cx="5335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578400" y="3048120"/>
            <a:ext cx="7682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2819520"/>
            <a:ext cx="762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1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5410080"/>
            <a:ext cx="1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5410080"/>
            <a:ext cx="144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5715000"/>
            <a:ext cx="579132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52760" y="5486400"/>
            <a:ext cx="2514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0000"/>
                </a:solidFill>
                <a:latin typeface="Arial"/>
              </a:rPr>
              <a:t>39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7e5f"/>
            </a:gs>
            <a:gs pos="100000">
              <a:srgbClr val="ff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400" spc="-1" strike="noStrike">
                <a:solidFill>
                  <a:srgbClr val="ff0000"/>
                </a:solidFill>
                <a:latin typeface="Arial"/>
              </a:rPr>
              <a:t>Suwmiarka noniuszo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777240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3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zakres pomiarowy 0 - 150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wartość noniusza 0,05 mm na 39 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-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śruba ustalająca u góry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5229360" cy="1628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276720" y="302904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