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23.wmf" ContentType="image/x-wmf"/>
  <Override PartName="/ppt/media/image7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3.wmf" ContentType="image/x-wmf"/>
  <Override PartName="/ppt/media/image2.jpeg" ContentType="image/jpeg"/>
  <Override PartName="/ppt/media/image25.jpeg" ContentType="image/jpeg"/>
  <Override PartName="/ppt/media/PRZYPOMN.WAV" ContentType="audio/x-wav"/>
  <Override PartName="/ppt/media/image24.wmf" ContentType="image/x-wmf"/>
  <Override PartName="/ppt/media/image20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C4E-9CC9-4E53-B5C2-F4178D73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79D-D137-4B78-95C2-4A683CD5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A1E-1D53-4571-8F76-73731F4D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F454-0504-4460-8F46-C36FDF69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A7D-2E49-4CAB-B8E2-89ADC271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DE7-8E4A-4248-91F5-092F208B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FFB0-1BC2-4D91-A4C5-9F06E662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648-39CB-4D65-AA18-D263B887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53C-13EE-4D99-B0A2-D9CC3432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F03-84E1-44B5-B0E8-9EDD3430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2F2-4628-48A5-A990-C048C20A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650-21AF-44B7-A598-286290E7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6162-C6D1-4C93-AD18-E08642A63536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ZYPOMN.WAV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audio" Target="../media/PRZYPOMN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PRZYPOMN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PRZYPOMN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PRZYPOMN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audio" Target="../media/PRZYPOMN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PRZYPOMN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PRZYPOMN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audio" Target="../media/PRZYPOMN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wmf"/><Relationship Id="rId3" Type="http://schemas.openxmlformats.org/officeDocument/2006/relationships/audio" Target="../media/PRZYPOMN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PRZYPOMN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RZYPOMN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audio" Target="../media/PRZYPOMN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audio" Target="../media/PRZYPOMN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audio" Target="../media/PRZYPOMN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PRZYPOMN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PRZYPOMN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PRZYPOMN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audio" Target="../media/PRZYPOMN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Garamond"/>
              </a:rPr>
              <a:t>„</a:t>
            </a:r>
            <a:r>
              <a:rPr b="0" lang="en-US" sz="4800" spc="-1" strike="noStrike">
                <a:solidFill>
                  <a:srgbClr val="ff0000"/>
                </a:solidFill>
                <a:latin typeface="Garamond"/>
              </a:rPr>
              <a:t>JAK ZAŁOŻYĆ WŁASNĄ FIRMĘ?” - prezentacja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Kiedy po rozpoznaniu w sobie cech przedsiębiorcy podejmujemy decyzję o założeniu własnej firmy, musimy wiedzieć, że czeka nas niełatwe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le dające dużo satysfakcji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rzedsięwzięci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61760" y="5486040"/>
            <a:ext cx="6476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UWAGA!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ABY PRZEJŚĆ DO NASTĘPNEGO SLAJDU NALEŻY KLIKNĄĆ MYSZKĄ ODPOWIEDNI PRZYCISK AKCJI („DO PRZODU” LUB„DO TYŁU”), EWENTUALNIE POCZEKAĆ NA  AUTOMATYCZNĄ ZMIANĘ SLAJDU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2" name="PRZYPOM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KROK SIÓDM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Garamond"/>
              </a:rPr>
              <a:t>Należy zadeklarować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Garamond"/>
              </a:rPr>
              <a:t>w Urzędzie Skarbowym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Garamond"/>
              </a:rPr>
              <a:t>            </a:t>
            </a:r>
            <a:r>
              <a:rPr b="1" lang="pl-PL" sz="2400" spc="-1" strike="noStrike">
                <a:solidFill>
                  <a:srgbClr val="ff0000"/>
                </a:solidFill>
                <a:latin typeface="Garamond"/>
              </a:rPr>
              <a:t>czy będziem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Garamond"/>
              </a:rPr>
              <a:t>  </a:t>
            </a:r>
            <a:r>
              <a:rPr b="1" lang="pl-PL" sz="2400" spc="-1" strike="noStrike">
                <a:solidFill>
                  <a:srgbClr val="ff0000"/>
                </a:solidFill>
                <a:latin typeface="Garamond"/>
              </a:rPr>
              <a:t>płatnikiem podatku VAT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809880" cy="4152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523880" y="2362320"/>
            <a:ext cx="175284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82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VA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3" name="PRZYPOMN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100000">
              <a:srgbClr val="cdffc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KROK ÓSM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95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...należy zadeklarować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w Urzędzie Skarbowym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formę płacenia podatku dochodowego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w formie karty podatkowej,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ryczałtu ewidencjonowanego,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Comic Sans MS"/>
              </a:rPr>
              <a:t>na zasadach ogólnych (księgi rozrachunkowe</a:t>
            </a: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681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43000" y="1676520"/>
            <a:ext cx="3505320" cy="152388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1337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Podatek,</a:t>
            </a: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czyli..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2" name="PRZYPOMN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KROK DZIEWIĄT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LEŻY ZADEKLAROWAĆ W URZĘDZIE SKARBOWYM TERMIN ZAKUPU, LICZBĘ I MIEJSCE UŻYWANIA KAS FISKALNYC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3809880" cy="3465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00400" y="1600200"/>
            <a:ext cx="3352680" cy="1143000"/>
          </a:xfrm>
          <a:prstGeom prst="cloudCallout">
            <a:avLst>
              <a:gd name="adj1" fmla="val 41759"/>
              <a:gd name="adj2" fmla="val 56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18288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ASA FISKALNA..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2" name="PRZYPOM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50000">
              <a:srgbClr val="ccccff"/>
            </a:gs>
            <a:gs pos="100000">
              <a:srgbClr val="5e5e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800600" y="182880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4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75"/>
                    </a:gs>
                  </a:gsLst>
                  <a:lin ang="5400000"/>
                </a:gradFill>
                <a:latin typeface="Arial Black"/>
              </a:rPr>
              <a:t>Z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47960" y="320004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en-US" sz="3000" spc="-1" strike="noStrike">
                <a:solidFill>
                  <a:srgbClr val="0000ff"/>
                </a:solidFill>
                <a:latin typeface="Garamond"/>
              </a:rPr>
              <a:t>Należy dokonać zgłoszenia siebie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7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Garamond"/>
              </a:rPr>
              <a:t>i innych pracowników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7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Garamond"/>
              </a:rPr>
              <a:t>do ubezpieczeń społecznych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70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Garamond"/>
              </a:rPr>
              <a:t>i ubezpieczenia zdrowotnego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KROK DZIESIĄT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2" name="PRZYPOMN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5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33520" y="1523880"/>
            <a:ext cx="70866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PIP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KROK JEDENAST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666880"/>
            <a:ext cx="2666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ależy złożyć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Państwowym Inspektoracie Pracy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zgłoszenie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 działalnośc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 planowanej liczbie pracowników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raz  procedurach dotyczących  BHP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724280" y="327672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4" name="PRZYPOM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KROK DWUNAST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2819160"/>
            <a:ext cx="44956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ff"/>
                </a:solidFill>
                <a:latin typeface="Tahoma"/>
              </a:rPr>
              <a:t>      </a:t>
            </a:r>
            <a:r>
              <a:rPr b="0" i="1" lang="en-US" sz="2000" spc="-1" strike="noStrike">
                <a:solidFill>
                  <a:srgbClr val="ff0066"/>
                </a:solidFill>
                <a:latin typeface="Tahoma"/>
              </a:rPr>
              <a:t>NALEŻY ZŁOŻYĆ WNIOSEK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Tahoma"/>
              </a:rPr>
              <a:t>       </a:t>
            </a:r>
            <a:r>
              <a:rPr b="0" i="1" lang="en-US" sz="2000" spc="-1" strike="noStrike">
                <a:solidFill>
                  <a:srgbClr val="ff0066"/>
                </a:solidFill>
                <a:latin typeface="Tahoma"/>
              </a:rPr>
              <a:t>W STACJI  SANEPID-u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Tahoma"/>
              </a:rPr>
              <a:t>O ODBIÓR LOKALU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0066"/>
                </a:solidFill>
                <a:latin typeface="Tahoma"/>
              </a:rPr>
              <a:t>POD WZGLĘDEM SANITARNYM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*)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DOTYCZY NIEKTÓRYCH FORM DZIAŁALNOŚCI NP.: SPOŻYWCZ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3809880" cy="3351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1066680" y="2209680"/>
            <a:ext cx="350532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ANEPID *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2" name="PRZYPOMN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467546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KROK TRZYNAST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4114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ależy zaplanować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aką działalność gospodarczą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która będzie generowała zyski, aby ...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97360" y="1981080"/>
            <a:ext cx="351144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838080" y="1600200"/>
            <a:ext cx="35816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ZYSKI</a:t>
            </a:r>
            <a:endParaRPr b="1" i="1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2" name="PRZYPOMN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KROK CZTERNAST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4876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ts val="58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3333cc"/>
                </a:solidFill>
                <a:latin typeface="Lucida Console"/>
              </a:rPr>
              <a:t>K R E D Y T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lnSpc>
                <a:spcPts val="58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lnSpc>
                <a:spcPts val="58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Garamond"/>
              </a:rPr>
              <a:t>... MÓC  STARAĆ SIĘ O KREDY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lnSpc>
                <a:spcPts val="58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lnSpc>
                <a:spcPts val="58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ts val="58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3" name="PRZYPOMN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OWODZENIA PRZYSZŁY PRZEDSIĘBIORCO!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505320" y="2743200"/>
            <a:ext cx="4190760" cy="29224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3" name="PRZYPOMN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PREZENTACJĘ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OPRACOWANO  WG  WYKŁADÓW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Garamond"/>
              </a:rPr>
              <a:t>dr inż.  MARKA WIRKUS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acownika Politechniki Gdańskie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1a"/>
                </a:solidFill>
                <a:latin typeface="Garamond"/>
              </a:rPr>
              <a:t>mgr Ewelina Oksentowicz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2" name="PRZYPOM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„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zedsiębiorcy nie rodzą się, tylko się nimi stają, ... a powszechnie wiadomo, że kto nie ryzykuje ten nie ma.”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elem tej prezentacji jest przedstawienie ucznio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a lekcjach „podstaw przedsiębiorczości”,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posobu zakładania własnej firmy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rganizowanie i prowadzenie przedsiębiorstwa wiąże się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z zagadnieniami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Garamond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formalno - prawnym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ustawa o działalności gospodarczej, kodeks spółek handlowych, kodeks cywilny)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Garamond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rynkowym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Garamond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technicznym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Garamond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finansowymi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funkcjonowania przedsiębiorstw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2" name="PRZYPOM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8d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Jak założyć własną firmę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aramond"/>
              </a:rPr>
              <a:t>Prezentacja , która pomoże zilustrować kolejne kroki  przy zakładaniu własnej firmy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06960" y="1981080"/>
            <a:ext cx="289080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2106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3" name="PRZYPOM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KROK PIERWSZ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ALEŻY OPRACOWAĆ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IZNES - PLAN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”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zyli plan budowy firmy, a w nim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oncepcja zdobycia miejsca        na rynku,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zakładane cele gospodarcze i finansowe,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rategia działania,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nwestowanie w rozwój,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środki osiągnięcia założonych celów,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ziałania marketingowe,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cena zagrożeń i barier oraz szans i możliwości naszego planu,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ustalenie progu rentowności,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yliczenie wskaźników ekonomiczno-finansowyc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2570040"/>
            <a:ext cx="3809880" cy="2935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1347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4" name="PRZYPOM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KROK DRUG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Garamond"/>
              </a:rPr>
              <a:t>REJESTRACJA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Garamond"/>
              </a:rPr>
              <a:t>Należy zarejestrować działalność gospodarczą w:</a:t>
            </a:r>
            <a:r>
              <a:rPr b="0" lang="pl-P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Marlett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aramond"/>
              </a:rPr>
              <a:t>Urzędzie Miasta lub Gminy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aramond"/>
              </a:rPr>
              <a:t>Krajowym Rejestrze Sądowy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4190760" cy="441648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3" name="PRZYPOM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KROK TRZE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ts val="33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Garamond"/>
              </a:rPr>
              <a:t>UZYSKAĆ KONCESJĘ,czyli..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Garamond"/>
              </a:rPr>
              <a:t>należy złożyć wniosek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Garamond"/>
              </a:rPr>
              <a:t>do Wojewódzkiego Urzędu Statystycznego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Garamond"/>
              </a:rPr>
              <a:t>o wydanie numeru</a:t>
            </a:r>
            <a:r>
              <a:rPr b="1" lang="pl-PL" sz="2800" spc="-1" strike="noStrike">
                <a:solidFill>
                  <a:srgbClr val="000000"/>
                </a:solidFill>
                <a:latin typeface="Garamond"/>
              </a:rPr>
              <a:t> REG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3809880" cy="418788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2" name="PRZYPOM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e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KROK CZWART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aramond"/>
              </a:rPr>
              <a:t>PIECZĄTKA, czyli..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NALEŻY WYROBIĆ PIECZĄTKĘ ZAWIERAJĄCĄ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ełną nazwę i siedzibę firmy oraz numer REG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2301840"/>
            <a:ext cx="3809880" cy="347364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2" name="PRZYPOM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fcd4"/>
            </a:gs>
            <a:gs pos="100000">
              <a:srgbClr val="86c7f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KROK PIĄT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Lucida Console"/>
              </a:rPr>
              <a:t>KONTO, </a:t>
            </a:r>
            <a:r>
              <a:rPr b="1" i="1" lang="en-US" sz="2000" spc="-1" strike="noStrike">
                <a:solidFill>
                  <a:srgbClr val="000000"/>
                </a:solidFill>
                <a:latin typeface="Lucida Console"/>
              </a:rPr>
              <a:t>czyli..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...należy Złożyć wniosek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o założenie rachunku bankoweg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8320" y="1995480"/>
            <a:ext cx="3809880" cy="408456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2" name="PRZYPOM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KROK SZÓSTY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3580920"/>
            <a:ext cx="4190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W URZĘDZIE SKARBOWYM NALEŻY ZŁOŻYĆ WNIOSEK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O NADANIE NUMERU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Garamond"/>
              </a:rPr>
              <a:t>N  I  P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48320" y="2257560"/>
            <a:ext cx="3809880" cy="3560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990720" y="2209680"/>
            <a:ext cx="1522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209680"/>
            <a:ext cx="3808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600200" y="213336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286000" y="2133720"/>
            <a:ext cx="763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2133720"/>
            <a:ext cx="1522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2133720"/>
            <a:ext cx="990720" cy="304560"/>
          </a:xfrm>
          <a:prstGeom prst="flowChartDelay">
            <a:avLst/>
          </a:prstGeom>
          <a:solidFill>
            <a:srgbClr val="0b1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81532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30000">
    <p:split dir="in" orient="vert"/>
    <p:sndAc>
      <p:stSnd>
        <p:snd r:embed="rId3" name="PRZYPOM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20:59:17Z</dcterms:created>
  <dc:creator>Ewelina Oksentowicz</dc:creator>
  <dc:description/>
  <dc:language>en-US</dc:language>
  <cp:lastModifiedBy>Ewelina</cp:lastModifiedBy>
  <dcterms:modified xsi:type="dcterms:W3CDTF">2004-02-29T21:57:04Z</dcterms:modified>
  <cp:revision>15</cp:revision>
  <dc:subject/>
  <dc:title>„JAK ZAŁOŻYĆ WŁASNĄ FIRMĘ?”</dc:title>
</cp:coreProperties>
</file>